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C1D-6C59-4C4F-A8DA-B13327DC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3D4-6056-42E6-89A8-0F828015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59B-F61E-44ED-8AD4-8313914E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1F8-1D27-4591-B5CE-8C25852E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8722-1B3A-4A07-9CF3-21557277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EA38-17EC-4590-910F-E8E0931B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A537-7170-4A5E-82A6-B88A9960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DC58-373A-4988-A1A3-66516430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8D1B-457A-4F5A-8CFF-F7E84864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C64F-30A4-4D6F-9B62-DACDBA98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78F4-483B-44F3-BE31-04BA561D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676-EB67-4106-87EB-0FFB5497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C03E-22EB-4EB0-AC42-BD7EF571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0A91-2C3C-4B1B-B428-DF081129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0445-D9D1-49B4-81C5-A5ACAF54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34CA-BC72-4CA8-9CF6-8E0FFC60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30DE-C9E0-480B-9E79-AD20A4EC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344-2F55-40FE-9A41-DE0A59B9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EE9-22EE-41B9-8150-A0DECD86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C69-D4B9-434D-8F3A-3C34CA7D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71C-6CE9-46A8-A3DB-569B70D2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F89-ABBA-4FFA-A926-4EEEE723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7C1-C4C7-4A24-A991-94337B37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B0C-DDA9-46CF-9F44-B6B6C189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B1D8-9458-43E3-A4DD-D55A94D38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5186-9A79-49E0-8339-602818197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Warm – up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n – 2     when n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+ 9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914400" y="365760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82320" y="3762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Function Table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302760"/>
            <a:ext cx="8534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:  Students will identify and apply the order of operations when solving expressions with ex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IT TICKET (WARM-U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x 32 + 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m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(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÷ 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11920" y="2133720"/>
            <a:ext cx="1455840" cy="277560"/>
          </a:xfrm>
          <a:custGeom>
            <a:avLst/>
            <a:gdLst/>
            <a:ahLst/>
            <a:rect l="l" t="t" r="r" b="b"/>
            <a:pathLst>
              <a:path w="4044" h="770">
                <a:moveTo>
                  <a:pt x="16768" y="6102"/>
                </a:moveTo>
                <a:cubicBezTo>
                  <a:pt x="16697" y="6220"/>
                  <a:pt x="16827" y="6036"/>
                  <a:pt x="16867" y="6003"/>
                </a:cubicBezTo>
                <a:cubicBezTo>
                  <a:pt x="17060" y="6125"/>
                  <a:pt x="16989" y="6382"/>
                  <a:pt x="16793" y="6548"/>
                </a:cubicBezTo>
                <a:cubicBezTo>
                  <a:pt x="16638" y="6680"/>
                  <a:pt x="16523" y="6689"/>
                  <a:pt x="16421" y="6598"/>
                </a:cubicBezTo>
                <a:cubicBezTo>
                  <a:pt x="16517" y="6435"/>
                  <a:pt x="16656" y="6389"/>
                  <a:pt x="16842" y="6499"/>
                </a:cubicBezTo>
                <a:cubicBezTo>
                  <a:pt x="16913" y="6541"/>
                  <a:pt x="16973" y="6629"/>
                  <a:pt x="17016" y="6697"/>
                </a:cubicBezTo>
              </a:path>
              <a:path w="4044" h="770">
                <a:moveTo>
                  <a:pt x="17338" y="6201"/>
                </a:moveTo>
                <a:cubicBezTo>
                  <a:pt x="17378" y="6339"/>
                  <a:pt x="17451" y="6480"/>
                  <a:pt x="17487" y="6623"/>
                </a:cubicBezTo>
                <a:cubicBezTo>
                  <a:pt x="17502" y="6682"/>
                  <a:pt x="17463" y="6681"/>
                  <a:pt x="17512" y="6697"/>
                </a:cubicBezTo>
              </a:path>
              <a:path w="4044" h="770">
                <a:moveTo>
                  <a:pt x="17562" y="6300"/>
                </a:moveTo>
                <a:cubicBezTo>
                  <a:pt x="17489" y="6441"/>
                  <a:pt x="17316" y="6765"/>
                  <a:pt x="17388" y="6623"/>
                </a:cubicBezTo>
              </a:path>
              <a:path w="4044" h="770">
                <a:moveTo>
                  <a:pt x="18008" y="6176"/>
                </a:moveTo>
                <a:cubicBezTo>
                  <a:pt x="18032" y="6152"/>
                  <a:pt x="18296" y="5972"/>
                  <a:pt x="18281" y="6127"/>
                </a:cubicBezTo>
                <a:cubicBezTo>
                  <a:pt x="18230" y="6253"/>
                  <a:pt x="18212" y="6296"/>
                  <a:pt x="18132" y="6350"/>
                </a:cubicBezTo>
                <a:cubicBezTo>
                  <a:pt x="18124" y="6358"/>
                  <a:pt x="18115" y="6367"/>
                  <a:pt x="18107" y="6375"/>
                </a:cubicBezTo>
                <a:cubicBezTo>
                  <a:pt x="18196" y="6364"/>
                  <a:pt x="18436" y="6311"/>
                  <a:pt x="18331" y="6499"/>
                </a:cubicBezTo>
                <a:cubicBezTo>
                  <a:pt x="18223" y="6691"/>
                  <a:pt x="18011" y="6669"/>
                  <a:pt x="17884" y="6573"/>
                </a:cubicBezTo>
              </a:path>
              <a:path w="4044" h="770">
                <a:moveTo>
                  <a:pt x="18579" y="6077"/>
                </a:moveTo>
                <a:cubicBezTo>
                  <a:pt x="18614" y="5971"/>
                  <a:pt x="18814" y="6167"/>
                  <a:pt x="18827" y="6201"/>
                </a:cubicBezTo>
                <a:cubicBezTo>
                  <a:pt x="18933" y="6485"/>
                  <a:pt x="18645" y="6547"/>
                  <a:pt x="18455" y="6573"/>
                </a:cubicBezTo>
                <a:cubicBezTo>
                  <a:pt x="18489" y="6427"/>
                  <a:pt x="18572" y="6311"/>
                  <a:pt x="18752" y="6400"/>
                </a:cubicBezTo>
                <a:cubicBezTo>
                  <a:pt x="18798" y="6423"/>
                  <a:pt x="18883" y="6510"/>
                  <a:pt x="18926" y="6548"/>
                </a:cubicBezTo>
              </a:path>
              <a:path w="4044" h="770">
                <a:moveTo>
                  <a:pt x="19348" y="6102"/>
                </a:moveTo>
                <a:cubicBezTo>
                  <a:pt x="19365" y="6227"/>
                  <a:pt x="19372" y="6346"/>
                  <a:pt x="19372" y="6474"/>
                </a:cubicBezTo>
                <a:cubicBezTo>
                  <a:pt x="19372" y="6515"/>
                  <a:pt x="19372" y="6523"/>
                  <a:pt x="19372" y="6548"/>
                </a:cubicBezTo>
              </a:path>
              <a:path w="4044" h="770">
                <a:moveTo>
                  <a:pt x="19224" y="6325"/>
                </a:moveTo>
                <a:cubicBezTo>
                  <a:pt x="19354" y="6325"/>
                  <a:pt x="19534" y="6293"/>
                  <a:pt x="19645" y="6350"/>
                </a:cubicBezTo>
              </a:path>
              <a:path w="4044" h="770">
                <a:moveTo>
                  <a:pt x="20389" y="6003"/>
                </a:moveTo>
                <a:cubicBezTo>
                  <a:pt x="20254" y="5948"/>
                  <a:pt x="20181" y="5963"/>
                  <a:pt x="20042" y="6003"/>
                </a:cubicBezTo>
                <a:cubicBezTo>
                  <a:pt x="20083" y="6207"/>
                  <a:pt x="20268" y="6231"/>
                  <a:pt x="20365" y="6400"/>
                </a:cubicBezTo>
                <a:cubicBezTo>
                  <a:pt x="20373" y="6441"/>
                  <a:pt x="20381" y="6483"/>
                  <a:pt x="20389" y="6524"/>
                </a:cubicBezTo>
                <a:cubicBezTo>
                  <a:pt x="20263" y="6612"/>
                  <a:pt x="20084" y="6620"/>
                  <a:pt x="20092" y="6400"/>
                </a:cubicBezTo>
                <a:cubicBezTo>
                  <a:pt x="20100" y="6204"/>
                  <a:pt x="20338" y="6054"/>
                  <a:pt x="20464" y="5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0040" y="4249800"/>
            <a:ext cx="1179360" cy="36360"/>
          </a:xfrm>
          <a:custGeom>
            <a:avLst/>
            <a:gdLst/>
            <a:ahLst/>
            <a:rect l="l" t="t" r="r" b="b"/>
            <a:pathLst>
              <a:path w="3276" h="100">
                <a:moveTo>
                  <a:pt x="4638" y="11906"/>
                </a:moveTo>
                <a:lnTo>
                  <a:pt x="4638" y="11906"/>
                </a:lnTo>
              </a:path>
              <a:path w="3276" h="100">
                <a:moveTo>
                  <a:pt x="7144" y="11807"/>
                </a:moveTo>
                <a:lnTo>
                  <a:pt x="7144" y="11807"/>
                </a:lnTo>
              </a:path>
              <a:path w="3276" h="100">
                <a:moveTo>
                  <a:pt x="7913" y="11832"/>
                </a:moveTo>
                <a:cubicBezTo>
                  <a:pt x="7905" y="11832"/>
                  <a:pt x="7896" y="11832"/>
                  <a:pt x="7888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2840" y="4179960"/>
            <a:ext cx="446040" cy="293760"/>
          </a:xfrm>
          <a:custGeom>
            <a:avLst/>
            <a:gdLst/>
            <a:ahLst/>
            <a:rect l="l" t="t" r="r" b="b"/>
            <a:pathLst>
              <a:path w="1241" h="819">
                <a:moveTo>
                  <a:pt x="4192" y="11609"/>
                </a:moveTo>
                <a:cubicBezTo>
                  <a:pt x="4225" y="11691"/>
                  <a:pt x="4132" y="11802"/>
                  <a:pt x="4118" y="11906"/>
                </a:cubicBezTo>
                <a:cubicBezTo>
                  <a:pt x="4118" y="11984"/>
                  <a:pt x="4103" y="12001"/>
                  <a:pt x="4142" y="12030"/>
                </a:cubicBezTo>
                <a:cubicBezTo>
                  <a:pt x="4225" y="12025"/>
                  <a:pt x="4398" y="12035"/>
                  <a:pt x="4440" y="11931"/>
                </a:cubicBezTo>
                <a:cubicBezTo>
                  <a:pt x="4440" y="11890"/>
                  <a:pt x="4440" y="11882"/>
                  <a:pt x="4440" y="11857"/>
                </a:cubicBezTo>
                <a:cubicBezTo>
                  <a:pt x="4342" y="11869"/>
                  <a:pt x="4289" y="11911"/>
                  <a:pt x="4242" y="12005"/>
                </a:cubicBezTo>
                <a:cubicBezTo>
                  <a:pt x="4242" y="12038"/>
                  <a:pt x="4250" y="12046"/>
                  <a:pt x="4291" y="12030"/>
                </a:cubicBezTo>
              </a:path>
              <a:path w="1241" h="819">
                <a:moveTo>
                  <a:pt x="4936" y="11658"/>
                </a:moveTo>
                <a:cubicBezTo>
                  <a:pt x="4923" y="11736"/>
                  <a:pt x="4894" y="11808"/>
                  <a:pt x="4862" y="11881"/>
                </a:cubicBezTo>
                <a:cubicBezTo>
                  <a:pt x="4970" y="11930"/>
                  <a:pt x="5043" y="11947"/>
                  <a:pt x="5159" y="11906"/>
                </a:cubicBezTo>
                <a:cubicBezTo>
                  <a:pt x="5216" y="11886"/>
                  <a:pt x="5264" y="11839"/>
                  <a:pt x="5283" y="11782"/>
                </a:cubicBezTo>
                <a:cubicBezTo>
                  <a:pt x="5283" y="11774"/>
                  <a:pt x="5283" y="11765"/>
                  <a:pt x="5283" y="11757"/>
                </a:cubicBezTo>
                <a:cubicBezTo>
                  <a:pt x="5166" y="11757"/>
                  <a:pt x="5162" y="11754"/>
                  <a:pt x="5110" y="11857"/>
                </a:cubicBezTo>
                <a:cubicBezTo>
                  <a:pt x="5084" y="11909"/>
                  <a:pt x="5090" y="11941"/>
                  <a:pt x="5135" y="11956"/>
                </a:cubicBezTo>
              </a:path>
              <a:path w="1241" h="819">
                <a:moveTo>
                  <a:pt x="4564" y="12179"/>
                </a:moveTo>
                <a:cubicBezTo>
                  <a:pt x="4701" y="12115"/>
                  <a:pt x="4755" y="12084"/>
                  <a:pt x="4688" y="12229"/>
                </a:cubicBezTo>
                <a:cubicBezTo>
                  <a:pt x="4688" y="12254"/>
                  <a:pt x="4688" y="12262"/>
                  <a:pt x="4663" y="12254"/>
                </a:cubicBezTo>
                <a:cubicBezTo>
                  <a:pt x="4746" y="12254"/>
                  <a:pt x="4794" y="12258"/>
                  <a:pt x="4862" y="12303"/>
                </a:cubicBezTo>
                <a:cubicBezTo>
                  <a:pt x="4813" y="12346"/>
                  <a:pt x="4670" y="12487"/>
                  <a:pt x="4589" y="12427"/>
                </a:cubicBezTo>
                <a:cubicBezTo>
                  <a:pt x="4589" y="12411"/>
                  <a:pt x="4589" y="12394"/>
                  <a:pt x="4589" y="12378"/>
                </a:cubicBezTo>
              </a:path>
              <a:path w="1241" h="819">
                <a:moveTo>
                  <a:pt x="5110" y="12179"/>
                </a:moveTo>
                <a:cubicBezTo>
                  <a:pt x="5075" y="12283"/>
                  <a:pt x="5031" y="12314"/>
                  <a:pt x="5110" y="12378"/>
                </a:cubicBezTo>
                <a:cubicBezTo>
                  <a:pt x="5156" y="12415"/>
                  <a:pt x="5294" y="12413"/>
                  <a:pt x="5333" y="12353"/>
                </a:cubicBezTo>
                <a:cubicBezTo>
                  <a:pt x="5333" y="12308"/>
                  <a:pt x="5330" y="12295"/>
                  <a:pt x="5358" y="12278"/>
                </a:cubicBezTo>
                <a:cubicBezTo>
                  <a:pt x="5285" y="12243"/>
                  <a:pt x="5220" y="12255"/>
                  <a:pt x="5159" y="12328"/>
                </a:cubicBezTo>
                <a:cubicBezTo>
                  <a:pt x="5159" y="12353"/>
                  <a:pt x="5159" y="12361"/>
                  <a:pt x="5159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28920" y="4187880"/>
            <a:ext cx="911160" cy="277920"/>
          </a:xfrm>
          <a:custGeom>
            <a:avLst/>
            <a:gdLst/>
            <a:ahLst/>
            <a:rect l="l" t="t" r="r" b="b"/>
            <a:pathLst>
              <a:path w="2531" h="770">
                <a:moveTo>
                  <a:pt x="6747" y="11733"/>
                </a:moveTo>
                <a:cubicBezTo>
                  <a:pt x="6784" y="11710"/>
                  <a:pt x="6921" y="11627"/>
                  <a:pt x="6921" y="11757"/>
                </a:cubicBezTo>
                <a:cubicBezTo>
                  <a:pt x="6921" y="11807"/>
                  <a:pt x="6862" y="11825"/>
                  <a:pt x="6846" y="11857"/>
                </a:cubicBezTo>
                <a:cubicBezTo>
                  <a:pt x="6869" y="11857"/>
                  <a:pt x="7010" y="11843"/>
                  <a:pt x="6921" y="11931"/>
                </a:cubicBezTo>
                <a:cubicBezTo>
                  <a:pt x="6887" y="11965"/>
                  <a:pt x="6791" y="11994"/>
                  <a:pt x="6747" y="12005"/>
                </a:cubicBezTo>
              </a:path>
              <a:path w="2531" h="770">
                <a:moveTo>
                  <a:pt x="7367" y="11757"/>
                </a:moveTo>
                <a:cubicBezTo>
                  <a:pt x="7452" y="11748"/>
                  <a:pt x="7574" y="11672"/>
                  <a:pt x="7516" y="11807"/>
                </a:cubicBezTo>
                <a:cubicBezTo>
                  <a:pt x="7486" y="11837"/>
                  <a:pt x="7472" y="11848"/>
                  <a:pt x="7441" y="11857"/>
                </a:cubicBezTo>
                <a:cubicBezTo>
                  <a:pt x="7506" y="11857"/>
                  <a:pt x="7637" y="11839"/>
                  <a:pt x="7590" y="11956"/>
                </a:cubicBezTo>
                <a:cubicBezTo>
                  <a:pt x="7559" y="12033"/>
                  <a:pt x="7398" y="12024"/>
                  <a:pt x="7417" y="12005"/>
                </a:cubicBezTo>
                <a:cubicBezTo>
                  <a:pt x="7433" y="11997"/>
                  <a:pt x="7450" y="11989"/>
                  <a:pt x="7466" y="11981"/>
                </a:cubicBezTo>
              </a:path>
              <a:path w="2531" h="770">
                <a:moveTo>
                  <a:pt x="8111" y="11683"/>
                </a:moveTo>
                <a:cubicBezTo>
                  <a:pt x="8148" y="11671"/>
                  <a:pt x="8307" y="11597"/>
                  <a:pt x="8334" y="11658"/>
                </a:cubicBezTo>
                <a:cubicBezTo>
                  <a:pt x="8369" y="11736"/>
                  <a:pt x="8289" y="11832"/>
                  <a:pt x="8210" y="11832"/>
                </a:cubicBezTo>
                <a:cubicBezTo>
                  <a:pt x="8218" y="11824"/>
                  <a:pt x="8227" y="11815"/>
                  <a:pt x="8235" y="11807"/>
                </a:cubicBezTo>
                <a:cubicBezTo>
                  <a:pt x="8317" y="11807"/>
                  <a:pt x="8457" y="11760"/>
                  <a:pt x="8458" y="11881"/>
                </a:cubicBezTo>
                <a:cubicBezTo>
                  <a:pt x="8459" y="12003"/>
                  <a:pt x="8282" y="11981"/>
                  <a:pt x="8210" y="11981"/>
                </a:cubicBezTo>
              </a:path>
              <a:path w="2531" h="770">
                <a:moveTo>
                  <a:pt x="6970" y="12080"/>
                </a:moveTo>
                <a:cubicBezTo>
                  <a:pt x="7049" y="12106"/>
                  <a:pt x="6910" y="12159"/>
                  <a:pt x="7094" y="12154"/>
                </a:cubicBezTo>
                <a:cubicBezTo>
                  <a:pt x="7235" y="12150"/>
                  <a:pt x="7365" y="12218"/>
                  <a:pt x="7491" y="12154"/>
                </a:cubicBezTo>
                <a:cubicBezTo>
                  <a:pt x="7500" y="12150"/>
                  <a:pt x="7536" y="12006"/>
                  <a:pt x="7541" y="11981"/>
                </a:cubicBezTo>
              </a:path>
              <a:path w="2531" h="770">
                <a:moveTo>
                  <a:pt x="7169" y="12303"/>
                </a:moveTo>
                <a:cubicBezTo>
                  <a:pt x="7169" y="12235"/>
                  <a:pt x="7167" y="12175"/>
                  <a:pt x="7069" y="12179"/>
                </a:cubicBezTo>
                <a:cubicBezTo>
                  <a:pt x="6984" y="12182"/>
                  <a:pt x="6916" y="12333"/>
                  <a:pt x="7020" y="12328"/>
                </a:cubicBezTo>
                <a:cubicBezTo>
                  <a:pt x="7091" y="12304"/>
                  <a:pt x="7114" y="12297"/>
                  <a:pt x="7144" y="12254"/>
                </a:cubicBezTo>
                <a:cubicBezTo>
                  <a:pt x="7171" y="12272"/>
                  <a:pt x="7188" y="12327"/>
                  <a:pt x="7193" y="12378"/>
                </a:cubicBezTo>
                <a:cubicBezTo>
                  <a:pt x="7193" y="12386"/>
                  <a:pt x="7193" y="12394"/>
                  <a:pt x="7193" y="12402"/>
                </a:cubicBezTo>
              </a:path>
              <a:path w="2531" h="770">
                <a:moveTo>
                  <a:pt x="7516" y="12303"/>
                </a:moveTo>
                <a:cubicBezTo>
                  <a:pt x="7750" y="12275"/>
                  <a:pt x="7975" y="12254"/>
                  <a:pt x="8210" y="12254"/>
                </a:cubicBezTo>
                <a:cubicBezTo>
                  <a:pt x="8218" y="12254"/>
                  <a:pt x="8227" y="12254"/>
                  <a:pt x="8235" y="12254"/>
                </a:cubicBezTo>
                <a:cubicBezTo>
                  <a:pt x="8249" y="12158"/>
                  <a:pt x="8287" y="12072"/>
                  <a:pt x="8310" y="11981"/>
                </a:cubicBezTo>
              </a:path>
              <a:path w="2531" h="770">
                <a:moveTo>
                  <a:pt x="8706" y="12179"/>
                </a:moveTo>
                <a:cubicBezTo>
                  <a:pt x="8769" y="12158"/>
                  <a:pt x="8810" y="12139"/>
                  <a:pt x="8905" y="12154"/>
                </a:cubicBezTo>
                <a:cubicBezTo>
                  <a:pt x="8892" y="12312"/>
                  <a:pt x="8853" y="12368"/>
                  <a:pt x="8682" y="12328"/>
                </a:cubicBezTo>
                <a:cubicBezTo>
                  <a:pt x="8665" y="12320"/>
                  <a:pt x="8649" y="12311"/>
                  <a:pt x="8632" y="12303"/>
                </a:cubicBezTo>
                <a:cubicBezTo>
                  <a:pt x="8734" y="12303"/>
                  <a:pt x="8830" y="12310"/>
                  <a:pt x="8930" y="12278"/>
                </a:cubicBezTo>
                <a:cubicBezTo>
                  <a:pt x="8938" y="12270"/>
                  <a:pt x="8946" y="12262"/>
                  <a:pt x="8954" y="12254"/>
                </a:cubicBezTo>
              </a:path>
              <a:path w="2531" h="770">
                <a:moveTo>
                  <a:pt x="9004" y="12055"/>
                </a:moveTo>
                <a:cubicBezTo>
                  <a:pt x="9054" y="12040"/>
                  <a:pt x="9219" y="11954"/>
                  <a:pt x="9252" y="12030"/>
                </a:cubicBezTo>
                <a:cubicBezTo>
                  <a:pt x="9290" y="12117"/>
                  <a:pt x="9277" y="12211"/>
                  <a:pt x="9277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4321080"/>
            <a:ext cx="1357200" cy="1563840"/>
          </a:xfrm>
          <a:custGeom>
            <a:avLst/>
            <a:gdLst/>
            <a:ahLst/>
            <a:rect l="l" t="t" r="r" b="b"/>
            <a:pathLst>
              <a:path w="3772" h="4342">
                <a:moveTo>
                  <a:pt x="18777" y="12551"/>
                </a:moveTo>
                <a:cubicBezTo>
                  <a:pt x="18912" y="12544"/>
                  <a:pt x="19040" y="12526"/>
                  <a:pt x="19174" y="12502"/>
                </a:cubicBezTo>
              </a:path>
              <a:path w="3772" h="4342">
                <a:moveTo>
                  <a:pt x="19298" y="12303"/>
                </a:moveTo>
                <a:cubicBezTo>
                  <a:pt x="19390" y="12303"/>
                  <a:pt x="19417" y="12301"/>
                  <a:pt x="19472" y="12328"/>
                </a:cubicBezTo>
                <a:cubicBezTo>
                  <a:pt x="19471" y="12561"/>
                  <a:pt x="19372" y="12599"/>
                  <a:pt x="19199" y="12750"/>
                </a:cubicBezTo>
                <a:cubicBezTo>
                  <a:pt x="19359" y="12750"/>
                  <a:pt x="19468" y="12765"/>
                  <a:pt x="19596" y="12675"/>
                </a:cubicBezTo>
              </a:path>
              <a:path w="3772" h="4342">
                <a:moveTo>
                  <a:pt x="19596" y="12005"/>
                </a:moveTo>
                <a:cubicBezTo>
                  <a:pt x="19816" y="12248"/>
                  <a:pt x="19995" y="12560"/>
                  <a:pt x="19794" y="12898"/>
                </a:cubicBezTo>
                <a:cubicBezTo>
                  <a:pt x="19634" y="13036"/>
                  <a:pt x="19594" y="13083"/>
                  <a:pt x="19447" y="13072"/>
                </a:cubicBezTo>
              </a:path>
              <a:path w="3772" h="4342">
                <a:moveTo>
                  <a:pt x="18529" y="13022"/>
                </a:moveTo>
                <a:cubicBezTo>
                  <a:pt x="18580" y="13191"/>
                  <a:pt x="18669" y="13117"/>
                  <a:pt x="18852" y="13097"/>
                </a:cubicBezTo>
                <a:cubicBezTo>
                  <a:pt x="18879" y="13094"/>
                  <a:pt x="19215" y="13099"/>
                  <a:pt x="19224" y="13072"/>
                </a:cubicBezTo>
                <a:cubicBezTo>
                  <a:pt x="19250" y="12993"/>
                  <a:pt x="19311" y="12830"/>
                  <a:pt x="19199" y="12923"/>
                </a:cubicBezTo>
              </a:path>
              <a:path w="3772" h="4342">
                <a:moveTo>
                  <a:pt x="18455" y="13568"/>
                </a:moveTo>
                <a:cubicBezTo>
                  <a:pt x="18455" y="13707"/>
                  <a:pt x="18476" y="13868"/>
                  <a:pt x="18430" y="13990"/>
                </a:cubicBezTo>
              </a:path>
              <a:path w="3772" h="4342">
                <a:moveTo>
                  <a:pt x="18876" y="13593"/>
                </a:moveTo>
                <a:cubicBezTo>
                  <a:pt x="18786" y="13736"/>
                  <a:pt x="18750" y="13825"/>
                  <a:pt x="18728" y="13990"/>
                </a:cubicBezTo>
                <a:cubicBezTo>
                  <a:pt x="18871" y="14011"/>
                  <a:pt x="19144" y="13976"/>
                  <a:pt x="19050" y="13742"/>
                </a:cubicBezTo>
                <a:cubicBezTo>
                  <a:pt x="18950" y="13667"/>
                  <a:pt x="18917" y="13641"/>
                  <a:pt x="18827" y="13643"/>
                </a:cubicBezTo>
              </a:path>
              <a:path w="3772" h="4342">
                <a:moveTo>
                  <a:pt x="17190" y="13791"/>
                </a:moveTo>
                <a:cubicBezTo>
                  <a:pt x="17342" y="13791"/>
                  <a:pt x="17486" y="13781"/>
                  <a:pt x="17636" y="13767"/>
                </a:cubicBezTo>
                <a:cubicBezTo>
                  <a:pt x="17678" y="13767"/>
                  <a:pt x="17703" y="13767"/>
                  <a:pt x="17661" y="13767"/>
                </a:cubicBezTo>
              </a:path>
              <a:path w="3772" h="4342">
                <a:moveTo>
                  <a:pt x="17388" y="13543"/>
                </a:moveTo>
                <a:cubicBezTo>
                  <a:pt x="17388" y="13551"/>
                  <a:pt x="17388" y="13560"/>
                  <a:pt x="17388" y="13568"/>
                </a:cubicBezTo>
              </a:path>
              <a:path w="3772" h="4342">
                <a:moveTo>
                  <a:pt x="17413" y="14089"/>
                </a:moveTo>
                <a:cubicBezTo>
                  <a:pt x="17421" y="14089"/>
                  <a:pt x="17430" y="14089"/>
                  <a:pt x="17438" y="14089"/>
                </a:cubicBezTo>
              </a:path>
              <a:path w="3772" h="4342">
                <a:moveTo>
                  <a:pt x="17214" y="14536"/>
                </a:moveTo>
                <a:cubicBezTo>
                  <a:pt x="17235" y="14662"/>
                  <a:pt x="17239" y="14779"/>
                  <a:pt x="17239" y="14908"/>
                </a:cubicBezTo>
                <a:cubicBezTo>
                  <a:pt x="17239" y="14900"/>
                  <a:pt x="17239" y="14891"/>
                  <a:pt x="17239" y="14883"/>
                </a:cubicBezTo>
              </a:path>
              <a:path w="3772" h="4342">
                <a:moveTo>
                  <a:pt x="17636" y="14511"/>
                </a:moveTo>
                <a:cubicBezTo>
                  <a:pt x="17521" y="14549"/>
                  <a:pt x="17414" y="14689"/>
                  <a:pt x="17438" y="14833"/>
                </a:cubicBezTo>
                <a:cubicBezTo>
                  <a:pt x="17454" y="14850"/>
                  <a:pt x="17471" y="14866"/>
                  <a:pt x="17487" y="14883"/>
                </a:cubicBezTo>
                <a:cubicBezTo>
                  <a:pt x="17662" y="14910"/>
                  <a:pt x="17726" y="14870"/>
                  <a:pt x="17760" y="14684"/>
                </a:cubicBezTo>
                <a:cubicBezTo>
                  <a:pt x="17788" y="14529"/>
                  <a:pt x="17566" y="14535"/>
                  <a:pt x="17462" y="14511"/>
                </a:cubicBezTo>
              </a:path>
              <a:path w="3772" h="4342">
                <a:moveTo>
                  <a:pt x="16098" y="15131"/>
                </a:moveTo>
                <a:cubicBezTo>
                  <a:pt x="16098" y="15189"/>
                  <a:pt x="16098" y="15246"/>
                  <a:pt x="16098" y="15304"/>
                </a:cubicBezTo>
                <a:cubicBezTo>
                  <a:pt x="16257" y="15304"/>
                  <a:pt x="16411" y="15263"/>
                  <a:pt x="16570" y="15255"/>
                </a:cubicBezTo>
                <a:cubicBezTo>
                  <a:pt x="16771" y="15245"/>
                  <a:pt x="16935" y="15263"/>
                  <a:pt x="17115" y="15304"/>
                </a:cubicBezTo>
                <a:cubicBezTo>
                  <a:pt x="17169" y="15316"/>
                  <a:pt x="17208" y="15292"/>
                  <a:pt x="17239" y="15255"/>
                </a:cubicBezTo>
                <a:cubicBezTo>
                  <a:pt x="17289" y="15180"/>
                  <a:pt x="17305" y="15156"/>
                  <a:pt x="17338" y="15106"/>
                </a:cubicBezTo>
              </a:path>
              <a:path w="3772" h="4342">
                <a:moveTo>
                  <a:pt x="16818" y="15602"/>
                </a:moveTo>
                <a:cubicBezTo>
                  <a:pt x="16731" y="15591"/>
                  <a:pt x="16641" y="15562"/>
                  <a:pt x="16594" y="15627"/>
                </a:cubicBezTo>
                <a:cubicBezTo>
                  <a:pt x="16555" y="15681"/>
                  <a:pt x="16534" y="15759"/>
                  <a:pt x="16520" y="15825"/>
                </a:cubicBezTo>
                <a:cubicBezTo>
                  <a:pt x="16620" y="15806"/>
                  <a:pt x="16734" y="15744"/>
                  <a:pt x="16842" y="15776"/>
                </a:cubicBezTo>
                <a:cubicBezTo>
                  <a:pt x="17013" y="15826"/>
                  <a:pt x="16872" y="16048"/>
                  <a:pt x="16793" y="16098"/>
                </a:cubicBezTo>
                <a:cubicBezTo>
                  <a:pt x="16679" y="16144"/>
                  <a:pt x="16648" y="16163"/>
                  <a:pt x="16570" y="16123"/>
                </a:cubicBezTo>
              </a:path>
              <a:path w="3772" h="4342">
                <a:moveTo>
                  <a:pt x="16148" y="16173"/>
                </a:moveTo>
                <a:cubicBezTo>
                  <a:pt x="16399" y="16184"/>
                  <a:pt x="16642" y="16204"/>
                  <a:pt x="16892" y="16148"/>
                </a:cubicBezTo>
                <a:cubicBezTo>
                  <a:pt x="17088" y="16104"/>
                  <a:pt x="17306" y="16014"/>
                  <a:pt x="17363" y="15801"/>
                </a:cubicBezTo>
                <a:cubicBezTo>
                  <a:pt x="17419" y="15591"/>
                  <a:pt x="17251" y="15413"/>
                  <a:pt x="17066" y="15354"/>
                </a:cubicBezTo>
                <a:cubicBezTo>
                  <a:pt x="16901" y="15302"/>
                  <a:pt x="16699" y="15276"/>
                  <a:pt x="16545" y="15354"/>
                </a:cubicBezTo>
                <a:cubicBezTo>
                  <a:pt x="16313" y="15471"/>
                  <a:pt x="16187" y="15639"/>
                  <a:pt x="16148" y="15900"/>
                </a:cubicBezTo>
                <a:cubicBezTo>
                  <a:pt x="16110" y="16153"/>
                  <a:pt x="16299" y="16325"/>
                  <a:pt x="16545" y="16346"/>
                </a:cubicBezTo>
                <a:cubicBezTo>
                  <a:pt x="16595" y="16338"/>
                  <a:pt x="16644" y="16329"/>
                  <a:pt x="16694" y="163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1080" y="4545000"/>
            <a:ext cx="608040" cy="857160"/>
          </a:xfrm>
          <a:custGeom>
            <a:avLst/>
            <a:gdLst/>
            <a:ahLst/>
            <a:rect l="l" t="t" r="r" b="b"/>
            <a:pathLst>
              <a:path w="1688" h="2382">
                <a:moveTo>
                  <a:pt x="15429" y="12626"/>
                </a:moveTo>
                <a:cubicBezTo>
                  <a:pt x="15562" y="12674"/>
                  <a:pt x="15875" y="12850"/>
                  <a:pt x="15553" y="12973"/>
                </a:cubicBezTo>
                <a:cubicBezTo>
                  <a:pt x="15387" y="12994"/>
                  <a:pt x="15352" y="13010"/>
                  <a:pt x="15255" y="12973"/>
                </a:cubicBezTo>
                <a:cubicBezTo>
                  <a:pt x="15330" y="12853"/>
                  <a:pt x="15471" y="12843"/>
                  <a:pt x="15602" y="12948"/>
                </a:cubicBezTo>
                <a:cubicBezTo>
                  <a:pt x="15602" y="12983"/>
                  <a:pt x="15611" y="12987"/>
                  <a:pt x="15652" y="12948"/>
                </a:cubicBezTo>
              </a:path>
              <a:path w="1688" h="2382">
                <a:moveTo>
                  <a:pt x="15776" y="12626"/>
                </a:moveTo>
                <a:cubicBezTo>
                  <a:pt x="15821" y="12746"/>
                  <a:pt x="15953" y="12753"/>
                  <a:pt x="16049" y="12849"/>
                </a:cubicBezTo>
                <a:cubicBezTo>
                  <a:pt x="16057" y="12865"/>
                  <a:pt x="16065" y="12882"/>
                  <a:pt x="16073" y="12898"/>
                </a:cubicBezTo>
                <a:cubicBezTo>
                  <a:pt x="15951" y="13052"/>
                  <a:pt x="15891" y="12936"/>
                  <a:pt x="15801" y="12824"/>
                </a:cubicBezTo>
              </a:path>
              <a:path w="1688" h="2382">
                <a:moveTo>
                  <a:pt x="15553" y="13494"/>
                </a:moveTo>
                <a:cubicBezTo>
                  <a:pt x="15743" y="13557"/>
                  <a:pt x="15806" y="13569"/>
                  <a:pt x="15925" y="13717"/>
                </a:cubicBezTo>
                <a:cubicBezTo>
                  <a:pt x="15808" y="13788"/>
                  <a:pt x="15686" y="13900"/>
                  <a:pt x="15577" y="13791"/>
                </a:cubicBezTo>
                <a:cubicBezTo>
                  <a:pt x="15707" y="13723"/>
                  <a:pt x="15830" y="13649"/>
                  <a:pt x="15949" y="13816"/>
                </a:cubicBezTo>
                <a:cubicBezTo>
                  <a:pt x="15949" y="13824"/>
                  <a:pt x="15949" y="13833"/>
                  <a:pt x="15949" y="13841"/>
                </a:cubicBezTo>
              </a:path>
              <a:path w="1688" h="2382">
                <a:moveTo>
                  <a:pt x="16073" y="13494"/>
                </a:moveTo>
                <a:cubicBezTo>
                  <a:pt x="16073" y="13619"/>
                  <a:pt x="16189" y="13610"/>
                  <a:pt x="16272" y="13667"/>
                </a:cubicBezTo>
                <a:cubicBezTo>
                  <a:pt x="16382" y="13742"/>
                  <a:pt x="16292" y="13874"/>
                  <a:pt x="16173" y="13841"/>
                </a:cubicBezTo>
                <a:cubicBezTo>
                  <a:pt x="16132" y="13816"/>
                  <a:pt x="16090" y="13792"/>
                  <a:pt x="16049" y="13767"/>
                </a:cubicBezTo>
              </a:path>
              <a:path w="1688" h="2382">
                <a:moveTo>
                  <a:pt x="15255" y="14213"/>
                </a:moveTo>
                <a:cubicBezTo>
                  <a:pt x="15274" y="14269"/>
                  <a:pt x="15280" y="14301"/>
                  <a:pt x="15280" y="14362"/>
                </a:cubicBezTo>
                <a:cubicBezTo>
                  <a:pt x="15470" y="14343"/>
                  <a:pt x="15635" y="14243"/>
                  <a:pt x="15825" y="14213"/>
                </a:cubicBezTo>
                <a:cubicBezTo>
                  <a:pt x="15916" y="14213"/>
                  <a:pt x="15924" y="14213"/>
                  <a:pt x="15974" y="14213"/>
                </a:cubicBezTo>
                <a:cubicBezTo>
                  <a:pt x="15947" y="14159"/>
                  <a:pt x="15897" y="14117"/>
                  <a:pt x="15875" y="14039"/>
                </a:cubicBezTo>
              </a:path>
              <a:path w="1688" h="2382">
                <a:moveTo>
                  <a:pt x="15751" y="14536"/>
                </a:moveTo>
                <a:cubicBezTo>
                  <a:pt x="15668" y="14536"/>
                  <a:pt x="15613" y="14521"/>
                  <a:pt x="15577" y="14610"/>
                </a:cubicBezTo>
                <a:cubicBezTo>
                  <a:pt x="15559" y="14684"/>
                  <a:pt x="15551" y="14691"/>
                  <a:pt x="15553" y="14734"/>
                </a:cubicBezTo>
                <a:cubicBezTo>
                  <a:pt x="15665" y="14734"/>
                  <a:pt x="15764" y="14742"/>
                  <a:pt x="15875" y="14759"/>
                </a:cubicBezTo>
                <a:cubicBezTo>
                  <a:pt x="15850" y="14883"/>
                  <a:pt x="15714" y="15063"/>
                  <a:pt x="15553" y="15007"/>
                </a:cubicBezTo>
                <a:cubicBezTo>
                  <a:pt x="15545" y="14982"/>
                  <a:pt x="15536" y="14957"/>
                  <a:pt x="15528" y="14932"/>
                </a:cubicBezTo>
              </a:path>
              <a:path w="1688" h="2382">
                <a:moveTo>
                  <a:pt x="16123" y="14536"/>
                </a:moveTo>
                <a:cubicBezTo>
                  <a:pt x="16000" y="14627"/>
                  <a:pt x="15991" y="14734"/>
                  <a:pt x="15974" y="14883"/>
                </a:cubicBezTo>
                <a:cubicBezTo>
                  <a:pt x="16108" y="14904"/>
                  <a:pt x="16285" y="14878"/>
                  <a:pt x="16247" y="14684"/>
                </a:cubicBezTo>
                <a:cubicBezTo>
                  <a:pt x="16231" y="14601"/>
                  <a:pt x="16181" y="14593"/>
                  <a:pt x="16123" y="14585"/>
                </a:cubicBezTo>
              </a:path>
              <a:path w="1688" h="2382">
                <a:moveTo>
                  <a:pt x="16495" y="14734"/>
                </a:moveTo>
                <a:cubicBezTo>
                  <a:pt x="16644" y="14734"/>
                  <a:pt x="16793" y="14734"/>
                  <a:pt x="16942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37200" y="4384800"/>
            <a:ext cx="766800" cy="322200"/>
          </a:xfrm>
          <a:custGeom>
            <a:avLst/>
            <a:gdLst/>
            <a:ahLst/>
            <a:rect l="l" t="t" r="r" b="b"/>
            <a:pathLst>
              <a:path w="2134" h="894">
                <a:moveTo>
                  <a:pt x="16768" y="12700"/>
                </a:moveTo>
                <a:cubicBezTo>
                  <a:pt x="16918" y="12721"/>
                  <a:pt x="17061" y="12725"/>
                  <a:pt x="17214" y="12725"/>
                </a:cubicBezTo>
                <a:cubicBezTo>
                  <a:pt x="17259" y="12725"/>
                  <a:pt x="17279" y="12728"/>
                  <a:pt x="17239" y="12700"/>
                </a:cubicBezTo>
              </a:path>
              <a:path w="2134" h="894">
                <a:moveTo>
                  <a:pt x="18157" y="12179"/>
                </a:moveTo>
                <a:cubicBezTo>
                  <a:pt x="17955" y="12362"/>
                  <a:pt x="17836" y="12590"/>
                  <a:pt x="17859" y="12874"/>
                </a:cubicBezTo>
                <a:cubicBezTo>
                  <a:pt x="17869" y="13002"/>
                  <a:pt x="17979" y="13073"/>
                  <a:pt x="18058" y="13047"/>
                </a:cubicBezTo>
              </a:path>
              <a:path w="2134" h="894">
                <a:moveTo>
                  <a:pt x="18455" y="12303"/>
                </a:moveTo>
                <a:cubicBezTo>
                  <a:pt x="18216" y="12444"/>
                  <a:pt x="18293" y="12470"/>
                  <a:pt x="18405" y="12700"/>
                </a:cubicBezTo>
                <a:cubicBezTo>
                  <a:pt x="18469" y="12830"/>
                  <a:pt x="18402" y="12829"/>
                  <a:pt x="18306" y="12874"/>
                </a:cubicBezTo>
                <a:cubicBezTo>
                  <a:pt x="18290" y="12704"/>
                  <a:pt x="18409" y="12544"/>
                  <a:pt x="18479" y="12378"/>
                </a:cubicBezTo>
                <a:cubicBezTo>
                  <a:pt x="18498" y="12320"/>
                  <a:pt x="18507" y="12277"/>
                  <a:pt x="18504" y="12328"/>
                </a:cubicBezTo>
              </a:path>
              <a:path w="2134" h="894">
                <a:moveTo>
                  <a:pt x="18852" y="12427"/>
                </a:moveTo>
                <a:cubicBezTo>
                  <a:pt x="18865" y="12535"/>
                  <a:pt x="18901" y="12641"/>
                  <a:pt x="18901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24360" y="4429080"/>
            <a:ext cx="312840" cy="955800"/>
          </a:xfrm>
          <a:custGeom>
            <a:avLst/>
            <a:gdLst/>
            <a:ahLst/>
            <a:rect l="l" t="t" r="r" b="b"/>
            <a:pathLst>
              <a:path w="869" h="2655">
                <a:moveTo>
                  <a:pt x="15900" y="12626"/>
                </a:moveTo>
                <a:cubicBezTo>
                  <a:pt x="16039" y="12575"/>
                  <a:pt x="16176" y="12542"/>
                  <a:pt x="16321" y="12502"/>
                </a:cubicBezTo>
              </a:path>
              <a:path w="869" h="2655">
                <a:moveTo>
                  <a:pt x="16346" y="12303"/>
                </a:moveTo>
                <a:cubicBezTo>
                  <a:pt x="16541" y="12672"/>
                  <a:pt x="16613" y="12799"/>
                  <a:pt x="16321" y="13122"/>
                </a:cubicBezTo>
              </a:path>
              <a:path w="869" h="2655">
                <a:moveTo>
                  <a:pt x="16024" y="13494"/>
                </a:moveTo>
                <a:cubicBezTo>
                  <a:pt x="16157" y="13430"/>
                  <a:pt x="16270" y="13390"/>
                  <a:pt x="16396" y="13320"/>
                </a:cubicBezTo>
              </a:path>
              <a:path w="869" h="2655">
                <a:moveTo>
                  <a:pt x="16446" y="13295"/>
                </a:moveTo>
                <a:cubicBezTo>
                  <a:pt x="16570" y="13597"/>
                  <a:pt x="16581" y="13681"/>
                  <a:pt x="16346" y="13915"/>
                </a:cubicBezTo>
              </a:path>
              <a:path w="869" h="2655">
                <a:moveTo>
                  <a:pt x="16743" y="14436"/>
                </a:moveTo>
                <a:cubicBezTo>
                  <a:pt x="16759" y="14516"/>
                  <a:pt x="16762" y="14537"/>
                  <a:pt x="16768" y="14635"/>
                </a:cubicBezTo>
              </a:path>
              <a:path w="869" h="2655">
                <a:moveTo>
                  <a:pt x="16718" y="14957"/>
                </a:moveTo>
                <a:lnTo>
                  <a:pt x="16718" y="14957"/>
                </a:lnTo>
                <a:lnTo>
                  <a:pt x="16718" y="14957"/>
                </a:lnTo>
              </a:path>
              <a:path w="869" h="2655">
                <a:moveTo>
                  <a:pt x="16718" y="14957"/>
                </a:moveTo>
                <a:lnTo>
                  <a:pt x="16718" y="1495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46800" y="4473720"/>
            <a:ext cx="179280" cy="590400"/>
          </a:xfrm>
          <a:custGeom>
            <a:avLst/>
            <a:gdLst/>
            <a:ahLst/>
            <a:rect l="l" t="t" r="r" b="b"/>
            <a:pathLst>
              <a:path w="497" h="1638">
                <a:moveTo>
                  <a:pt x="15230" y="12427"/>
                </a:moveTo>
                <a:cubicBezTo>
                  <a:pt x="15157" y="12617"/>
                  <a:pt x="15061" y="12867"/>
                  <a:pt x="15156" y="13072"/>
                </a:cubicBezTo>
                <a:cubicBezTo>
                  <a:pt x="15172" y="13080"/>
                  <a:pt x="15189" y="13089"/>
                  <a:pt x="15205" y="13097"/>
                </a:cubicBezTo>
              </a:path>
              <a:path w="497" h="1638">
                <a:moveTo>
                  <a:pt x="15478" y="13543"/>
                </a:moveTo>
                <a:cubicBezTo>
                  <a:pt x="15414" y="13839"/>
                  <a:pt x="15316" y="13990"/>
                  <a:pt x="15627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53040" y="3633840"/>
            <a:ext cx="892080" cy="617400"/>
          </a:xfrm>
          <a:custGeom>
            <a:avLst/>
            <a:gdLst/>
            <a:ahLst/>
            <a:rect l="l" t="t" r="r" b="b"/>
            <a:pathLst>
              <a:path w="2482" h="1712">
                <a:moveTo>
                  <a:pt x="15999" y="10170"/>
                </a:moveTo>
                <a:cubicBezTo>
                  <a:pt x="16082" y="10142"/>
                  <a:pt x="16104" y="10133"/>
                  <a:pt x="16197" y="10120"/>
                </a:cubicBezTo>
                <a:cubicBezTo>
                  <a:pt x="16273" y="10328"/>
                  <a:pt x="16206" y="10404"/>
                  <a:pt x="15974" y="10443"/>
                </a:cubicBezTo>
                <a:cubicBezTo>
                  <a:pt x="15817" y="10443"/>
                  <a:pt x="15774" y="10446"/>
                  <a:pt x="15677" y="10418"/>
                </a:cubicBezTo>
                <a:cubicBezTo>
                  <a:pt x="15720" y="10352"/>
                  <a:pt x="15892" y="10405"/>
                  <a:pt x="15974" y="10418"/>
                </a:cubicBezTo>
                <a:cubicBezTo>
                  <a:pt x="16156" y="10447"/>
                  <a:pt x="16186" y="10504"/>
                  <a:pt x="16321" y="10393"/>
                </a:cubicBezTo>
              </a:path>
              <a:path w="2482" h="1712">
                <a:moveTo>
                  <a:pt x="16495" y="10096"/>
                </a:moveTo>
                <a:cubicBezTo>
                  <a:pt x="16594" y="10096"/>
                  <a:pt x="16694" y="10096"/>
                  <a:pt x="16793" y="10096"/>
                </a:cubicBezTo>
                <a:cubicBezTo>
                  <a:pt x="16774" y="10207"/>
                  <a:pt x="16759" y="10337"/>
                  <a:pt x="16718" y="10443"/>
                </a:cubicBezTo>
                <a:cubicBezTo>
                  <a:pt x="16710" y="10451"/>
                  <a:pt x="16702" y="10460"/>
                  <a:pt x="16694" y="10468"/>
                </a:cubicBezTo>
              </a:path>
              <a:path w="2482" h="1712">
                <a:moveTo>
                  <a:pt x="14312" y="10765"/>
                </a:moveTo>
                <a:cubicBezTo>
                  <a:pt x="14312" y="10831"/>
                  <a:pt x="14312" y="10898"/>
                  <a:pt x="14312" y="10964"/>
                </a:cubicBezTo>
                <a:cubicBezTo>
                  <a:pt x="14463" y="10991"/>
                  <a:pt x="14668" y="10937"/>
                  <a:pt x="14833" y="10939"/>
                </a:cubicBezTo>
                <a:cubicBezTo>
                  <a:pt x="15183" y="10942"/>
                  <a:pt x="15554" y="11019"/>
                  <a:pt x="15900" y="10939"/>
                </a:cubicBezTo>
                <a:cubicBezTo>
                  <a:pt x="15947" y="10928"/>
                  <a:pt x="15996" y="10907"/>
                  <a:pt x="16049" y="10889"/>
                </a:cubicBezTo>
                <a:cubicBezTo>
                  <a:pt x="16176" y="10845"/>
                  <a:pt x="16191" y="10809"/>
                  <a:pt x="16148" y="10666"/>
                </a:cubicBezTo>
                <a:cubicBezTo>
                  <a:pt x="16148" y="10641"/>
                  <a:pt x="16148" y="10633"/>
                  <a:pt x="16123" y="10641"/>
                </a:cubicBezTo>
              </a:path>
              <a:path w="2482" h="1712">
                <a:moveTo>
                  <a:pt x="15478" y="11311"/>
                </a:moveTo>
                <a:cubicBezTo>
                  <a:pt x="15478" y="11225"/>
                  <a:pt x="15495" y="11158"/>
                  <a:pt x="15429" y="11088"/>
                </a:cubicBezTo>
                <a:cubicBezTo>
                  <a:pt x="15324" y="10978"/>
                  <a:pt x="15176" y="10980"/>
                  <a:pt x="15106" y="11112"/>
                </a:cubicBezTo>
                <a:cubicBezTo>
                  <a:pt x="15011" y="11290"/>
                  <a:pt x="15250" y="11341"/>
                  <a:pt x="15354" y="11237"/>
                </a:cubicBezTo>
                <a:cubicBezTo>
                  <a:pt x="15393" y="11160"/>
                  <a:pt x="15391" y="11144"/>
                  <a:pt x="15429" y="11112"/>
                </a:cubicBezTo>
                <a:cubicBezTo>
                  <a:pt x="15448" y="11231"/>
                  <a:pt x="15475" y="11337"/>
                  <a:pt x="15478" y="11460"/>
                </a:cubicBezTo>
                <a:cubicBezTo>
                  <a:pt x="15478" y="11543"/>
                  <a:pt x="15478" y="11559"/>
                  <a:pt x="15478" y="11609"/>
                </a:cubicBezTo>
              </a:path>
              <a:path w="2482" h="1712">
                <a:moveTo>
                  <a:pt x="14908" y="11633"/>
                </a:moveTo>
                <a:cubicBezTo>
                  <a:pt x="15075" y="11801"/>
                  <a:pt x="15231" y="11822"/>
                  <a:pt x="15478" y="11807"/>
                </a:cubicBezTo>
                <a:cubicBezTo>
                  <a:pt x="15741" y="11791"/>
                  <a:pt x="15924" y="11691"/>
                  <a:pt x="16024" y="11435"/>
                </a:cubicBezTo>
                <a:cubicBezTo>
                  <a:pt x="16096" y="11252"/>
                  <a:pt x="16003" y="11048"/>
                  <a:pt x="15850" y="10939"/>
                </a:cubicBezTo>
                <a:cubicBezTo>
                  <a:pt x="15705" y="10836"/>
                  <a:pt x="15551" y="10794"/>
                  <a:pt x="15379" y="10790"/>
                </a:cubicBezTo>
                <a:cubicBezTo>
                  <a:pt x="15212" y="10786"/>
                  <a:pt x="15136" y="10800"/>
                  <a:pt x="15007" y="10914"/>
                </a:cubicBezTo>
                <a:cubicBezTo>
                  <a:pt x="14850" y="11053"/>
                  <a:pt x="14790" y="11201"/>
                  <a:pt x="14808" y="11410"/>
                </a:cubicBezTo>
                <a:cubicBezTo>
                  <a:pt x="14826" y="11630"/>
                  <a:pt x="14938" y="11741"/>
                  <a:pt x="15156" y="11782"/>
                </a:cubicBezTo>
                <a:cubicBezTo>
                  <a:pt x="15249" y="11799"/>
                  <a:pt x="15339" y="11766"/>
                  <a:pt x="15429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4960" y="4545000"/>
            <a:ext cx="312840" cy="509760"/>
          </a:xfrm>
          <a:custGeom>
            <a:avLst/>
            <a:gdLst/>
            <a:ahLst/>
            <a:rect l="l" t="t" r="r" b="b"/>
            <a:pathLst>
              <a:path w="869" h="1414">
                <a:moveTo>
                  <a:pt x="14486" y="12626"/>
                </a:moveTo>
                <a:cubicBezTo>
                  <a:pt x="14620" y="12626"/>
                  <a:pt x="14839" y="12638"/>
                  <a:pt x="14858" y="12824"/>
                </a:cubicBezTo>
                <a:cubicBezTo>
                  <a:pt x="14878" y="13016"/>
                  <a:pt x="14662" y="13077"/>
                  <a:pt x="14536" y="13022"/>
                </a:cubicBezTo>
                <a:cubicBezTo>
                  <a:pt x="14691" y="12881"/>
                  <a:pt x="14738" y="12962"/>
                  <a:pt x="14932" y="12998"/>
                </a:cubicBezTo>
                <a:cubicBezTo>
                  <a:pt x="14949" y="12998"/>
                  <a:pt x="14965" y="12998"/>
                  <a:pt x="14982" y="12998"/>
                </a:cubicBezTo>
              </a:path>
              <a:path w="869" h="1414">
                <a:moveTo>
                  <a:pt x="14883" y="13692"/>
                </a:moveTo>
                <a:cubicBezTo>
                  <a:pt x="15044" y="13643"/>
                  <a:pt x="15124" y="13696"/>
                  <a:pt x="15255" y="13791"/>
                </a:cubicBezTo>
                <a:cubicBezTo>
                  <a:pt x="15135" y="13997"/>
                  <a:pt x="15071" y="14063"/>
                  <a:pt x="14833" y="13990"/>
                </a:cubicBezTo>
                <a:cubicBezTo>
                  <a:pt x="14960" y="13800"/>
                  <a:pt x="15069" y="13829"/>
                  <a:pt x="15280" y="13891"/>
                </a:cubicBezTo>
                <a:cubicBezTo>
                  <a:pt x="15305" y="13899"/>
                  <a:pt x="15329" y="13907"/>
                  <a:pt x="15354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0200" y="3660840"/>
            <a:ext cx="357120" cy="125280"/>
          </a:xfrm>
          <a:custGeom>
            <a:avLst/>
            <a:gdLst/>
            <a:ahLst/>
            <a:rect l="l" t="t" r="r" b="b"/>
            <a:pathLst>
              <a:path w="993" h="348">
                <a:moveTo>
                  <a:pt x="13568" y="10195"/>
                </a:moveTo>
                <a:cubicBezTo>
                  <a:pt x="13577" y="10167"/>
                  <a:pt x="13653" y="10145"/>
                  <a:pt x="13692" y="10170"/>
                </a:cubicBezTo>
                <a:cubicBezTo>
                  <a:pt x="13692" y="10178"/>
                  <a:pt x="13692" y="10187"/>
                  <a:pt x="13692" y="10195"/>
                </a:cubicBezTo>
                <a:cubicBezTo>
                  <a:pt x="13664" y="10307"/>
                  <a:pt x="13642" y="10320"/>
                  <a:pt x="13543" y="10393"/>
                </a:cubicBezTo>
                <a:cubicBezTo>
                  <a:pt x="13554" y="10391"/>
                  <a:pt x="13790" y="10365"/>
                  <a:pt x="13767" y="10418"/>
                </a:cubicBezTo>
                <a:cubicBezTo>
                  <a:pt x="13689" y="10600"/>
                  <a:pt x="13488" y="10490"/>
                  <a:pt x="13444" y="10393"/>
                </a:cubicBezTo>
              </a:path>
              <a:path w="993" h="348">
                <a:moveTo>
                  <a:pt x="13940" y="10170"/>
                </a:moveTo>
                <a:cubicBezTo>
                  <a:pt x="13940" y="10297"/>
                  <a:pt x="13879" y="10483"/>
                  <a:pt x="14039" y="10517"/>
                </a:cubicBezTo>
                <a:cubicBezTo>
                  <a:pt x="14205" y="10553"/>
                  <a:pt x="14344" y="10463"/>
                  <a:pt x="14436" y="10344"/>
                </a:cubicBezTo>
                <a:cubicBezTo>
                  <a:pt x="14359" y="10305"/>
                  <a:pt x="14260" y="10324"/>
                  <a:pt x="14213" y="10418"/>
                </a:cubicBezTo>
                <a:cubicBezTo>
                  <a:pt x="14213" y="10460"/>
                  <a:pt x="14221" y="10476"/>
                  <a:pt x="14188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02160" y="3732120"/>
            <a:ext cx="125640" cy="27000"/>
          </a:xfrm>
          <a:custGeom>
            <a:avLst/>
            <a:gdLst/>
            <a:ahLst/>
            <a:rect l="l" t="t" r="r" b="b"/>
            <a:pathLst>
              <a:path w="348" h="76">
                <a:moveTo>
                  <a:pt x="15007" y="10368"/>
                </a:moveTo>
                <a:cubicBezTo>
                  <a:pt x="15131" y="10431"/>
                  <a:pt x="15211" y="10443"/>
                  <a:pt x="15354" y="10443"/>
                </a:cubicBezTo>
                <a:cubicBezTo>
                  <a:pt x="15346" y="10443"/>
                  <a:pt x="15337" y="10443"/>
                  <a:pt x="15329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08160" y="4857840"/>
            <a:ext cx="1054080" cy="214200"/>
          </a:xfrm>
          <a:custGeom>
            <a:avLst/>
            <a:gdLst/>
            <a:ahLst/>
            <a:rect l="l" t="t" r="r" b="b"/>
            <a:pathLst>
              <a:path w="2928" h="596">
                <a:moveTo>
                  <a:pt x="5854" y="13791"/>
                </a:moveTo>
                <a:cubicBezTo>
                  <a:pt x="5854" y="13799"/>
                  <a:pt x="5854" y="13808"/>
                  <a:pt x="5854" y="13816"/>
                </a:cubicBezTo>
              </a:path>
              <a:path w="2928" h="596">
                <a:moveTo>
                  <a:pt x="6127" y="13568"/>
                </a:moveTo>
                <a:cubicBezTo>
                  <a:pt x="6220" y="13530"/>
                  <a:pt x="6273" y="13507"/>
                  <a:pt x="6375" y="13494"/>
                </a:cubicBezTo>
              </a:path>
              <a:path w="2928" h="596">
                <a:moveTo>
                  <a:pt x="6077" y="14089"/>
                </a:moveTo>
                <a:cubicBezTo>
                  <a:pt x="6169" y="14066"/>
                  <a:pt x="6194" y="14060"/>
                  <a:pt x="6251" y="14039"/>
                </a:cubicBezTo>
              </a:path>
              <a:path w="2928" h="596">
                <a:moveTo>
                  <a:pt x="8012" y="13866"/>
                </a:moveTo>
                <a:cubicBezTo>
                  <a:pt x="8020" y="13866"/>
                  <a:pt x="8029" y="13866"/>
                  <a:pt x="8037" y="13866"/>
                </a:cubicBezTo>
              </a:path>
              <a:path w="2928" h="596">
                <a:moveTo>
                  <a:pt x="8037" y="13866"/>
                </a:moveTo>
                <a:lnTo>
                  <a:pt x="8037" y="13866"/>
                </a:lnTo>
              </a:path>
              <a:path w="2928" h="596">
                <a:moveTo>
                  <a:pt x="8781" y="13742"/>
                </a:moveTo>
                <a:lnTo>
                  <a:pt x="8781" y="1374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2880" y="4894200"/>
            <a:ext cx="258840" cy="115920"/>
          </a:xfrm>
          <a:custGeom>
            <a:avLst/>
            <a:gdLst/>
            <a:ahLst/>
            <a:rect l="l" t="t" r="r" b="b"/>
            <a:pathLst>
              <a:path w="720" h="323">
                <a:moveTo>
                  <a:pt x="5606" y="13643"/>
                </a:moveTo>
                <a:cubicBezTo>
                  <a:pt x="5581" y="13692"/>
                  <a:pt x="5573" y="13721"/>
                  <a:pt x="5531" y="13742"/>
                </a:cubicBezTo>
                <a:cubicBezTo>
                  <a:pt x="5585" y="13766"/>
                  <a:pt x="5709" y="13779"/>
                  <a:pt x="5680" y="13866"/>
                </a:cubicBezTo>
                <a:cubicBezTo>
                  <a:pt x="5660" y="13926"/>
                  <a:pt x="5555" y="13915"/>
                  <a:pt x="5507" y="13915"/>
                </a:cubicBezTo>
              </a:path>
              <a:path w="720" h="323">
                <a:moveTo>
                  <a:pt x="5581" y="13717"/>
                </a:moveTo>
                <a:cubicBezTo>
                  <a:pt x="5640" y="13690"/>
                  <a:pt x="5689" y="13667"/>
                  <a:pt x="5755" y="13667"/>
                </a:cubicBezTo>
              </a:path>
              <a:path w="720" h="323">
                <a:moveTo>
                  <a:pt x="6102" y="13593"/>
                </a:moveTo>
                <a:cubicBezTo>
                  <a:pt x="6094" y="13593"/>
                  <a:pt x="6085" y="13593"/>
                  <a:pt x="6077" y="13593"/>
                </a:cubicBezTo>
                <a:cubicBezTo>
                  <a:pt x="6112" y="13662"/>
                  <a:pt x="6161" y="13693"/>
                  <a:pt x="6226" y="13742"/>
                </a:cubicBezTo>
                <a:cubicBezTo>
                  <a:pt x="6191" y="13845"/>
                  <a:pt x="6191" y="13817"/>
                  <a:pt x="6102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14760" y="4894200"/>
            <a:ext cx="660240" cy="409680"/>
          </a:xfrm>
          <a:custGeom>
            <a:avLst/>
            <a:gdLst/>
            <a:ahLst/>
            <a:rect l="l" t="t" r="r" b="b"/>
            <a:pathLst>
              <a:path w="1836" h="1142">
                <a:moveTo>
                  <a:pt x="7665" y="13742"/>
                </a:moveTo>
                <a:cubicBezTo>
                  <a:pt x="7766" y="13674"/>
                  <a:pt x="7750" y="13685"/>
                  <a:pt x="7863" y="13742"/>
                </a:cubicBezTo>
                <a:cubicBezTo>
                  <a:pt x="7840" y="13923"/>
                  <a:pt x="7776" y="14047"/>
                  <a:pt x="7565" y="14064"/>
                </a:cubicBezTo>
                <a:cubicBezTo>
                  <a:pt x="7557" y="14056"/>
                  <a:pt x="7549" y="14047"/>
                  <a:pt x="7541" y="14039"/>
                </a:cubicBezTo>
                <a:cubicBezTo>
                  <a:pt x="7621" y="13891"/>
                  <a:pt x="7712" y="13880"/>
                  <a:pt x="7838" y="14015"/>
                </a:cubicBezTo>
                <a:cubicBezTo>
                  <a:pt x="7838" y="14023"/>
                  <a:pt x="7838" y="14031"/>
                  <a:pt x="7838" y="14039"/>
                </a:cubicBezTo>
              </a:path>
              <a:path w="1836" h="1142">
                <a:moveTo>
                  <a:pt x="8930" y="13593"/>
                </a:moveTo>
                <a:cubicBezTo>
                  <a:pt x="9068" y="13651"/>
                  <a:pt x="9165" y="13695"/>
                  <a:pt x="9029" y="13841"/>
                </a:cubicBezTo>
                <a:cubicBezTo>
                  <a:pt x="8956" y="13895"/>
                  <a:pt x="8956" y="13920"/>
                  <a:pt x="8905" y="13915"/>
                </a:cubicBezTo>
                <a:cubicBezTo>
                  <a:pt x="8895" y="13847"/>
                  <a:pt x="8945" y="13787"/>
                  <a:pt x="9029" y="13841"/>
                </a:cubicBezTo>
                <a:cubicBezTo>
                  <a:pt x="9057" y="13869"/>
                  <a:pt x="9066" y="13882"/>
                  <a:pt x="9054" y="13915"/>
                </a:cubicBezTo>
              </a:path>
              <a:path w="1836" h="1142">
                <a:moveTo>
                  <a:pt x="7813" y="14039"/>
                </a:moveTo>
                <a:cubicBezTo>
                  <a:pt x="7819" y="14117"/>
                  <a:pt x="7824" y="14145"/>
                  <a:pt x="7838" y="14213"/>
                </a:cubicBezTo>
                <a:cubicBezTo>
                  <a:pt x="7911" y="14140"/>
                  <a:pt x="8142" y="14147"/>
                  <a:pt x="8260" y="14139"/>
                </a:cubicBezTo>
                <a:cubicBezTo>
                  <a:pt x="8321" y="14139"/>
                  <a:pt x="8336" y="14130"/>
                  <a:pt x="8359" y="14163"/>
                </a:cubicBezTo>
                <a:cubicBezTo>
                  <a:pt x="8348" y="14077"/>
                  <a:pt x="8343" y="13984"/>
                  <a:pt x="8285" y="13940"/>
                </a:cubicBezTo>
              </a:path>
              <a:path w="1836" h="1142">
                <a:moveTo>
                  <a:pt x="7987" y="14337"/>
                </a:moveTo>
                <a:cubicBezTo>
                  <a:pt x="7966" y="14421"/>
                  <a:pt x="7951" y="14440"/>
                  <a:pt x="7987" y="14486"/>
                </a:cubicBezTo>
                <a:cubicBezTo>
                  <a:pt x="8156" y="14450"/>
                  <a:pt x="8221" y="14406"/>
                  <a:pt x="8260" y="14238"/>
                </a:cubicBezTo>
                <a:cubicBezTo>
                  <a:pt x="8187" y="14310"/>
                  <a:pt x="8186" y="14491"/>
                  <a:pt x="8161" y="14610"/>
                </a:cubicBezTo>
              </a:path>
              <a:path w="1836" h="1142">
                <a:moveTo>
                  <a:pt x="8384" y="14486"/>
                </a:moveTo>
                <a:cubicBezTo>
                  <a:pt x="8510" y="14466"/>
                  <a:pt x="8717" y="14482"/>
                  <a:pt x="8830" y="14436"/>
                </a:cubicBezTo>
                <a:cubicBezTo>
                  <a:pt x="8904" y="14406"/>
                  <a:pt x="8979" y="14115"/>
                  <a:pt x="8979" y="14039"/>
                </a:cubicBezTo>
                <a:cubicBezTo>
                  <a:pt x="8971" y="14039"/>
                  <a:pt x="8962" y="14039"/>
                  <a:pt x="8954" y="14039"/>
                </a:cubicBezTo>
              </a:path>
              <a:path w="1836" h="1142">
                <a:moveTo>
                  <a:pt x="9227" y="14238"/>
                </a:moveTo>
                <a:cubicBezTo>
                  <a:pt x="9124" y="14290"/>
                  <a:pt x="9088" y="14309"/>
                  <a:pt x="9029" y="14362"/>
                </a:cubicBezTo>
                <a:cubicBezTo>
                  <a:pt x="9086" y="14431"/>
                  <a:pt x="9366" y="14520"/>
                  <a:pt x="9351" y="14610"/>
                </a:cubicBezTo>
                <a:cubicBezTo>
                  <a:pt x="9294" y="14696"/>
                  <a:pt x="9263" y="14727"/>
                  <a:pt x="9178" y="14734"/>
                </a:cubicBezTo>
                <a:cubicBezTo>
                  <a:pt x="9127" y="14565"/>
                  <a:pt x="9223" y="14452"/>
                  <a:pt x="9327" y="14312"/>
                </a:cubicBezTo>
                <a:cubicBezTo>
                  <a:pt x="9343" y="14296"/>
                  <a:pt x="9360" y="14279"/>
                  <a:pt x="9376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3240" y="4919760"/>
            <a:ext cx="98640" cy="1080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8310" y="13667"/>
                </a:moveTo>
                <a:cubicBezTo>
                  <a:pt x="8462" y="13696"/>
                  <a:pt x="8619" y="13779"/>
                  <a:pt x="8434" y="13940"/>
                </a:cubicBezTo>
                <a:cubicBezTo>
                  <a:pt x="8361" y="14004"/>
                  <a:pt x="8277" y="13932"/>
                  <a:pt x="8260" y="13866"/>
                </a:cubicBezTo>
                <a:cubicBezTo>
                  <a:pt x="8365" y="13851"/>
                  <a:pt x="8427" y="13861"/>
                  <a:pt x="8533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71840" y="5500800"/>
            <a:ext cx="2278080" cy="169920"/>
          </a:xfrm>
          <a:custGeom>
            <a:avLst/>
            <a:gdLst/>
            <a:ahLst/>
            <a:rect l="l" t="t" r="r" b="b"/>
            <a:pathLst>
              <a:path w="6326" h="472">
                <a:moveTo>
                  <a:pt x="7144" y="15329"/>
                </a:moveTo>
                <a:cubicBezTo>
                  <a:pt x="7152" y="15329"/>
                  <a:pt x="7161" y="15329"/>
                  <a:pt x="7169" y="15329"/>
                </a:cubicBezTo>
              </a:path>
              <a:path w="6326" h="472">
                <a:moveTo>
                  <a:pt x="7169" y="15329"/>
                </a:moveTo>
                <a:lnTo>
                  <a:pt x="7169" y="15329"/>
                </a:lnTo>
              </a:path>
              <a:path w="6326" h="472">
                <a:moveTo>
                  <a:pt x="8062" y="15404"/>
                </a:moveTo>
                <a:lnTo>
                  <a:pt x="8062" y="15404"/>
                </a:lnTo>
                <a:lnTo>
                  <a:pt x="8062" y="15404"/>
                </a:lnTo>
              </a:path>
              <a:path w="6326" h="472">
                <a:moveTo>
                  <a:pt x="8062" y="15404"/>
                </a:moveTo>
                <a:lnTo>
                  <a:pt x="8062" y="15404"/>
                </a:lnTo>
              </a:path>
              <a:path w="6326" h="472">
                <a:moveTo>
                  <a:pt x="9029" y="15280"/>
                </a:moveTo>
                <a:cubicBezTo>
                  <a:pt x="9037" y="15280"/>
                  <a:pt x="9046" y="15280"/>
                  <a:pt x="9054" y="15280"/>
                </a:cubicBezTo>
              </a:path>
              <a:path w="6326" h="472">
                <a:moveTo>
                  <a:pt x="11038" y="15726"/>
                </a:moveTo>
                <a:cubicBezTo>
                  <a:pt x="11171" y="15726"/>
                  <a:pt x="11206" y="15722"/>
                  <a:pt x="11286" y="15751"/>
                </a:cubicBezTo>
              </a:path>
              <a:path w="6326" h="472">
                <a:moveTo>
                  <a:pt x="13171" y="15751"/>
                </a:moveTo>
                <a:cubicBezTo>
                  <a:pt x="13314" y="15751"/>
                  <a:pt x="13374" y="15746"/>
                  <a:pt x="13469" y="15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30280" y="5402160"/>
            <a:ext cx="1714680" cy="536760"/>
          </a:xfrm>
          <a:custGeom>
            <a:avLst/>
            <a:gdLst/>
            <a:ahLst/>
            <a:rect l="l" t="t" r="r" b="b"/>
            <a:pathLst>
              <a:path w="4764" h="1489">
                <a:moveTo>
                  <a:pt x="6648" y="15106"/>
                </a:moveTo>
                <a:cubicBezTo>
                  <a:pt x="6831" y="15106"/>
                  <a:pt x="6978" y="15228"/>
                  <a:pt x="6772" y="15404"/>
                </a:cubicBezTo>
                <a:cubicBezTo>
                  <a:pt x="6647" y="15510"/>
                  <a:pt x="6582" y="15493"/>
                  <a:pt x="6474" y="15429"/>
                </a:cubicBezTo>
                <a:cubicBezTo>
                  <a:pt x="6610" y="15323"/>
                  <a:pt x="6720" y="15274"/>
                  <a:pt x="6871" y="15404"/>
                </a:cubicBezTo>
                <a:cubicBezTo>
                  <a:pt x="6891" y="15444"/>
                  <a:pt x="6900" y="15450"/>
                  <a:pt x="6896" y="15478"/>
                </a:cubicBezTo>
              </a:path>
              <a:path w="4764" h="1489">
                <a:moveTo>
                  <a:pt x="7541" y="15156"/>
                </a:moveTo>
                <a:cubicBezTo>
                  <a:pt x="7638" y="15172"/>
                  <a:pt x="7834" y="15261"/>
                  <a:pt x="7714" y="15404"/>
                </a:cubicBezTo>
                <a:cubicBezTo>
                  <a:pt x="7632" y="15502"/>
                  <a:pt x="7517" y="15497"/>
                  <a:pt x="7417" y="15478"/>
                </a:cubicBezTo>
                <a:cubicBezTo>
                  <a:pt x="7535" y="15360"/>
                  <a:pt x="7611" y="15307"/>
                  <a:pt x="7739" y="15453"/>
                </a:cubicBezTo>
                <a:cubicBezTo>
                  <a:pt x="7781" y="15517"/>
                  <a:pt x="7784" y="15542"/>
                  <a:pt x="7838" y="15528"/>
                </a:cubicBezTo>
              </a:path>
              <a:path w="4764" h="1489">
                <a:moveTo>
                  <a:pt x="8434" y="15131"/>
                </a:moveTo>
                <a:cubicBezTo>
                  <a:pt x="8574" y="15109"/>
                  <a:pt x="8744" y="15154"/>
                  <a:pt x="8682" y="15354"/>
                </a:cubicBezTo>
                <a:cubicBezTo>
                  <a:pt x="8625" y="15536"/>
                  <a:pt x="8418" y="15452"/>
                  <a:pt x="8334" y="15379"/>
                </a:cubicBezTo>
                <a:cubicBezTo>
                  <a:pt x="8458" y="15311"/>
                  <a:pt x="8599" y="15310"/>
                  <a:pt x="8731" y="15404"/>
                </a:cubicBezTo>
                <a:cubicBezTo>
                  <a:pt x="8748" y="15416"/>
                  <a:pt x="8748" y="15462"/>
                  <a:pt x="8781" y="15478"/>
                </a:cubicBezTo>
              </a:path>
              <a:path w="4764" h="1489">
                <a:moveTo>
                  <a:pt x="9351" y="15007"/>
                </a:moveTo>
                <a:cubicBezTo>
                  <a:pt x="9490" y="15056"/>
                  <a:pt x="9710" y="15128"/>
                  <a:pt x="9674" y="15329"/>
                </a:cubicBezTo>
                <a:cubicBezTo>
                  <a:pt x="9631" y="15566"/>
                  <a:pt x="9392" y="15535"/>
                  <a:pt x="9252" y="15453"/>
                </a:cubicBezTo>
                <a:cubicBezTo>
                  <a:pt x="9412" y="15344"/>
                  <a:pt x="9484" y="15375"/>
                  <a:pt x="9624" y="15528"/>
                </a:cubicBezTo>
                <a:cubicBezTo>
                  <a:pt x="9679" y="15601"/>
                  <a:pt x="9704" y="15601"/>
                  <a:pt x="9699" y="15652"/>
                </a:cubicBezTo>
              </a:path>
              <a:path w="4764" h="1489">
                <a:moveTo>
                  <a:pt x="6821" y="15577"/>
                </a:moveTo>
                <a:cubicBezTo>
                  <a:pt x="6821" y="15610"/>
                  <a:pt x="6821" y="15594"/>
                  <a:pt x="6821" y="15627"/>
                </a:cubicBezTo>
                <a:cubicBezTo>
                  <a:pt x="6821" y="15679"/>
                  <a:pt x="6796" y="15723"/>
                  <a:pt x="6796" y="15776"/>
                </a:cubicBezTo>
                <a:cubicBezTo>
                  <a:pt x="7012" y="15776"/>
                  <a:pt x="7228" y="15760"/>
                  <a:pt x="7441" y="15801"/>
                </a:cubicBezTo>
                <a:cubicBezTo>
                  <a:pt x="7499" y="15820"/>
                  <a:pt x="7506" y="15828"/>
                  <a:pt x="7541" y="15825"/>
                </a:cubicBezTo>
                <a:cubicBezTo>
                  <a:pt x="7555" y="15724"/>
                  <a:pt x="7584" y="15626"/>
                  <a:pt x="7615" y="15528"/>
                </a:cubicBezTo>
              </a:path>
              <a:path w="4764" h="1489">
                <a:moveTo>
                  <a:pt x="7094" y="15925"/>
                </a:moveTo>
                <a:cubicBezTo>
                  <a:pt x="7085" y="15988"/>
                  <a:pt x="7068" y="16040"/>
                  <a:pt x="7045" y="16098"/>
                </a:cubicBezTo>
                <a:cubicBezTo>
                  <a:pt x="7149" y="16151"/>
                  <a:pt x="7253" y="16096"/>
                  <a:pt x="7367" y="16073"/>
                </a:cubicBezTo>
                <a:cubicBezTo>
                  <a:pt x="7392" y="16073"/>
                  <a:pt x="7400" y="16073"/>
                  <a:pt x="7392" y="16049"/>
                </a:cubicBezTo>
              </a:path>
              <a:path w="4764" h="1489">
                <a:moveTo>
                  <a:pt x="7392" y="15850"/>
                </a:moveTo>
                <a:cubicBezTo>
                  <a:pt x="7392" y="15941"/>
                  <a:pt x="7392" y="16032"/>
                  <a:pt x="7392" y="16123"/>
                </a:cubicBezTo>
              </a:path>
              <a:path w="4764" h="1489">
                <a:moveTo>
                  <a:pt x="7714" y="16123"/>
                </a:moveTo>
                <a:cubicBezTo>
                  <a:pt x="7931" y="16096"/>
                  <a:pt x="8138" y="16076"/>
                  <a:pt x="8359" y="16073"/>
                </a:cubicBezTo>
                <a:cubicBezTo>
                  <a:pt x="8593" y="16070"/>
                  <a:pt x="8538" y="16056"/>
                  <a:pt x="8582" y="15825"/>
                </a:cubicBezTo>
                <a:cubicBezTo>
                  <a:pt x="8597" y="15745"/>
                  <a:pt x="8607" y="15718"/>
                  <a:pt x="8607" y="15652"/>
                </a:cubicBezTo>
              </a:path>
              <a:path w="4764" h="1489">
                <a:moveTo>
                  <a:pt x="8830" y="15999"/>
                </a:moveTo>
                <a:cubicBezTo>
                  <a:pt x="8893" y="15999"/>
                  <a:pt x="8762" y="16021"/>
                  <a:pt x="8706" y="16049"/>
                </a:cubicBezTo>
                <a:cubicBezTo>
                  <a:pt x="8534" y="16134"/>
                  <a:pt x="8687" y="16250"/>
                  <a:pt x="8781" y="16321"/>
                </a:cubicBezTo>
                <a:cubicBezTo>
                  <a:pt x="8879" y="16396"/>
                  <a:pt x="8873" y="16381"/>
                  <a:pt x="8806" y="16470"/>
                </a:cubicBezTo>
                <a:cubicBezTo>
                  <a:pt x="8681" y="16453"/>
                  <a:pt x="8726" y="16346"/>
                  <a:pt x="8781" y="16247"/>
                </a:cubicBezTo>
                <a:cubicBezTo>
                  <a:pt x="8820" y="16177"/>
                  <a:pt x="8864" y="16161"/>
                  <a:pt x="8880" y="16098"/>
                </a:cubicBezTo>
              </a:path>
              <a:path w="4764" h="1489">
                <a:moveTo>
                  <a:pt x="9029" y="16247"/>
                </a:moveTo>
                <a:cubicBezTo>
                  <a:pt x="9188" y="16269"/>
                  <a:pt x="9339" y="16272"/>
                  <a:pt x="9500" y="16272"/>
                </a:cubicBezTo>
                <a:cubicBezTo>
                  <a:pt x="9508" y="16272"/>
                  <a:pt x="9517" y="16272"/>
                  <a:pt x="9525" y="16272"/>
                </a:cubicBezTo>
                <a:cubicBezTo>
                  <a:pt x="9541" y="16131"/>
                  <a:pt x="9585" y="16001"/>
                  <a:pt x="9550" y="15875"/>
                </a:cubicBezTo>
                <a:cubicBezTo>
                  <a:pt x="9550" y="15867"/>
                  <a:pt x="9550" y="15858"/>
                  <a:pt x="9550" y="15850"/>
                </a:cubicBezTo>
              </a:path>
              <a:path w="4764" h="1489">
                <a:moveTo>
                  <a:pt x="9971" y="16049"/>
                </a:moveTo>
                <a:cubicBezTo>
                  <a:pt x="9971" y="16182"/>
                  <a:pt x="9951" y="16313"/>
                  <a:pt x="9947" y="16446"/>
                </a:cubicBezTo>
                <a:cubicBezTo>
                  <a:pt x="9947" y="16462"/>
                  <a:pt x="9947" y="16479"/>
                  <a:pt x="9947" y="16495"/>
                </a:cubicBezTo>
              </a:path>
              <a:path w="4764" h="1489">
                <a:moveTo>
                  <a:pt x="10368" y="16073"/>
                </a:moveTo>
                <a:cubicBezTo>
                  <a:pt x="10388" y="16203"/>
                  <a:pt x="10325" y="16316"/>
                  <a:pt x="10368" y="16446"/>
                </a:cubicBezTo>
                <a:cubicBezTo>
                  <a:pt x="10418" y="16595"/>
                  <a:pt x="10682" y="16441"/>
                  <a:pt x="10716" y="16371"/>
                </a:cubicBezTo>
                <a:cubicBezTo>
                  <a:pt x="10716" y="16338"/>
                  <a:pt x="10716" y="16305"/>
                  <a:pt x="10716" y="16272"/>
                </a:cubicBezTo>
                <a:cubicBezTo>
                  <a:pt x="10607" y="16293"/>
                  <a:pt x="10554" y="16311"/>
                  <a:pt x="10517" y="16421"/>
                </a:cubicBezTo>
              </a:path>
              <a:path w="4764" h="1489">
                <a:moveTo>
                  <a:pt x="11038" y="15453"/>
                </a:moveTo>
                <a:cubicBezTo>
                  <a:pt x="11091" y="15464"/>
                  <a:pt x="11212" y="15478"/>
                  <a:pt x="11237" y="15528"/>
                </a:cubicBezTo>
                <a:cubicBezTo>
                  <a:pt x="11237" y="15544"/>
                  <a:pt x="11237" y="15561"/>
                  <a:pt x="11237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03800" y="5330880"/>
            <a:ext cx="1117440" cy="536400"/>
          </a:xfrm>
          <a:custGeom>
            <a:avLst/>
            <a:gdLst/>
            <a:ahLst/>
            <a:rect l="l" t="t" r="r" b="b"/>
            <a:pathLst>
              <a:path w="3101" h="1490">
                <a:moveTo>
                  <a:pt x="12129" y="14858"/>
                </a:moveTo>
                <a:cubicBezTo>
                  <a:pt x="12155" y="15060"/>
                  <a:pt x="12167" y="15253"/>
                  <a:pt x="12129" y="15453"/>
                </a:cubicBezTo>
              </a:path>
              <a:path w="3101" h="1490">
                <a:moveTo>
                  <a:pt x="12502" y="14932"/>
                </a:moveTo>
                <a:cubicBezTo>
                  <a:pt x="12464" y="15103"/>
                  <a:pt x="12398" y="15249"/>
                  <a:pt x="12452" y="15429"/>
                </a:cubicBezTo>
                <a:cubicBezTo>
                  <a:pt x="12516" y="15640"/>
                  <a:pt x="12721" y="15435"/>
                  <a:pt x="12774" y="15354"/>
                </a:cubicBezTo>
                <a:cubicBezTo>
                  <a:pt x="12607" y="15232"/>
                  <a:pt x="12534" y="15334"/>
                  <a:pt x="12477" y="15528"/>
                </a:cubicBezTo>
                <a:cubicBezTo>
                  <a:pt x="12477" y="15536"/>
                  <a:pt x="12477" y="15545"/>
                  <a:pt x="12477" y="15553"/>
                </a:cubicBezTo>
              </a:path>
              <a:path w="3101" h="1490">
                <a:moveTo>
                  <a:pt x="11956" y="15627"/>
                </a:moveTo>
                <a:cubicBezTo>
                  <a:pt x="12205" y="15603"/>
                  <a:pt x="12449" y="15602"/>
                  <a:pt x="12700" y="15602"/>
                </a:cubicBezTo>
              </a:path>
              <a:path w="3101" h="1490">
                <a:moveTo>
                  <a:pt x="12402" y="15801"/>
                </a:moveTo>
                <a:cubicBezTo>
                  <a:pt x="12261" y="15817"/>
                  <a:pt x="12227" y="15827"/>
                  <a:pt x="12129" y="15925"/>
                </a:cubicBezTo>
                <a:cubicBezTo>
                  <a:pt x="12198" y="15972"/>
                  <a:pt x="12567" y="16134"/>
                  <a:pt x="12526" y="16247"/>
                </a:cubicBezTo>
                <a:cubicBezTo>
                  <a:pt x="12501" y="16264"/>
                  <a:pt x="12477" y="16280"/>
                  <a:pt x="12452" y="16297"/>
                </a:cubicBezTo>
                <a:cubicBezTo>
                  <a:pt x="12143" y="16189"/>
                  <a:pt x="12178" y="16156"/>
                  <a:pt x="12402" y="15949"/>
                </a:cubicBezTo>
                <a:cubicBezTo>
                  <a:pt x="12493" y="15859"/>
                  <a:pt x="12539" y="15829"/>
                  <a:pt x="12402" y="15825"/>
                </a:cubicBezTo>
              </a:path>
              <a:path w="3101" h="1490">
                <a:moveTo>
                  <a:pt x="13171" y="15528"/>
                </a:moveTo>
                <a:cubicBezTo>
                  <a:pt x="13254" y="15545"/>
                  <a:pt x="13329" y="15553"/>
                  <a:pt x="13419" y="15553"/>
                </a:cubicBezTo>
              </a:path>
              <a:path w="3101" h="1490">
                <a:moveTo>
                  <a:pt x="13990" y="15354"/>
                </a:moveTo>
                <a:cubicBezTo>
                  <a:pt x="14064" y="15335"/>
                  <a:pt x="14134" y="15276"/>
                  <a:pt x="14213" y="15255"/>
                </a:cubicBezTo>
                <a:cubicBezTo>
                  <a:pt x="14226" y="15530"/>
                  <a:pt x="14154" y="15646"/>
                  <a:pt x="13915" y="15801"/>
                </a:cubicBezTo>
                <a:cubicBezTo>
                  <a:pt x="13882" y="15817"/>
                  <a:pt x="13849" y="15834"/>
                  <a:pt x="13816" y="15850"/>
                </a:cubicBezTo>
                <a:cubicBezTo>
                  <a:pt x="13934" y="15776"/>
                  <a:pt x="14071" y="15703"/>
                  <a:pt x="14213" y="15751"/>
                </a:cubicBezTo>
                <a:cubicBezTo>
                  <a:pt x="14376" y="15806"/>
                  <a:pt x="14360" y="15799"/>
                  <a:pt x="14536" y="15776"/>
                </a:cubicBezTo>
                <a:cubicBezTo>
                  <a:pt x="14561" y="15776"/>
                  <a:pt x="14585" y="15776"/>
                  <a:pt x="14610" y="15776"/>
                </a:cubicBezTo>
              </a:path>
              <a:path w="3101" h="1490">
                <a:moveTo>
                  <a:pt x="13643" y="15925"/>
                </a:moveTo>
                <a:cubicBezTo>
                  <a:pt x="13852" y="16081"/>
                  <a:pt x="14094" y="16159"/>
                  <a:pt x="14362" y="16148"/>
                </a:cubicBezTo>
                <a:cubicBezTo>
                  <a:pt x="14701" y="16134"/>
                  <a:pt x="15034" y="15895"/>
                  <a:pt x="15056" y="15528"/>
                </a:cubicBezTo>
                <a:cubicBezTo>
                  <a:pt x="15079" y="15134"/>
                  <a:pt x="14686" y="14917"/>
                  <a:pt x="14362" y="14833"/>
                </a:cubicBezTo>
                <a:cubicBezTo>
                  <a:pt x="14013" y="14742"/>
                  <a:pt x="13805" y="14926"/>
                  <a:pt x="13618" y="15205"/>
                </a:cubicBezTo>
                <a:cubicBezTo>
                  <a:pt x="13334" y="15629"/>
                  <a:pt x="13372" y="15942"/>
                  <a:pt x="13891" y="16098"/>
                </a:cubicBezTo>
                <a:cubicBezTo>
                  <a:pt x="13982" y="16106"/>
                  <a:pt x="14072" y="16115"/>
                  <a:pt x="14163" y="16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2880" y="5072040"/>
            <a:ext cx="241200" cy="108000"/>
          </a:xfrm>
          <a:custGeom>
            <a:avLst/>
            <a:gdLst/>
            <a:ahLst/>
            <a:rect l="l" t="t" r="r" b="b"/>
            <a:pathLst>
              <a:path w="670" h="299">
                <a:moveTo>
                  <a:pt x="5581" y="14139"/>
                </a:moveTo>
                <a:cubicBezTo>
                  <a:pt x="5687" y="14098"/>
                  <a:pt x="5871" y="14103"/>
                  <a:pt x="5755" y="14288"/>
                </a:cubicBezTo>
                <a:cubicBezTo>
                  <a:pt x="5658" y="14441"/>
                  <a:pt x="5569" y="14414"/>
                  <a:pt x="5507" y="14288"/>
                </a:cubicBezTo>
                <a:cubicBezTo>
                  <a:pt x="5602" y="14256"/>
                  <a:pt x="5622" y="14266"/>
                  <a:pt x="5705" y="14312"/>
                </a:cubicBezTo>
              </a:path>
              <a:path w="670" h="299">
                <a:moveTo>
                  <a:pt x="6028" y="14089"/>
                </a:moveTo>
                <a:cubicBezTo>
                  <a:pt x="6028" y="14191"/>
                  <a:pt x="6023" y="14142"/>
                  <a:pt x="6127" y="14238"/>
                </a:cubicBezTo>
                <a:cubicBezTo>
                  <a:pt x="6244" y="14346"/>
                  <a:pt x="6082" y="14296"/>
                  <a:pt x="6028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43760" y="4473720"/>
            <a:ext cx="27000" cy="196560"/>
          </a:xfrm>
          <a:custGeom>
            <a:avLst/>
            <a:gdLst/>
            <a:ahLst/>
            <a:rect l="l" t="t" r="r" b="b"/>
            <a:pathLst>
              <a:path w="75" h="547">
                <a:moveTo>
                  <a:pt x="17066" y="12427"/>
                </a:moveTo>
                <a:cubicBezTo>
                  <a:pt x="17066" y="12444"/>
                  <a:pt x="17066" y="12460"/>
                  <a:pt x="17066" y="12477"/>
                </a:cubicBezTo>
              </a:path>
              <a:path w="75" h="547">
                <a:moveTo>
                  <a:pt x="17066" y="12477"/>
                </a:moveTo>
                <a:lnTo>
                  <a:pt x="17066" y="12477"/>
                </a:lnTo>
              </a:path>
              <a:path w="75" h="547">
                <a:moveTo>
                  <a:pt x="17140" y="12973"/>
                </a:moveTo>
                <a:lnTo>
                  <a:pt x="17140" y="1297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72120" y="2438280"/>
            <a:ext cx="492120" cy="98640"/>
          </a:xfrm>
          <a:custGeom>
            <a:avLst/>
            <a:gdLst/>
            <a:ahLst/>
            <a:rect l="l" t="t" r="r" b="b"/>
            <a:pathLst>
              <a:path w="1365" h="274">
                <a:moveTo>
                  <a:pt x="16867" y="6846"/>
                </a:moveTo>
                <a:cubicBezTo>
                  <a:pt x="16867" y="6821"/>
                  <a:pt x="16867" y="6813"/>
                  <a:pt x="16892" y="6821"/>
                </a:cubicBezTo>
                <a:cubicBezTo>
                  <a:pt x="16892" y="6864"/>
                  <a:pt x="16866" y="6993"/>
                  <a:pt x="16917" y="6995"/>
                </a:cubicBezTo>
                <a:cubicBezTo>
                  <a:pt x="17097" y="7003"/>
                  <a:pt x="17251" y="6969"/>
                  <a:pt x="17438" y="6995"/>
                </a:cubicBezTo>
                <a:cubicBezTo>
                  <a:pt x="17590" y="7016"/>
                  <a:pt x="17731" y="7020"/>
                  <a:pt x="17884" y="7020"/>
                </a:cubicBezTo>
                <a:cubicBezTo>
                  <a:pt x="17977" y="7020"/>
                  <a:pt x="18047" y="7030"/>
                  <a:pt x="18132" y="7045"/>
                </a:cubicBezTo>
                <a:cubicBezTo>
                  <a:pt x="18161" y="7050"/>
                  <a:pt x="18201" y="7045"/>
                  <a:pt x="18231" y="7045"/>
                </a:cubicBezTo>
                <a:cubicBezTo>
                  <a:pt x="18231" y="6974"/>
                  <a:pt x="18220" y="6912"/>
                  <a:pt x="18207" y="6846"/>
                </a:cubicBezTo>
                <a:cubicBezTo>
                  <a:pt x="18202" y="6822"/>
                  <a:pt x="18226" y="6810"/>
                  <a:pt x="18231" y="67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70760" y="2589120"/>
            <a:ext cx="142560" cy="1890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7239" y="7193"/>
                </a:moveTo>
                <a:cubicBezTo>
                  <a:pt x="17239" y="7332"/>
                  <a:pt x="17161" y="7450"/>
                  <a:pt x="17140" y="7590"/>
                </a:cubicBezTo>
                <a:cubicBezTo>
                  <a:pt x="17140" y="7658"/>
                  <a:pt x="17137" y="7677"/>
                  <a:pt x="17165" y="7714"/>
                </a:cubicBezTo>
                <a:cubicBezTo>
                  <a:pt x="17348" y="7677"/>
                  <a:pt x="17453" y="7616"/>
                  <a:pt x="17537" y="7441"/>
                </a:cubicBezTo>
                <a:cubicBezTo>
                  <a:pt x="17537" y="7395"/>
                  <a:pt x="17519" y="7375"/>
                  <a:pt x="17462" y="7367"/>
                </a:cubicBezTo>
                <a:cubicBezTo>
                  <a:pt x="17330" y="7391"/>
                  <a:pt x="17261" y="7486"/>
                  <a:pt x="17289" y="7640"/>
                </a:cubicBezTo>
                <a:cubicBezTo>
                  <a:pt x="17343" y="7640"/>
                  <a:pt x="17377" y="7627"/>
                  <a:pt x="17413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30960" y="2598840"/>
            <a:ext cx="125280" cy="63360"/>
          </a:xfrm>
          <a:custGeom>
            <a:avLst/>
            <a:gdLst/>
            <a:ahLst/>
            <a:rect l="l" t="t" r="r" b="b"/>
            <a:pathLst>
              <a:path w="348" h="175">
                <a:moveTo>
                  <a:pt x="17661" y="7218"/>
                </a:moveTo>
                <a:cubicBezTo>
                  <a:pt x="17634" y="7267"/>
                  <a:pt x="17603" y="7317"/>
                  <a:pt x="17587" y="7367"/>
                </a:cubicBezTo>
                <a:cubicBezTo>
                  <a:pt x="17702" y="7384"/>
                  <a:pt x="17820" y="7421"/>
                  <a:pt x="17934" y="7367"/>
                </a:cubicBezTo>
                <a:cubicBezTo>
                  <a:pt x="17934" y="7359"/>
                  <a:pt x="17934" y="7350"/>
                  <a:pt x="17934" y="73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29240" y="2562120"/>
            <a:ext cx="9720" cy="206640"/>
          </a:xfrm>
          <a:custGeom>
            <a:avLst/>
            <a:gdLst/>
            <a:ahLst/>
            <a:rect l="l" t="t" r="r" b="b"/>
            <a:pathLst>
              <a:path w="26" h="571">
                <a:moveTo>
                  <a:pt x="17884" y="7119"/>
                </a:moveTo>
                <a:cubicBezTo>
                  <a:pt x="17884" y="7262"/>
                  <a:pt x="17848" y="7396"/>
                  <a:pt x="17859" y="7541"/>
                </a:cubicBezTo>
                <a:cubicBezTo>
                  <a:pt x="17877" y="7632"/>
                  <a:pt x="17886" y="7639"/>
                  <a:pt x="17884" y="76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34080" y="2616120"/>
            <a:ext cx="9720" cy="125640"/>
          </a:xfrm>
          <a:custGeom>
            <a:avLst/>
            <a:gdLst/>
            <a:ahLst/>
            <a:rect l="l" t="t" r="r" b="b"/>
            <a:pathLst>
              <a:path w="26" h="348">
                <a:moveTo>
                  <a:pt x="18455" y="7268"/>
                </a:moveTo>
                <a:cubicBezTo>
                  <a:pt x="18455" y="7348"/>
                  <a:pt x="18486" y="7627"/>
                  <a:pt x="18430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1880" y="2643120"/>
            <a:ext cx="204840" cy="27000"/>
          </a:xfrm>
          <a:custGeom>
            <a:avLst/>
            <a:gdLst/>
            <a:ahLst/>
            <a:rect l="l" t="t" r="r" b="b"/>
            <a:pathLst>
              <a:path w="572" h="76">
                <a:moveTo>
                  <a:pt x="18281" y="7417"/>
                </a:moveTo>
                <a:cubicBezTo>
                  <a:pt x="18431" y="7403"/>
                  <a:pt x="18578" y="7359"/>
                  <a:pt x="18728" y="7342"/>
                </a:cubicBezTo>
                <a:cubicBezTo>
                  <a:pt x="18794" y="7342"/>
                  <a:pt x="18811" y="7342"/>
                  <a:pt x="18852" y="73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23080" y="2544840"/>
            <a:ext cx="98280" cy="196920"/>
          </a:xfrm>
          <a:custGeom>
            <a:avLst/>
            <a:gdLst/>
            <a:ahLst/>
            <a:rect l="l" t="t" r="r" b="b"/>
            <a:pathLst>
              <a:path w="274" h="547">
                <a:moveTo>
                  <a:pt x="19199" y="7069"/>
                </a:moveTo>
                <a:cubicBezTo>
                  <a:pt x="19077" y="7101"/>
                  <a:pt x="19031" y="7103"/>
                  <a:pt x="18951" y="7193"/>
                </a:cubicBezTo>
                <a:cubicBezTo>
                  <a:pt x="19015" y="7302"/>
                  <a:pt x="19210" y="7369"/>
                  <a:pt x="19224" y="7491"/>
                </a:cubicBezTo>
                <a:cubicBezTo>
                  <a:pt x="19196" y="7575"/>
                  <a:pt x="19177" y="7605"/>
                  <a:pt x="19100" y="7615"/>
                </a:cubicBezTo>
                <a:cubicBezTo>
                  <a:pt x="18980" y="7462"/>
                  <a:pt x="19066" y="7380"/>
                  <a:pt x="19149" y="7218"/>
                </a:cubicBezTo>
                <a:cubicBezTo>
                  <a:pt x="19166" y="7185"/>
                  <a:pt x="19182" y="7152"/>
                  <a:pt x="19199" y="7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84960" y="2776680"/>
            <a:ext cx="428760" cy="134640"/>
          </a:xfrm>
          <a:custGeom>
            <a:avLst/>
            <a:gdLst/>
            <a:ahLst/>
            <a:rect l="l" t="t" r="r" b="b"/>
            <a:pathLst>
              <a:path w="1192" h="373">
                <a:moveTo>
                  <a:pt x="17735" y="7838"/>
                </a:moveTo>
                <a:cubicBezTo>
                  <a:pt x="17806" y="7862"/>
                  <a:pt x="17744" y="8001"/>
                  <a:pt x="17735" y="8062"/>
                </a:cubicBezTo>
                <a:cubicBezTo>
                  <a:pt x="17735" y="8070"/>
                  <a:pt x="17735" y="8078"/>
                  <a:pt x="17735" y="8086"/>
                </a:cubicBezTo>
                <a:cubicBezTo>
                  <a:pt x="17904" y="8054"/>
                  <a:pt x="18080" y="8029"/>
                  <a:pt x="18256" y="8012"/>
                </a:cubicBezTo>
                <a:cubicBezTo>
                  <a:pt x="18375" y="8000"/>
                  <a:pt x="18757" y="8028"/>
                  <a:pt x="18852" y="7987"/>
                </a:cubicBezTo>
                <a:cubicBezTo>
                  <a:pt x="18916" y="7959"/>
                  <a:pt x="18881" y="7880"/>
                  <a:pt x="18901" y="7813"/>
                </a:cubicBezTo>
                <a:cubicBezTo>
                  <a:pt x="18916" y="7764"/>
                  <a:pt x="18876" y="7731"/>
                  <a:pt x="18926" y="77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38960" y="2990880"/>
            <a:ext cx="160200" cy="162000"/>
          </a:xfrm>
          <a:custGeom>
            <a:avLst/>
            <a:gdLst/>
            <a:ahLst/>
            <a:rect l="l" t="t" r="r" b="b"/>
            <a:pathLst>
              <a:path w="448" h="447">
                <a:moveTo>
                  <a:pt x="17884" y="8334"/>
                </a:moveTo>
                <a:cubicBezTo>
                  <a:pt x="18036" y="8334"/>
                  <a:pt x="18181" y="8322"/>
                  <a:pt x="18331" y="8310"/>
                </a:cubicBezTo>
                <a:cubicBezTo>
                  <a:pt x="18292" y="8442"/>
                  <a:pt x="18219" y="8572"/>
                  <a:pt x="18132" y="8682"/>
                </a:cubicBezTo>
                <a:cubicBezTo>
                  <a:pt x="18093" y="8721"/>
                  <a:pt x="18077" y="8722"/>
                  <a:pt x="18083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6160" y="3000240"/>
            <a:ext cx="169920" cy="169920"/>
          </a:xfrm>
          <a:custGeom>
            <a:avLst/>
            <a:gdLst/>
            <a:ahLst/>
            <a:rect l="l" t="t" r="r" b="b"/>
            <a:pathLst>
              <a:path w="472" h="473">
                <a:moveTo>
                  <a:pt x="18479" y="8409"/>
                </a:moveTo>
                <a:cubicBezTo>
                  <a:pt x="18537" y="8366"/>
                  <a:pt x="18629" y="8349"/>
                  <a:pt x="18703" y="8334"/>
                </a:cubicBezTo>
                <a:cubicBezTo>
                  <a:pt x="18711" y="8334"/>
                  <a:pt x="18720" y="8334"/>
                  <a:pt x="18728" y="8334"/>
                </a:cubicBezTo>
                <a:cubicBezTo>
                  <a:pt x="18779" y="8509"/>
                  <a:pt x="18697" y="8615"/>
                  <a:pt x="18554" y="8731"/>
                </a:cubicBezTo>
                <a:cubicBezTo>
                  <a:pt x="18464" y="8785"/>
                  <a:pt x="18463" y="8810"/>
                  <a:pt x="18405" y="8806"/>
                </a:cubicBezTo>
                <a:cubicBezTo>
                  <a:pt x="18503" y="8735"/>
                  <a:pt x="18602" y="8692"/>
                  <a:pt x="18728" y="8706"/>
                </a:cubicBezTo>
                <a:cubicBezTo>
                  <a:pt x="18810" y="8727"/>
                  <a:pt x="18825" y="8735"/>
                  <a:pt x="18876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59680" y="2884320"/>
            <a:ext cx="723600" cy="347760"/>
          </a:xfrm>
          <a:custGeom>
            <a:avLst/>
            <a:gdLst/>
            <a:ahLst/>
            <a:rect l="l" t="t" r="r" b="b"/>
            <a:pathLst>
              <a:path w="2010" h="968">
                <a:moveTo>
                  <a:pt x="17562" y="8905"/>
                </a:moveTo>
                <a:cubicBezTo>
                  <a:pt x="17796" y="8977"/>
                  <a:pt x="18060" y="8965"/>
                  <a:pt x="18306" y="8954"/>
                </a:cubicBezTo>
                <a:cubicBezTo>
                  <a:pt x="18624" y="8940"/>
                  <a:pt x="18992" y="8953"/>
                  <a:pt x="19248" y="8731"/>
                </a:cubicBezTo>
                <a:cubicBezTo>
                  <a:pt x="19333" y="8625"/>
                  <a:pt x="19354" y="8604"/>
                  <a:pt x="19397" y="8533"/>
                </a:cubicBezTo>
                <a:cubicBezTo>
                  <a:pt x="19335" y="8270"/>
                  <a:pt x="19136" y="8199"/>
                  <a:pt x="18876" y="8111"/>
                </a:cubicBezTo>
                <a:cubicBezTo>
                  <a:pt x="18451" y="7968"/>
                  <a:pt x="18035" y="7939"/>
                  <a:pt x="17686" y="8260"/>
                </a:cubicBezTo>
                <a:cubicBezTo>
                  <a:pt x="17334" y="8584"/>
                  <a:pt x="17362" y="8684"/>
                  <a:pt x="17562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010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se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tember 14, 2011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440" y="312408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Objective:  Students will interpret and write a rule for a one-operation function 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00680" y="4822920"/>
            <a:ext cx="3098520" cy="214200"/>
          </a:xfrm>
          <a:custGeom>
            <a:avLst/>
            <a:gdLst/>
            <a:ahLst/>
            <a:rect l="l" t="t" r="r" b="b"/>
            <a:pathLst>
              <a:path w="8609" h="596">
                <a:moveTo>
                  <a:pt x="11112" y="13395"/>
                </a:moveTo>
                <a:cubicBezTo>
                  <a:pt x="11153" y="13447"/>
                  <a:pt x="11143" y="13520"/>
                  <a:pt x="11212" y="13568"/>
                </a:cubicBezTo>
                <a:cubicBezTo>
                  <a:pt x="11418" y="13710"/>
                  <a:pt x="11648" y="13543"/>
                  <a:pt x="11857" y="13568"/>
                </a:cubicBezTo>
                <a:cubicBezTo>
                  <a:pt x="12022" y="13588"/>
                  <a:pt x="11818" y="13616"/>
                  <a:pt x="12005" y="13643"/>
                </a:cubicBezTo>
                <a:cubicBezTo>
                  <a:pt x="12219" y="13674"/>
                  <a:pt x="12448" y="13507"/>
                  <a:pt x="12626" y="13543"/>
                </a:cubicBezTo>
                <a:cubicBezTo>
                  <a:pt x="12632" y="13544"/>
                  <a:pt x="12734" y="13679"/>
                  <a:pt x="12849" y="13692"/>
                </a:cubicBezTo>
                <a:cubicBezTo>
                  <a:pt x="13044" y="13714"/>
                  <a:pt x="13176" y="13639"/>
                  <a:pt x="13345" y="13593"/>
                </a:cubicBezTo>
                <a:cubicBezTo>
                  <a:pt x="13478" y="13751"/>
                  <a:pt x="13537" y="13819"/>
                  <a:pt x="13791" y="13816"/>
                </a:cubicBezTo>
                <a:cubicBezTo>
                  <a:pt x="13963" y="13814"/>
                  <a:pt x="14211" y="13655"/>
                  <a:pt x="14312" y="13667"/>
                </a:cubicBezTo>
                <a:cubicBezTo>
                  <a:pt x="14503" y="13690"/>
                  <a:pt x="14671" y="13842"/>
                  <a:pt x="14957" y="13816"/>
                </a:cubicBezTo>
                <a:cubicBezTo>
                  <a:pt x="15086" y="13804"/>
                  <a:pt x="15483" y="13643"/>
                  <a:pt x="15553" y="13667"/>
                </a:cubicBezTo>
                <a:cubicBezTo>
                  <a:pt x="15748" y="13735"/>
                  <a:pt x="15738" y="13943"/>
                  <a:pt x="16148" y="13866"/>
                </a:cubicBezTo>
                <a:cubicBezTo>
                  <a:pt x="16256" y="13846"/>
                  <a:pt x="16492" y="13744"/>
                  <a:pt x="16570" y="13767"/>
                </a:cubicBezTo>
                <a:cubicBezTo>
                  <a:pt x="16885" y="13858"/>
                  <a:pt x="16943" y="14028"/>
                  <a:pt x="17338" y="13990"/>
                </a:cubicBezTo>
                <a:cubicBezTo>
                  <a:pt x="17405" y="13984"/>
                  <a:pt x="17878" y="13838"/>
                  <a:pt x="17909" y="13841"/>
                </a:cubicBezTo>
                <a:cubicBezTo>
                  <a:pt x="18168" y="13867"/>
                  <a:pt x="18313" y="13971"/>
                  <a:pt x="18653" y="13866"/>
                </a:cubicBezTo>
                <a:cubicBezTo>
                  <a:pt x="19142" y="13716"/>
                  <a:pt x="18759" y="13795"/>
                  <a:pt x="19000" y="13816"/>
                </a:cubicBezTo>
                <a:cubicBezTo>
                  <a:pt x="19252" y="13838"/>
                  <a:pt x="19476" y="13761"/>
                  <a:pt x="19720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understand and write a rule for a function table.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Rul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what’s happening in the function. Includes at least one operation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a process that creates pairs of #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Input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the # you put in the function.  (Starting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utput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the # that comes out. (Ending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-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8120" y="4952880"/>
            <a:ext cx="2857320" cy="1552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12880" y="3946680"/>
            <a:ext cx="1027080" cy="982440"/>
          </a:xfrm>
          <a:custGeom>
            <a:avLst/>
            <a:gdLst/>
            <a:ahLst/>
            <a:rect l="l" t="t" r="r" b="b"/>
            <a:pathLst>
              <a:path w="2854" h="2729">
                <a:moveTo>
                  <a:pt x="2282" y="11038"/>
                </a:moveTo>
                <a:cubicBezTo>
                  <a:pt x="2368" y="11007"/>
                  <a:pt x="2528" y="10990"/>
                  <a:pt x="2654" y="10988"/>
                </a:cubicBezTo>
                <a:cubicBezTo>
                  <a:pt x="3106" y="10982"/>
                  <a:pt x="3596" y="10940"/>
                  <a:pt x="4043" y="10964"/>
                </a:cubicBezTo>
                <a:cubicBezTo>
                  <a:pt x="4134" y="10969"/>
                  <a:pt x="4222" y="10988"/>
                  <a:pt x="4316" y="10988"/>
                </a:cubicBezTo>
                <a:cubicBezTo>
                  <a:pt x="4357" y="10988"/>
                  <a:pt x="4365" y="10988"/>
                  <a:pt x="4390" y="10988"/>
                </a:cubicBezTo>
              </a:path>
              <a:path w="2854" h="2729">
                <a:moveTo>
                  <a:pt x="2257" y="13444"/>
                </a:moveTo>
                <a:cubicBezTo>
                  <a:pt x="2320" y="13526"/>
                  <a:pt x="2401" y="13716"/>
                  <a:pt x="2555" y="13692"/>
                </a:cubicBezTo>
                <a:cubicBezTo>
                  <a:pt x="2688" y="13671"/>
                  <a:pt x="2734" y="13541"/>
                  <a:pt x="2778" y="13444"/>
                </a:cubicBezTo>
                <a:cubicBezTo>
                  <a:pt x="2799" y="13540"/>
                  <a:pt x="2820" y="13608"/>
                  <a:pt x="2952" y="13618"/>
                </a:cubicBezTo>
                <a:cubicBezTo>
                  <a:pt x="3146" y="13633"/>
                  <a:pt x="3223" y="13546"/>
                  <a:pt x="3324" y="13419"/>
                </a:cubicBezTo>
                <a:cubicBezTo>
                  <a:pt x="3382" y="13506"/>
                  <a:pt x="3404" y="13586"/>
                  <a:pt x="3547" y="13519"/>
                </a:cubicBezTo>
                <a:cubicBezTo>
                  <a:pt x="3632" y="13479"/>
                  <a:pt x="3702" y="13384"/>
                  <a:pt x="3770" y="13320"/>
                </a:cubicBezTo>
                <a:cubicBezTo>
                  <a:pt x="3797" y="13435"/>
                  <a:pt x="3825" y="13529"/>
                  <a:pt x="3969" y="13568"/>
                </a:cubicBezTo>
                <a:cubicBezTo>
                  <a:pt x="4146" y="13616"/>
                  <a:pt x="4261" y="13506"/>
                  <a:pt x="4390" y="13419"/>
                </a:cubicBezTo>
                <a:cubicBezTo>
                  <a:pt x="4409" y="13481"/>
                  <a:pt x="4436" y="13607"/>
                  <a:pt x="4539" y="13593"/>
                </a:cubicBezTo>
                <a:cubicBezTo>
                  <a:pt x="4666" y="13576"/>
                  <a:pt x="4710" y="13438"/>
                  <a:pt x="4762" y="13345"/>
                </a:cubicBezTo>
                <a:cubicBezTo>
                  <a:pt x="4769" y="13409"/>
                  <a:pt x="4749" y="13475"/>
                  <a:pt x="4837" y="13469"/>
                </a:cubicBezTo>
                <a:cubicBezTo>
                  <a:pt x="4975" y="13460"/>
                  <a:pt x="5039" y="13383"/>
                  <a:pt x="5110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5640" y="3581280"/>
            <a:ext cx="2376360" cy="2963880"/>
          </a:xfrm>
          <a:custGeom>
            <a:avLst/>
            <a:gdLst/>
            <a:ahLst/>
            <a:rect l="l" t="t" r="r" b="b"/>
            <a:pathLst>
              <a:path w="6599" h="8236">
                <a:moveTo>
                  <a:pt x="18802" y="10046"/>
                </a:moveTo>
                <a:cubicBezTo>
                  <a:pt x="18972" y="10023"/>
                  <a:pt x="19150" y="10003"/>
                  <a:pt x="19323" y="9996"/>
                </a:cubicBezTo>
                <a:cubicBezTo>
                  <a:pt x="19630" y="9984"/>
                  <a:pt x="19934" y="9971"/>
                  <a:pt x="20241" y="9971"/>
                </a:cubicBezTo>
                <a:cubicBezTo>
                  <a:pt x="20565" y="9971"/>
                  <a:pt x="20886" y="9963"/>
                  <a:pt x="21208" y="9947"/>
                </a:cubicBezTo>
                <a:cubicBezTo>
                  <a:pt x="21352" y="9940"/>
                  <a:pt x="21502" y="9958"/>
                  <a:pt x="21630" y="9971"/>
                </a:cubicBezTo>
                <a:cubicBezTo>
                  <a:pt x="21702" y="9978"/>
                  <a:pt x="21761" y="9985"/>
                  <a:pt x="21828" y="9996"/>
                </a:cubicBezTo>
                <a:cubicBezTo>
                  <a:pt x="21845" y="9996"/>
                  <a:pt x="21861" y="9996"/>
                  <a:pt x="21878" y="9996"/>
                </a:cubicBezTo>
              </a:path>
              <a:path w="6599" h="8236">
                <a:moveTo>
                  <a:pt x="15850" y="12179"/>
                </a:moveTo>
                <a:cubicBezTo>
                  <a:pt x="15904" y="12194"/>
                  <a:pt x="15952" y="12220"/>
                  <a:pt x="16049" y="12229"/>
                </a:cubicBezTo>
                <a:cubicBezTo>
                  <a:pt x="16203" y="12243"/>
                  <a:pt x="16364" y="12204"/>
                  <a:pt x="16520" y="12204"/>
                </a:cubicBezTo>
                <a:cubicBezTo>
                  <a:pt x="16638" y="12204"/>
                  <a:pt x="16752" y="12197"/>
                  <a:pt x="16867" y="12179"/>
                </a:cubicBezTo>
                <a:cubicBezTo>
                  <a:pt x="16993" y="12159"/>
                  <a:pt x="17113" y="12168"/>
                  <a:pt x="17239" y="12154"/>
                </a:cubicBezTo>
                <a:cubicBezTo>
                  <a:pt x="17368" y="12139"/>
                  <a:pt x="17509" y="12125"/>
                  <a:pt x="17636" y="12105"/>
                </a:cubicBezTo>
                <a:cubicBezTo>
                  <a:pt x="17778" y="12083"/>
                  <a:pt x="17913" y="12080"/>
                  <a:pt x="18058" y="12080"/>
                </a:cubicBezTo>
                <a:cubicBezTo>
                  <a:pt x="18233" y="12080"/>
                  <a:pt x="18406" y="12088"/>
                  <a:pt x="18579" y="12105"/>
                </a:cubicBezTo>
                <a:cubicBezTo>
                  <a:pt x="18802" y="12128"/>
                  <a:pt x="19026" y="12133"/>
                  <a:pt x="19248" y="12154"/>
                </a:cubicBezTo>
                <a:cubicBezTo>
                  <a:pt x="19519" y="12180"/>
                  <a:pt x="19795" y="12198"/>
                  <a:pt x="20067" y="12204"/>
                </a:cubicBezTo>
                <a:cubicBezTo>
                  <a:pt x="20227" y="12207"/>
                  <a:pt x="20380" y="12218"/>
                  <a:pt x="20538" y="12229"/>
                </a:cubicBezTo>
                <a:cubicBezTo>
                  <a:pt x="20931" y="12255"/>
                  <a:pt x="21352" y="12220"/>
                  <a:pt x="21729" y="12254"/>
                </a:cubicBezTo>
                <a:cubicBezTo>
                  <a:pt x="21737" y="12254"/>
                  <a:pt x="21746" y="12254"/>
                  <a:pt x="21754" y="12254"/>
                </a:cubicBezTo>
              </a:path>
              <a:path w="6599" h="8236">
                <a:moveTo>
                  <a:pt x="22275" y="13469"/>
                </a:moveTo>
                <a:cubicBezTo>
                  <a:pt x="22307" y="13586"/>
                  <a:pt x="22355" y="13719"/>
                  <a:pt x="22374" y="13841"/>
                </a:cubicBezTo>
                <a:cubicBezTo>
                  <a:pt x="22441" y="14270"/>
                  <a:pt x="22438" y="14724"/>
                  <a:pt x="22423" y="15156"/>
                </a:cubicBezTo>
                <a:cubicBezTo>
                  <a:pt x="22404" y="15719"/>
                  <a:pt x="22391" y="16279"/>
                  <a:pt x="22374" y="16842"/>
                </a:cubicBezTo>
                <a:cubicBezTo>
                  <a:pt x="22362" y="17261"/>
                  <a:pt x="22397" y="17648"/>
                  <a:pt x="22448" y="18058"/>
                </a:cubicBezTo>
                <a:cubicBezTo>
                  <a:pt x="22448" y="18132"/>
                  <a:pt x="22448" y="18141"/>
                  <a:pt x="22448" y="181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15120" y="4660920"/>
            <a:ext cx="1662120" cy="492120"/>
          </a:xfrm>
          <a:custGeom>
            <a:avLst/>
            <a:gdLst/>
            <a:ahLst/>
            <a:rect l="l" t="t" r="r" b="b"/>
            <a:pathLst>
              <a:path w="4615" h="1365">
                <a:moveTo>
                  <a:pt x="20464" y="13667"/>
                </a:moveTo>
                <a:cubicBezTo>
                  <a:pt x="20530" y="13754"/>
                  <a:pt x="20545" y="13903"/>
                  <a:pt x="20563" y="14015"/>
                </a:cubicBezTo>
                <a:cubicBezTo>
                  <a:pt x="20563" y="14031"/>
                  <a:pt x="20563" y="14048"/>
                  <a:pt x="20563" y="14064"/>
                </a:cubicBezTo>
              </a:path>
              <a:path w="4615" h="1365">
                <a:moveTo>
                  <a:pt x="20092" y="13643"/>
                </a:moveTo>
                <a:cubicBezTo>
                  <a:pt x="20343" y="13643"/>
                  <a:pt x="20588" y="13632"/>
                  <a:pt x="20836" y="13643"/>
                </a:cubicBezTo>
                <a:cubicBezTo>
                  <a:pt x="20908" y="13643"/>
                  <a:pt x="20934" y="13642"/>
                  <a:pt x="20861" y="13692"/>
                </a:cubicBezTo>
              </a:path>
              <a:path w="4615" h="1365">
                <a:moveTo>
                  <a:pt x="20464" y="14039"/>
                </a:moveTo>
                <a:cubicBezTo>
                  <a:pt x="20592" y="14017"/>
                  <a:pt x="20814" y="14031"/>
                  <a:pt x="20935" y="13990"/>
                </a:cubicBezTo>
                <a:cubicBezTo>
                  <a:pt x="20976" y="13973"/>
                  <a:pt x="21018" y="13957"/>
                  <a:pt x="21059" y="13940"/>
                </a:cubicBezTo>
              </a:path>
              <a:path w="4615" h="1365">
                <a:moveTo>
                  <a:pt x="21034" y="13667"/>
                </a:moveTo>
                <a:cubicBezTo>
                  <a:pt x="21048" y="13762"/>
                  <a:pt x="21086" y="13849"/>
                  <a:pt x="21109" y="13940"/>
                </a:cubicBezTo>
                <a:cubicBezTo>
                  <a:pt x="21109" y="13846"/>
                  <a:pt x="21071" y="13711"/>
                  <a:pt x="21158" y="13643"/>
                </a:cubicBezTo>
                <a:cubicBezTo>
                  <a:pt x="21372" y="13477"/>
                  <a:pt x="21539" y="13741"/>
                  <a:pt x="21580" y="13915"/>
                </a:cubicBezTo>
                <a:cubicBezTo>
                  <a:pt x="21599" y="13998"/>
                  <a:pt x="21524" y="14051"/>
                  <a:pt x="21654" y="13891"/>
                </a:cubicBezTo>
              </a:path>
              <a:path w="4615" h="1365">
                <a:moveTo>
                  <a:pt x="23143" y="13395"/>
                </a:moveTo>
                <a:cubicBezTo>
                  <a:pt x="23023" y="13395"/>
                  <a:pt x="22853" y="13485"/>
                  <a:pt x="22820" y="13618"/>
                </a:cubicBezTo>
                <a:cubicBezTo>
                  <a:pt x="22749" y="13907"/>
                  <a:pt x="23099" y="13883"/>
                  <a:pt x="23217" y="13717"/>
                </a:cubicBezTo>
                <a:cubicBezTo>
                  <a:pt x="23329" y="13559"/>
                  <a:pt x="23238" y="13461"/>
                  <a:pt x="23093" y="13419"/>
                </a:cubicBezTo>
              </a:path>
              <a:path w="4615" h="1365">
                <a:moveTo>
                  <a:pt x="23440" y="13345"/>
                </a:moveTo>
                <a:cubicBezTo>
                  <a:pt x="23463" y="13436"/>
                  <a:pt x="23463" y="13542"/>
                  <a:pt x="23490" y="13643"/>
                </a:cubicBezTo>
                <a:cubicBezTo>
                  <a:pt x="23498" y="13659"/>
                  <a:pt x="23507" y="13676"/>
                  <a:pt x="23515" y="13692"/>
                </a:cubicBezTo>
                <a:cubicBezTo>
                  <a:pt x="23686" y="13653"/>
                  <a:pt x="23740" y="13569"/>
                  <a:pt x="23788" y="13395"/>
                </a:cubicBezTo>
                <a:cubicBezTo>
                  <a:pt x="23788" y="13387"/>
                  <a:pt x="23788" y="13378"/>
                  <a:pt x="23788" y="13370"/>
                </a:cubicBezTo>
                <a:cubicBezTo>
                  <a:pt x="23788" y="13470"/>
                  <a:pt x="23783" y="13717"/>
                  <a:pt x="23937" y="13717"/>
                </a:cubicBezTo>
                <a:cubicBezTo>
                  <a:pt x="23986" y="13692"/>
                  <a:pt x="24036" y="13668"/>
                  <a:pt x="24085" y="13643"/>
                </a:cubicBezTo>
              </a:path>
              <a:path w="4615" h="1365">
                <a:moveTo>
                  <a:pt x="24036" y="12948"/>
                </a:moveTo>
                <a:cubicBezTo>
                  <a:pt x="24067" y="13151"/>
                  <a:pt x="24032" y="13368"/>
                  <a:pt x="24085" y="13568"/>
                </a:cubicBezTo>
                <a:cubicBezTo>
                  <a:pt x="24115" y="13682"/>
                  <a:pt x="24369" y="13573"/>
                  <a:pt x="24408" y="13543"/>
                </a:cubicBezTo>
                <a:cubicBezTo>
                  <a:pt x="24424" y="13518"/>
                  <a:pt x="24441" y="13494"/>
                  <a:pt x="24457" y="13469"/>
                </a:cubicBezTo>
              </a:path>
              <a:path w="4615" h="1365">
                <a:moveTo>
                  <a:pt x="23961" y="13295"/>
                </a:moveTo>
                <a:cubicBezTo>
                  <a:pt x="24106" y="13279"/>
                  <a:pt x="24328" y="13234"/>
                  <a:pt x="24433" y="13295"/>
                </a:cubicBezTo>
              </a:path>
              <a:path w="4615" h="1365">
                <a:moveTo>
                  <a:pt x="20538" y="14238"/>
                </a:moveTo>
                <a:cubicBezTo>
                  <a:pt x="20804" y="14184"/>
                  <a:pt x="21060" y="14166"/>
                  <a:pt x="21332" y="14163"/>
                </a:cubicBezTo>
                <a:cubicBezTo>
                  <a:pt x="21770" y="14159"/>
                  <a:pt x="22208" y="14188"/>
                  <a:pt x="22647" y="14188"/>
                </a:cubicBezTo>
                <a:cubicBezTo>
                  <a:pt x="23064" y="14188"/>
                  <a:pt x="23471" y="14157"/>
                  <a:pt x="23887" y="14139"/>
                </a:cubicBezTo>
                <a:cubicBezTo>
                  <a:pt x="24044" y="14132"/>
                  <a:pt x="24180" y="14159"/>
                  <a:pt x="24333" y="14163"/>
                </a:cubicBezTo>
                <a:cubicBezTo>
                  <a:pt x="24449" y="14166"/>
                  <a:pt x="24515" y="14163"/>
                  <a:pt x="24631" y="14163"/>
                </a:cubicBezTo>
              </a:path>
              <a:path w="4615" h="1365">
                <a:moveTo>
                  <a:pt x="20042" y="14213"/>
                </a:moveTo>
                <a:cubicBezTo>
                  <a:pt x="20153" y="14197"/>
                  <a:pt x="20251" y="14188"/>
                  <a:pt x="20365" y="14188"/>
                </a:cubicBezTo>
              </a:path>
              <a:path w="4615" h="1365">
                <a:moveTo>
                  <a:pt x="20265" y="14263"/>
                </a:moveTo>
                <a:cubicBezTo>
                  <a:pt x="20188" y="14263"/>
                  <a:pt x="20362" y="14306"/>
                  <a:pt x="20439" y="14312"/>
                </a:cubicBezTo>
                <a:cubicBezTo>
                  <a:pt x="20610" y="14325"/>
                  <a:pt x="20788" y="14312"/>
                  <a:pt x="20960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6240" y="5867280"/>
            <a:ext cx="187560" cy="115920"/>
          </a:xfrm>
          <a:custGeom>
            <a:avLst/>
            <a:gdLst/>
            <a:ahLst/>
            <a:rect l="l" t="t" r="r" b="b"/>
            <a:pathLst>
              <a:path w="522" h="323">
                <a:moveTo>
                  <a:pt x="21183" y="16297"/>
                </a:moveTo>
                <a:cubicBezTo>
                  <a:pt x="21212" y="16414"/>
                  <a:pt x="21215" y="16591"/>
                  <a:pt x="21357" y="16619"/>
                </a:cubicBezTo>
                <a:cubicBezTo>
                  <a:pt x="21575" y="16661"/>
                  <a:pt x="21672" y="16520"/>
                  <a:pt x="21704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81960" y="5232240"/>
            <a:ext cx="268200" cy="1206720"/>
          </a:xfrm>
          <a:custGeom>
            <a:avLst/>
            <a:gdLst/>
            <a:ahLst/>
            <a:rect l="l" t="t" r="r" b="b"/>
            <a:pathLst>
              <a:path w="745" h="3349">
                <a:moveTo>
                  <a:pt x="21233" y="14560"/>
                </a:moveTo>
                <a:cubicBezTo>
                  <a:pt x="21288" y="14480"/>
                  <a:pt x="21069" y="14810"/>
                  <a:pt x="21059" y="14858"/>
                </a:cubicBezTo>
                <a:cubicBezTo>
                  <a:pt x="21059" y="15009"/>
                  <a:pt x="21043" y="15051"/>
                  <a:pt x="21134" y="15106"/>
                </a:cubicBezTo>
                <a:cubicBezTo>
                  <a:pt x="21310" y="15027"/>
                  <a:pt x="21658" y="14876"/>
                  <a:pt x="21431" y="14635"/>
                </a:cubicBezTo>
                <a:cubicBezTo>
                  <a:pt x="21357" y="14556"/>
                  <a:pt x="21265" y="14537"/>
                  <a:pt x="21183" y="14560"/>
                </a:cubicBezTo>
              </a:path>
              <a:path w="745" h="3349">
                <a:moveTo>
                  <a:pt x="21208" y="15652"/>
                </a:moveTo>
                <a:cubicBezTo>
                  <a:pt x="21281" y="15578"/>
                  <a:pt x="21305" y="15553"/>
                  <a:pt x="21382" y="15553"/>
                </a:cubicBezTo>
                <a:cubicBezTo>
                  <a:pt x="21524" y="15717"/>
                  <a:pt x="21566" y="15910"/>
                  <a:pt x="21307" y="16024"/>
                </a:cubicBezTo>
                <a:cubicBezTo>
                  <a:pt x="21173" y="16046"/>
                  <a:pt x="21134" y="16066"/>
                  <a:pt x="21084" y="15974"/>
                </a:cubicBezTo>
                <a:cubicBezTo>
                  <a:pt x="21194" y="15820"/>
                  <a:pt x="21336" y="15759"/>
                  <a:pt x="21506" y="15925"/>
                </a:cubicBezTo>
                <a:cubicBezTo>
                  <a:pt x="21536" y="15955"/>
                  <a:pt x="21600" y="16072"/>
                  <a:pt x="21630" y="16123"/>
                </a:cubicBezTo>
              </a:path>
              <a:path w="745" h="3349">
                <a:moveTo>
                  <a:pt x="21580" y="16123"/>
                </a:moveTo>
                <a:cubicBezTo>
                  <a:pt x="21580" y="16312"/>
                  <a:pt x="21585" y="16506"/>
                  <a:pt x="21605" y="16694"/>
                </a:cubicBezTo>
                <a:cubicBezTo>
                  <a:pt x="21626" y="16817"/>
                  <a:pt x="21634" y="16842"/>
                  <a:pt x="21630" y="16917"/>
                </a:cubicBezTo>
              </a:path>
              <a:path w="745" h="3349">
                <a:moveTo>
                  <a:pt x="21183" y="17289"/>
                </a:moveTo>
                <a:cubicBezTo>
                  <a:pt x="21183" y="17435"/>
                  <a:pt x="21132" y="17680"/>
                  <a:pt x="21208" y="17810"/>
                </a:cubicBezTo>
                <a:cubicBezTo>
                  <a:pt x="21312" y="17989"/>
                  <a:pt x="21559" y="17798"/>
                  <a:pt x="21654" y="17735"/>
                </a:cubicBezTo>
                <a:cubicBezTo>
                  <a:pt x="21712" y="17697"/>
                  <a:pt x="21897" y="17553"/>
                  <a:pt x="21779" y="17462"/>
                </a:cubicBezTo>
                <a:cubicBezTo>
                  <a:pt x="21699" y="17400"/>
                  <a:pt x="21545" y="17445"/>
                  <a:pt x="21506" y="17537"/>
                </a:cubicBezTo>
                <a:cubicBezTo>
                  <a:pt x="21472" y="17618"/>
                  <a:pt x="21448" y="17769"/>
                  <a:pt x="21530" y="17810"/>
                </a:cubicBezTo>
                <a:cubicBezTo>
                  <a:pt x="21580" y="17835"/>
                  <a:pt x="21597" y="17843"/>
                  <a:pt x="21605" y="17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understand and write a rule for a function table.</a:t>
            </a:r>
            <a:r>
              <a:rPr b="1" lang="en-US" sz="2400" spc="-1" strike="noStrike">
                <a:solidFill>
                  <a:srgbClr val="fbeec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eecd"/>
                </a:solidFill>
                <a:latin typeface="Arial"/>
              </a:rPr>
              <a:t>It can be helpful to think of functions as machines, a number goes in…something happens…and a number comes out.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et’s use what we know about patterns to help us find the </a:t>
            </a:r>
            <a:r>
              <a:rPr b="1" lang="en-US" sz="2400" spc="-1" strike="noStrike">
                <a:solidFill>
                  <a:srgbClr val="e42b00"/>
                </a:solidFill>
                <a:latin typeface="Arial"/>
              </a:rPr>
              <a:t>missing inputs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42b00"/>
                </a:solidFill>
                <a:latin typeface="Arial"/>
              </a:rPr>
              <a:t>and outputs,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as well as </a:t>
            </a:r>
            <a:r>
              <a:rPr b="1" lang="en-US" sz="2400" spc="-1" strike="noStrike">
                <a:solidFill>
                  <a:srgbClr val="e42b00"/>
                </a:solidFill>
                <a:latin typeface="Arial"/>
              </a:rPr>
              <a:t>the rule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for each function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Rule is:____      Rule is:____      Rule is: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90720" y="2895480"/>
          <a:ext cx="2057400" cy="22100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505320" y="2895480"/>
          <a:ext cx="2057400" cy="22100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019920" y="2895480"/>
          <a:ext cx="2057400" cy="22100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098720" y="3830760"/>
            <a:ext cx="4340160" cy="134640"/>
          </a:xfrm>
          <a:custGeom>
            <a:avLst/>
            <a:gdLst/>
            <a:ahLst/>
            <a:rect l="l" t="t" r="r" b="b"/>
            <a:pathLst>
              <a:path w="12056" h="373">
                <a:moveTo>
                  <a:pt x="3076" y="10889"/>
                </a:moveTo>
                <a:cubicBezTo>
                  <a:pt x="3076" y="10917"/>
                  <a:pt x="3074" y="10928"/>
                  <a:pt x="3051" y="10939"/>
                </a:cubicBezTo>
                <a:cubicBezTo>
                  <a:pt x="3072" y="10937"/>
                  <a:pt x="3288" y="10885"/>
                  <a:pt x="3299" y="10889"/>
                </a:cubicBezTo>
                <a:cubicBezTo>
                  <a:pt x="3434" y="10936"/>
                  <a:pt x="3391" y="11048"/>
                  <a:pt x="3572" y="10988"/>
                </a:cubicBezTo>
                <a:cubicBezTo>
                  <a:pt x="3824" y="10904"/>
                  <a:pt x="3644" y="10897"/>
                  <a:pt x="3845" y="10914"/>
                </a:cubicBezTo>
                <a:cubicBezTo>
                  <a:pt x="3965" y="10924"/>
                  <a:pt x="4123" y="10925"/>
                  <a:pt x="4242" y="10864"/>
                </a:cubicBezTo>
                <a:cubicBezTo>
                  <a:pt x="4258" y="10848"/>
                  <a:pt x="4275" y="10831"/>
                  <a:pt x="4291" y="10815"/>
                </a:cubicBezTo>
                <a:cubicBezTo>
                  <a:pt x="4329" y="10857"/>
                  <a:pt x="4284" y="10894"/>
                  <a:pt x="4366" y="10889"/>
                </a:cubicBezTo>
                <a:cubicBezTo>
                  <a:pt x="4477" y="10882"/>
                  <a:pt x="4573" y="10800"/>
                  <a:pt x="4688" y="10815"/>
                </a:cubicBezTo>
                <a:cubicBezTo>
                  <a:pt x="4766" y="10825"/>
                  <a:pt x="4778" y="10898"/>
                  <a:pt x="4887" y="10889"/>
                </a:cubicBezTo>
                <a:cubicBezTo>
                  <a:pt x="4977" y="10881"/>
                  <a:pt x="5063" y="10830"/>
                  <a:pt x="5159" y="10840"/>
                </a:cubicBezTo>
                <a:cubicBezTo>
                  <a:pt x="5206" y="10845"/>
                  <a:pt x="5291" y="10869"/>
                  <a:pt x="5383" y="10864"/>
                </a:cubicBezTo>
                <a:cubicBezTo>
                  <a:pt x="5569" y="10854"/>
                  <a:pt x="5465" y="10917"/>
                  <a:pt x="5556" y="10939"/>
                </a:cubicBezTo>
                <a:cubicBezTo>
                  <a:pt x="5650" y="10962"/>
                  <a:pt x="5710" y="10881"/>
                  <a:pt x="5804" y="10889"/>
                </a:cubicBezTo>
                <a:cubicBezTo>
                  <a:pt x="5842" y="10892"/>
                  <a:pt x="5875" y="10964"/>
                  <a:pt x="5928" y="10964"/>
                </a:cubicBezTo>
                <a:cubicBezTo>
                  <a:pt x="6085" y="10964"/>
                  <a:pt x="6160" y="10928"/>
                  <a:pt x="6325" y="10964"/>
                </a:cubicBezTo>
                <a:cubicBezTo>
                  <a:pt x="6466" y="10995"/>
                  <a:pt x="6535" y="11012"/>
                  <a:pt x="6672" y="10988"/>
                </a:cubicBezTo>
                <a:cubicBezTo>
                  <a:pt x="6761" y="10972"/>
                  <a:pt x="6844" y="10974"/>
                  <a:pt x="6921" y="10964"/>
                </a:cubicBezTo>
                <a:cubicBezTo>
                  <a:pt x="6989" y="10955"/>
                  <a:pt x="7120" y="10914"/>
                  <a:pt x="7218" y="10914"/>
                </a:cubicBezTo>
                <a:cubicBezTo>
                  <a:pt x="7359" y="10914"/>
                  <a:pt x="7397" y="10943"/>
                  <a:pt x="7541" y="10914"/>
                </a:cubicBezTo>
                <a:cubicBezTo>
                  <a:pt x="7690" y="10884"/>
                  <a:pt x="7834" y="10889"/>
                  <a:pt x="7987" y="10889"/>
                </a:cubicBezTo>
                <a:cubicBezTo>
                  <a:pt x="8092" y="10889"/>
                  <a:pt x="8086" y="10867"/>
                  <a:pt x="8186" y="10840"/>
                </a:cubicBezTo>
                <a:cubicBezTo>
                  <a:pt x="8262" y="10820"/>
                  <a:pt x="8315" y="10842"/>
                  <a:pt x="8384" y="10840"/>
                </a:cubicBezTo>
                <a:cubicBezTo>
                  <a:pt x="8392" y="10840"/>
                  <a:pt x="8401" y="10840"/>
                  <a:pt x="8409" y="10840"/>
                </a:cubicBezTo>
              </a:path>
              <a:path w="12056" h="373">
                <a:moveTo>
                  <a:pt x="9971" y="10889"/>
                </a:moveTo>
                <a:cubicBezTo>
                  <a:pt x="10103" y="10902"/>
                  <a:pt x="10213" y="10964"/>
                  <a:pt x="10344" y="10964"/>
                </a:cubicBezTo>
                <a:cubicBezTo>
                  <a:pt x="10601" y="10964"/>
                  <a:pt x="10773" y="10740"/>
                  <a:pt x="11013" y="10716"/>
                </a:cubicBezTo>
                <a:cubicBezTo>
                  <a:pt x="11201" y="10697"/>
                  <a:pt x="11336" y="10870"/>
                  <a:pt x="11534" y="10840"/>
                </a:cubicBezTo>
                <a:cubicBezTo>
                  <a:pt x="11737" y="10809"/>
                  <a:pt x="11943" y="10713"/>
                  <a:pt x="12154" y="10716"/>
                </a:cubicBezTo>
                <a:cubicBezTo>
                  <a:pt x="12376" y="10719"/>
                  <a:pt x="12604" y="10794"/>
                  <a:pt x="12824" y="10790"/>
                </a:cubicBezTo>
                <a:cubicBezTo>
                  <a:pt x="13088" y="10786"/>
                  <a:pt x="13306" y="10631"/>
                  <a:pt x="13568" y="10641"/>
                </a:cubicBezTo>
                <a:cubicBezTo>
                  <a:pt x="13782" y="10649"/>
                  <a:pt x="13996" y="10666"/>
                  <a:pt x="14213" y="10666"/>
                </a:cubicBezTo>
                <a:cubicBezTo>
                  <a:pt x="14496" y="10666"/>
                  <a:pt x="14774" y="10648"/>
                  <a:pt x="15056" y="10641"/>
                </a:cubicBezTo>
                <a:cubicBezTo>
                  <a:pt x="15073" y="10641"/>
                  <a:pt x="15089" y="10641"/>
                  <a:pt x="15106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74920" y="5589720"/>
            <a:ext cx="135000" cy="19080"/>
          </a:xfrm>
          <a:custGeom>
            <a:avLst/>
            <a:gdLst/>
            <a:ahLst/>
            <a:rect l="l" t="t" r="r" b="b"/>
            <a:pathLst>
              <a:path w="373" h="50">
                <a:moveTo>
                  <a:pt x="6598" y="15528"/>
                </a:moveTo>
                <a:cubicBezTo>
                  <a:pt x="6723" y="15544"/>
                  <a:pt x="6848" y="15553"/>
                  <a:pt x="6970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640" y="2394000"/>
            <a:ext cx="6849720" cy="1035000"/>
          </a:xfrm>
          <a:custGeom>
            <a:avLst/>
            <a:gdLst/>
            <a:ahLst/>
            <a:rect l="l" t="t" r="r" b="b"/>
            <a:pathLst>
              <a:path w="19026" h="2878">
                <a:moveTo>
                  <a:pt x="571" y="7565"/>
                </a:moveTo>
                <a:cubicBezTo>
                  <a:pt x="698" y="7591"/>
                  <a:pt x="727" y="7801"/>
                  <a:pt x="744" y="7913"/>
                </a:cubicBezTo>
                <a:cubicBezTo>
                  <a:pt x="765" y="8051"/>
                  <a:pt x="768" y="8138"/>
                  <a:pt x="670" y="8012"/>
                </a:cubicBezTo>
              </a:path>
              <a:path w="19026" h="2878">
                <a:moveTo>
                  <a:pt x="50" y="7714"/>
                </a:moveTo>
                <a:cubicBezTo>
                  <a:pt x="321" y="7584"/>
                  <a:pt x="610" y="7521"/>
                  <a:pt x="893" y="7417"/>
                </a:cubicBezTo>
                <a:cubicBezTo>
                  <a:pt x="984" y="7384"/>
                  <a:pt x="1046" y="7325"/>
                  <a:pt x="1091" y="7417"/>
                </a:cubicBezTo>
              </a:path>
              <a:path w="19026" h="2878">
                <a:moveTo>
                  <a:pt x="571" y="8210"/>
                </a:moveTo>
                <a:cubicBezTo>
                  <a:pt x="755" y="8098"/>
                  <a:pt x="931" y="7973"/>
                  <a:pt x="1116" y="7863"/>
                </a:cubicBezTo>
                <a:cubicBezTo>
                  <a:pt x="1147" y="7845"/>
                  <a:pt x="1162" y="7835"/>
                  <a:pt x="1191" y="7813"/>
                </a:cubicBezTo>
              </a:path>
              <a:path w="19026" h="2878">
                <a:moveTo>
                  <a:pt x="1265" y="7615"/>
                </a:moveTo>
                <a:cubicBezTo>
                  <a:pt x="1282" y="7696"/>
                  <a:pt x="1303" y="7781"/>
                  <a:pt x="1315" y="7863"/>
                </a:cubicBezTo>
                <a:cubicBezTo>
                  <a:pt x="1238" y="7761"/>
                  <a:pt x="1227" y="7667"/>
                  <a:pt x="1290" y="7541"/>
                </a:cubicBezTo>
                <a:cubicBezTo>
                  <a:pt x="1314" y="7493"/>
                  <a:pt x="1417" y="7370"/>
                  <a:pt x="1463" y="7342"/>
                </a:cubicBezTo>
                <a:cubicBezTo>
                  <a:pt x="1539" y="7438"/>
                  <a:pt x="1553" y="7651"/>
                  <a:pt x="1612" y="7714"/>
                </a:cubicBezTo>
                <a:cubicBezTo>
                  <a:pt x="1612" y="7698"/>
                  <a:pt x="1612" y="7681"/>
                  <a:pt x="1612" y="7665"/>
                </a:cubicBezTo>
              </a:path>
              <a:path w="19026" h="2878">
                <a:moveTo>
                  <a:pt x="1761" y="7417"/>
                </a:moveTo>
                <a:cubicBezTo>
                  <a:pt x="1788" y="7364"/>
                  <a:pt x="1762" y="7365"/>
                  <a:pt x="1712" y="7293"/>
                </a:cubicBezTo>
                <a:cubicBezTo>
                  <a:pt x="1606" y="7293"/>
                  <a:pt x="1551" y="7373"/>
                  <a:pt x="1563" y="7491"/>
                </a:cubicBezTo>
                <a:cubicBezTo>
                  <a:pt x="1591" y="7765"/>
                  <a:pt x="1816" y="7702"/>
                  <a:pt x="1960" y="7565"/>
                </a:cubicBezTo>
                <a:cubicBezTo>
                  <a:pt x="2031" y="7498"/>
                  <a:pt x="2015" y="7445"/>
                  <a:pt x="2059" y="7417"/>
                </a:cubicBezTo>
              </a:path>
              <a:path w="19026" h="2878">
                <a:moveTo>
                  <a:pt x="2232" y="7342"/>
                </a:moveTo>
                <a:cubicBezTo>
                  <a:pt x="2232" y="7370"/>
                  <a:pt x="2234" y="7381"/>
                  <a:pt x="2257" y="7392"/>
                </a:cubicBezTo>
              </a:path>
              <a:path w="19026" h="2878">
                <a:moveTo>
                  <a:pt x="198" y="9128"/>
                </a:moveTo>
                <a:cubicBezTo>
                  <a:pt x="422" y="9153"/>
                  <a:pt x="576" y="9260"/>
                  <a:pt x="769" y="9376"/>
                </a:cubicBezTo>
                <a:cubicBezTo>
                  <a:pt x="833" y="9414"/>
                  <a:pt x="878" y="9505"/>
                  <a:pt x="843" y="9401"/>
                </a:cubicBezTo>
              </a:path>
              <a:path w="19026" h="2878">
                <a:moveTo>
                  <a:pt x="695" y="8880"/>
                </a:moveTo>
                <a:cubicBezTo>
                  <a:pt x="649" y="9063"/>
                  <a:pt x="600" y="9303"/>
                  <a:pt x="471" y="9451"/>
                </a:cubicBezTo>
                <a:cubicBezTo>
                  <a:pt x="418" y="9512"/>
                  <a:pt x="281" y="9572"/>
                  <a:pt x="347" y="9525"/>
                </a:cubicBezTo>
                <a:cubicBezTo>
                  <a:pt x="364" y="9508"/>
                  <a:pt x="380" y="9492"/>
                  <a:pt x="397" y="9475"/>
                </a:cubicBezTo>
              </a:path>
              <a:path w="19026" h="2878">
                <a:moveTo>
                  <a:pt x="1712" y="8582"/>
                </a:moveTo>
                <a:cubicBezTo>
                  <a:pt x="1810" y="8663"/>
                  <a:pt x="1837" y="8827"/>
                  <a:pt x="1885" y="8954"/>
                </a:cubicBezTo>
                <a:cubicBezTo>
                  <a:pt x="1893" y="8971"/>
                  <a:pt x="1902" y="8987"/>
                  <a:pt x="1910" y="9004"/>
                </a:cubicBezTo>
              </a:path>
              <a:path w="19026" h="2878">
                <a:moveTo>
                  <a:pt x="1637" y="8880"/>
                </a:moveTo>
                <a:cubicBezTo>
                  <a:pt x="1791" y="8838"/>
                  <a:pt x="1947" y="8754"/>
                  <a:pt x="2108" y="8706"/>
                </a:cubicBezTo>
                <a:cubicBezTo>
                  <a:pt x="2133" y="8706"/>
                  <a:pt x="2141" y="8706"/>
                  <a:pt x="2158" y="8706"/>
                </a:cubicBezTo>
              </a:path>
              <a:path w="19026" h="2878">
                <a:moveTo>
                  <a:pt x="9153" y="7491"/>
                </a:moveTo>
                <a:cubicBezTo>
                  <a:pt x="9236" y="7637"/>
                  <a:pt x="9261" y="7663"/>
                  <a:pt x="9277" y="7764"/>
                </a:cubicBezTo>
              </a:path>
              <a:path w="19026" h="2878">
                <a:moveTo>
                  <a:pt x="10716" y="7020"/>
                </a:moveTo>
                <a:cubicBezTo>
                  <a:pt x="10724" y="7020"/>
                  <a:pt x="10732" y="7020"/>
                  <a:pt x="10740" y="7020"/>
                </a:cubicBezTo>
              </a:path>
              <a:path w="19026" h="2878">
                <a:moveTo>
                  <a:pt x="12303" y="6648"/>
                </a:moveTo>
                <a:cubicBezTo>
                  <a:pt x="12328" y="6697"/>
                  <a:pt x="12353" y="6747"/>
                  <a:pt x="12378" y="6796"/>
                </a:cubicBezTo>
              </a:path>
              <a:path w="19026" h="2878">
                <a:moveTo>
                  <a:pt x="12725" y="7144"/>
                </a:moveTo>
                <a:lnTo>
                  <a:pt x="12725" y="7144"/>
                </a:lnTo>
                <a:lnTo>
                  <a:pt x="12725" y="7144"/>
                </a:lnTo>
              </a:path>
              <a:path w="19026" h="2878">
                <a:moveTo>
                  <a:pt x="18802" y="6648"/>
                </a:moveTo>
                <a:cubicBezTo>
                  <a:pt x="18810" y="6673"/>
                  <a:pt x="18819" y="6697"/>
                  <a:pt x="18827" y="6722"/>
                </a:cubicBezTo>
              </a:path>
              <a:path w="19026" h="2878">
                <a:moveTo>
                  <a:pt x="19075" y="7169"/>
                </a:moveTo>
                <a:lnTo>
                  <a:pt x="19075" y="716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43160" y="2473200"/>
            <a:ext cx="982800" cy="339840"/>
          </a:xfrm>
          <a:custGeom>
            <a:avLst/>
            <a:gdLst/>
            <a:ahLst/>
            <a:rect l="l" t="t" r="r" b="b"/>
            <a:pathLst>
              <a:path w="2730" h="943">
                <a:moveTo>
                  <a:pt x="8731" y="7218"/>
                </a:moveTo>
                <a:cubicBezTo>
                  <a:pt x="8970" y="7134"/>
                  <a:pt x="9500" y="6911"/>
                  <a:pt x="9475" y="7367"/>
                </a:cubicBezTo>
                <a:cubicBezTo>
                  <a:pt x="9461" y="7612"/>
                  <a:pt x="9292" y="7901"/>
                  <a:pt x="9128" y="7689"/>
                </a:cubicBezTo>
              </a:path>
              <a:path w="2730" h="943">
                <a:moveTo>
                  <a:pt x="9723" y="7293"/>
                </a:moveTo>
                <a:cubicBezTo>
                  <a:pt x="9786" y="7247"/>
                  <a:pt x="9860" y="7217"/>
                  <a:pt x="9922" y="7169"/>
                </a:cubicBezTo>
                <a:cubicBezTo>
                  <a:pt x="9826" y="7169"/>
                  <a:pt x="9743" y="7071"/>
                  <a:pt x="9649" y="7144"/>
                </a:cubicBezTo>
                <a:cubicBezTo>
                  <a:pt x="9476" y="7278"/>
                  <a:pt x="9736" y="7578"/>
                  <a:pt x="9922" y="7466"/>
                </a:cubicBezTo>
                <a:cubicBezTo>
                  <a:pt x="9963" y="7416"/>
                  <a:pt x="10005" y="7367"/>
                  <a:pt x="10046" y="7317"/>
                </a:cubicBezTo>
              </a:path>
              <a:path w="2730" h="943">
                <a:moveTo>
                  <a:pt x="10170" y="6945"/>
                </a:moveTo>
                <a:cubicBezTo>
                  <a:pt x="10211" y="6945"/>
                  <a:pt x="10228" y="6954"/>
                  <a:pt x="10220" y="6921"/>
                </a:cubicBezTo>
                <a:cubicBezTo>
                  <a:pt x="10020" y="6837"/>
                  <a:pt x="10000" y="7000"/>
                  <a:pt x="10046" y="7193"/>
                </a:cubicBezTo>
                <a:cubicBezTo>
                  <a:pt x="10101" y="7422"/>
                  <a:pt x="10354" y="7217"/>
                  <a:pt x="10468" y="7169"/>
                </a:cubicBezTo>
              </a:path>
              <a:path w="2730" h="943">
                <a:moveTo>
                  <a:pt x="10815" y="7565"/>
                </a:moveTo>
                <a:cubicBezTo>
                  <a:pt x="10930" y="7537"/>
                  <a:pt x="11071" y="7464"/>
                  <a:pt x="11187" y="7417"/>
                </a:cubicBezTo>
                <a:cubicBezTo>
                  <a:pt x="11253" y="7390"/>
                  <a:pt x="11318" y="7369"/>
                  <a:pt x="11361" y="7342"/>
                </a:cubicBezTo>
                <a:cubicBezTo>
                  <a:pt x="11394" y="7317"/>
                  <a:pt x="11427" y="7293"/>
                  <a:pt x="11460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4160" y="2438280"/>
            <a:ext cx="214200" cy="106560"/>
          </a:xfrm>
          <a:custGeom>
            <a:avLst/>
            <a:gdLst/>
            <a:ahLst/>
            <a:rect l="l" t="t" r="r" b="b"/>
            <a:pathLst>
              <a:path w="596" h="298">
                <a:moveTo>
                  <a:pt x="12204" y="7069"/>
                </a:moveTo>
                <a:cubicBezTo>
                  <a:pt x="12385" y="6966"/>
                  <a:pt x="12609" y="6853"/>
                  <a:pt x="12774" y="6772"/>
                </a:cubicBezTo>
                <a:cubicBezTo>
                  <a:pt x="12782" y="6772"/>
                  <a:pt x="12791" y="6772"/>
                  <a:pt x="12799" y="67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9200" y="5518080"/>
            <a:ext cx="19080" cy="152640"/>
          </a:xfrm>
          <a:custGeom>
            <a:avLst/>
            <a:gdLst/>
            <a:ahLst/>
            <a:rect l="l" t="t" r="r" b="b"/>
            <a:pathLst>
              <a:path w="51" h="423">
                <a:moveTo>
                  <a:pt x="6722" y="15354"/>
                </a:moveTo>
                <a:cubicBezTo>
                  <a:pt x="6730" y="15346"/>
                  <a:pt x="6739" y="15337"/>
                  <a:pt x="6747" y="15329"/>
                </a:cubicBezTo>
                <a:cubicBezTo>
                  <a:pt x="6747" y="15454"/>
                  <a:pt x="6768" y="15576"/>
                  <a:pt x="6772" y="15701"/>
                </a:cubicBezTo>
                <a:cubicBezTo>
                  <a:pt x="6772" y="15743"/>
                  <a:pt x="6780" y="15759"/>
                  <a:pt x="6747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52840" y="5500800"/>
            <a:ext cx="17280" cy="223560"/>
          </a:xfrm>
          <a:custGeom>
            <a:avLst/>
            <a:gdLst/>
            <a:ahLst/>
            <a:rect l="l" t="t" r="r" b="b"/>
            <a:pathLst>
              <a:path w="51" h="621">
                <a:moveTo>
                  <a:pt x="7367" y="15280"/>
                </a:moveTo>
                <a:cubicBezTo>
                  <a:pt x="7402" y="15416"/>
                  <a:pt x="7414" y="15549"/>
                  <a:pt x="7417" y="15701"/>
                </a:cubicBezTo>
                <a:cubicBezTo>
                  <a:pt x="7418" y="15776"/>
                  <a:pt x="7417" y="15950"/>
                  <a:pt x="7417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86040" y="5473800"/>
            <a:ext cx="1440" cy="250560"/>
          </a:xfrm>
          <a:custGeom>
            <a:avLst/>
            <a:gdLst/>
            <a:ahLst/>
            <a:rect l="l" t="t" r="r" b="b"/>
            <a:pathLst>
              <a:path w="1" h="696">
                <a:moveTo>
                  <a:pt x="7739" y="15205"/>
                </a:moveTo>
                <a:cubicBezTo>
                  <a:pt x="7739" y="15437"/>
                  <a:pt x="7739" y="15668"/>
                  <a:pt x="7739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1880" y="3732120"/>
            <a:ext cx="142920" cy="822240"/>
          </a:xfrm>
          <a:custGeom>
            <a:avLst/>
            <a:gdLst/>
            <a:ahLst/>
            <a:rect l="l" t="t" r="r" b="b"/>
            <a:pathLst>
              <a:path w="398" h="2283">
                <a:moveTo>
                  <a:pt x="12005" y="10368"/>
                </a:moveTo>
                <a:lnTo>
                  <a:pt x="12005" y="10368"/>
                </a:lnTo>
              </a:path>
              <a:path w="398" h="2283">
                <a:moveTo>
                  <a:pt x="12105" y="10716"/>
                </a:moveTo>
                <a:lnTo>
                  <a:pt x="12105" y="10716"/>
                </a:lnTo>
              </a:path>
              <a:path w="398" h="2283">
                <a:moveTo>
                  <a:pt x="11807" y="11212"/>
                </a:moveTo>
                <a:cubicBezTo>
                  <a:pt x="11799" y="11204"/>
                  <a:pt x="11790" y="11195"/>
                  <a:pt x="11782" y="11187"/>
                </a:cubicBezTo>
              </a:path>
              <a:path w="398" h="2283">
                <a:moveTo>
                  <a:pt x="11881" y="11708"/>
                </a:moveTo>
                <a:lnTo>
                  <a:pt x="11881" y="11708"/>
                </a:lnTo>
              </a:path>
              <a:path w="398" h="2283">
                <a:moveTo>
                  <a:pt x="11956" y="12204"/>
                </a:moveTo>
                <a:cubicBezTo>
                  <a:pt x="11964" y="12221"/>
                  <a:pt x="11973" y="12237"/>
                  <a:pt x="11981" y="12254"/>
                </a:cubicBezTo>
              </a:path>
              <a:path w="398" h="2283">
                <a:moveTo>
                  <a:pt x="12179" y="12650"/>
                </a:moveTo>
                <a:lnTo>
                  <a:pt x="12179" y="12650"/>
                </a:lnTo>
                <a:lnTo>
                  <a:pt x="12179" y="12650"/>
                </a:lnTo>
              </a:path>
              <a:path w="398" h="2283">
                <a:moveTo>
                  <a:pt x="12179" y="12650"/>
                </a:moveTo>
                <a:lnTo>
                  <a:pt x="12179" y="1265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24240" y="3598920"/>
            <a:ext cx="561960" cy="598320"/>
          </a:xfrm>
          <a:custGeom>
            <a:avLst/>
            <a:gdLst/>
            <a:ahLst/>
            <a:rect l="l" t="t" r="r" b="b"/>
            <a:pathLst>
              <a:path w="1563" h="1663">
                <a:moveTo>
                  <a:pt x="11956" y="10468"/>
                </a:moveTo>
                <a:cubicBezTo>
                  <a:pt x="12051" y="10468"/>
                  <a:pt x="12139" y="10476"/>
                  <a:pt x="12229" y="10443"/>
                </a:cubicBezTo>
                <a:cubicBezTo>
                  <a:pt x="12283" y="10423"/>
                  <a:pt x="12287" y="10396"/>
                  <a:pt x="12303" y="10443"/>
                </a:cubicBezTo>
              </a:path>
              <a:path w="1563" h="1663">
                <a:moveTo>
                  <a:pt x="12030" y="10393"/>
                </a:moveTo>
                <a:cubicBezTo>
                  <a:pt x="12118" y="10371"/>
                  <a:pt x="12187" y="10368"/>
                  <a:pt x="12278" y="10368"/>
                </a:cubicBezTo>
                <a:cubicBezTo>
                  <a:pt x="12371" y="10368"/>
                  <a:pt x="12098" y="10393"/>
                  <a:pt x="12005" y="10393"/>
                </a:cubicBezTo>
                <a:cubicBezTo>
                  <a:pt x="12098" y="10408"/>
                  <a:pt x="12181" y="10418"/>
                  <a:pt x="12278" y="10418"/>
                </a:cubicBezTo>
                <a:cubicBezTo>
                  <a:pt x="12236" y="10418"/>
                  <a:pt x="12210" y="10424"/>
                  <a:pt x="12179" y="10443"/>
                </a:cubicBezTo>
                <a:cubicBezTo>
                  <a:pt x="11999" y="10420"/>
                  <a:pt x="12244" y="10403"/>
                  <a:pt x="12303" y="10393"/>
                </a:cubicBezTo>
                <a:cubicBezTo>
                  <a:pt x="12311" y="10393"/>
                  <a:pt x="12320" y="10393"/>
                  <a:pt x="12328" y="10393"/>
                </a:cubicBezTo>
              </a:path>
              <a:path w="1563" h="1663">
                <a:moveTo>
                  <a:pt x="12105" y="10071"/>
                </a:moveTo>
                <a:cubicBezTo>
                  <a:pt x="12072" y="10060"/>
                  <a:pt x="12080" y="10035"/>
                  <a:pt x="12080" y="10071"/>
                </a:cubicBezTo>
              </a:path>
              <a:path w="1563" h="1663">
                <a:moveTo>
                  <a:pt x="12105" y="10666"/>
                </a:moveTo>
                <a:cubicBezTo>
                  <a:pt x="12080" y="10666"/>
                  <a:pt x="12072" y="10666"/>
                  <a:pt x="12080" y="10691"/>
                </a:cubicBezTo>
                <a:cubicBezTo>
                  <a:pt x="12162" y="10670"/>
                  <a:pt x="12285" y="10550"/>
                  <a:pt x="12328" y="10517"/>
                </a:cubicBezTo>
              </a:path>
              <a:path w="1563" h="1663">
                <a:moveTo>
                  <a:pt x="12179" y="10691"/>
                </a:moveTo>
                <a:cubicBezTo>
                  <a:pt x="12109" y="10691"/>
                  <a:pt x="12084" y="10666"/>
                  <a:pt x="12080" y="10740"/>
                </a:cubicBezTo>
                <a:cubicBezTo>
                  <a:pt x="12080" y="10765"/>
                  <a:pt x="12080" y="10790"/>
                  <a:pt x="12080" y="10815"/>
                </a:cubicBezTo>
                <a:cubicBezTo>
                  <a:pt x="12134" y="10786"/>
                  <a:pt x="12244" y="10596"/>
                  <a:pt x="12154" y="10641"/>
                </a:cubicBezTo>
                <a:cubicBezTo>
                  <a:pt x="12121" y="10658"/>
                  <a:pt x="12174" y="10689"/>
                  <a:pt x="12179" y="10691"/>
                </a:cubicBezTo>
              </a:path>
              <a:path w="1563" h="1663">
                <a:moveTo>
                  <a:pt x="12030" y="10071"/>
                </a:moveTo>
                <a:cubicBezTo>
                  <a:pt x="12030" y="10046"/>
                  <a:pt x="12030" y="10038"/>
                  <a:pt x="12005" y="10046"/>
                </a:cubicBezTo>
                <a:cubicBezTo>
                  <a:pt x="12005" y="10105"/>
                  <a:pt x="12069" y="10140"/>
                  <a:pt x="12080" y="10071"/>
                </a:cubicBezTo>
                <a:cubicBezTo>
                  <a:pt x="12080" y="9997"/>
                  <a:pt x="12081" y="9971"/>
                  <a:pt x="12030" y="10046"/>
                </a:cubicBezTo>
              </a:path>
              <a:path w="1563" h="1663">
                <a:moveTo>
                  <a:pt x="12576" y="10344"/>
                </a:moveTo>
                <a:cubicBezTo>
                  <a:pt x="12615" y="10395"/>
                  <a:pt x="12601" y="10450"/>
                  <a:pt x="12601" y="10517"/>
                </a:cubicBezTo>
                <a:cubicBezTo>
                  <a:pt x="12676" y="10461"/>
                  <a:pt x="12762" y="10397"/>
                  <a:pt x="12849" y="10368"/>
                </a:cubicBezTo>
              </a:path>
              <a:path w="1563" h="1663">
                <a:moveTo>
                  <a:pt x="12725" y="10120"/>
                </a:moveTo>
                <a:cubicBezTo>
                  <a:pt x="12725" y="10278"/>
                  <a:pt x="12776" y="10418"/>
                  <a:pt x="12824" y="10567"/>
                </a:cubicBezTo>
                <a:cubicBezTo>
                  <a:pt x="12843" y="10624"/>
                  <a:pt x="12852" y="10631"/>
                  <a:pt x="12849" y="10666"/>
                </a:cubicBezTo>
                <a:cubicBezTo>
                  <a:pt x="12833" y="10600"/>
                  <a:pt x="12783" y="10575"/>
                  <a:pt x="12725" y="10517"/>
                </a:cubicBezTo>
              </a:path>
              <a:path w="1563" h="1663">
                <a:moveTo>
                  <a:pt x="12502" y="10294"/>
                </a:moveTo>
                <a:cubicBezTo>
                  <a:pt x="12523" y="10359"/>
                  <a:pt x="12562" y="10435"/>
                  <a:pt x="12601" y="10492"/>
                </a:cubicBezTo>
                <a:cubicBezTo>
                  <a:pt x="12634" y="10445"/>
                  <a:pt x="12722" y="10336"/>
                  <a:pt x="12750" y="10393"/>
                </a:cubicBezTo>
              </a:path>
              <a:path w="1563" h="1663">
                <a:moveTo>
                  <a:pt x="12750" y="10096"/>
                </a:moveTo>
                <a:cubicBezTo>
                  <a:pt x="12765" y="10262"/>
                  <a:pt x="12822" y="10409"/>
                  <a:pt x="12874" y="10567"/>
                </a:cubicBezTo>
                <a:cubicBezTo>
                  <a:pt x="12893" y="10624"/>
                  <a:pt x="12901" y="10631"/>
                  <a:pt x="12898" y="10666"/>
                </a:cubicBezTo>
              </a:path>
              <a:path w="1563" h="1663">
                <a:moveTo>
                  <a:pt x="13072" y="10393"/>
                </a:moveTo>
                <a:cubicBezTo>
                  <a:pt x="13122" y="10393"/>
                  <a:pt x="13171" y="10393"/>
                  <a:pt x="13221" y="10393"/>
                </a:cubicBezTo>
                <a:cubicBezTo>
                  <a:pt x="13233" y="10357"/>
                  <a:pt x="13234" y="10357"/>
                  <a:pt x="13246" y="10393"/>
                </a:cubicBezTo>
              </a:path>
              <a:path w="1563" h="1663">
                <a:moveTo>
                  <a:pt x="13146" y="10468"/>
                </a:moveTo>
                <a:cubicBezTo>
                  <a:pt x="13198" y="10458"/>
                  <a:pt x="13243" y="10429"/>
                  <a:pt x="13295" y="10418"/>
                </a:cubicBezTo>
              </a:path>
              <a:path w="1563" h="1663">
                <a:moveTo>
                  <a:pt x="11733" y="11410"/>
                </a:moveTo>
                <a:cubicBezTo>
                  <a:pt x="11808" y="11410"/>
                  <a:pt x="12034" y="11448"/>
                  <a:pt x="12055" y="11385"/>
                </a:cubicBezTo>
              </a:path>
              <a:path w="1563" h="1663">
                <a:moveTo>
                  <a:pt x="12129" y="11286"/>
                </a:moveTo>
                <a:cubicBezTo>
                  <a:pt x="12218" y="11286"/>
                  <a:pt x="12236" y="11314"/>
                  <a:pt x="12254" y="11410"/>
                </a:cubicBezTo>
                <a:cubicBezTo>
                  <a:pt x="12254" y="11452"/>
                  <a:pt x="12254" y="11460"/>
                  <a:pt x="12254" y="11485"/>
                </a:cubicBezTo>
                <a:cubicBezTo>
                  <a:pt x="12330" y="11463"/>
                  <a:pt x="12368" y="11433"/>
                  <a:pt x="12427" y="11385"/>
                </a:cubicBezTo>
              </a:path>
              <a:path w="1563" h="1663">
                <a:moveTo>
                  <a:pt x="12328" y="11162"/>
                </a:moveTo>
                <a:cubicBezTo>
                  <a:pt x="12357" y="11277"/>
                  <a:pt x="12413" y="11404"/>
                  <a:pt x="12427" y="11534"/>
                </a:cubicBezTo>
                <a:cubicBezTo>
                  <a:pt x="12427" y="11608"/>
                  <a:pt x="12427" y="11617"/>
                  <a:pt x="12427" y="11658"/>
                </a:cubicBezTo>
              </a:path>
              <a:path w="1563" h="1663">
                <a:moveTo>
                  <a:pt x="12700" y="11336"/>
                </a:moveTo>
                <a:cubicBezTo>
                  <a:pt x="12751" y="11327"/>
                  <a:pt x="12796" y="11311"/>
                  <a:pt x="12849" y="11311"/>
                </a:cubicBezTo>
              </a:path>
              <a:path w="1563" h="1663">
                <a:moveTo>
                  <a:pt x="12675" y="11509"/>
                </a:moveTo>
                <a:cubicBezTo>
                  <a:pt x="12760" y="11487"/>
                  <a:pt x="12844" y="11469"/>
                  <a:pt x="12923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03800" y="4446720"/>
            <a:ext cx="108000" cy="36360"/>
          </a:xfrm>
          <a:custGeom>
            <a:avLst/>
            <a:gdLst/>
            <a:ahLst/>
            <a:rect l="l" t="t" r="r" b="b"/>
            <a:pathLst>
              <a:path w="299" h="100">
                <a:moveTo>
                  <a:pt x="11956" y="12452"/>
                </a:moveTo>
                <a:cubicBezTo>
                  <a:pt x="12050" y="12413"/>
                  <a:pt x="12170" y="12344"/>
                  <a:pt x="12254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6240" y="4768920"/>
            <a:ext cx="349560" cy="241200"/>
          </a:xfrm>
          <a:custGeom>
            <a:avLst/>
            <a:gdLst/>
            <a:ahLst/>
            <a:rect l="l" t="t" r="r" b="b"/>
            <a:pathLst>
              <a:path w="968" h="670">
                <a:moveTo>
                  <a:pt x="11584" y="13370"/>
                </a:moveTo>
                <a:cubicBezTo>
                  <a:pt x="11619" y="13335"/>
                  <a:pt x="11641" y="13322"/>
                  <a:pt x="11683" y="13320"/>
                </a:cubicBezTo>
                <a:cubicBezTo>
                  <a:pt x="11772" y="13424"/>
                  <a:pt x="11720" y="13485"/>
                  <a:pt x="11633" y="13593"/>
                </a:cubicBezTo>
                <a:cubicBezTo>
                  <a:pt x="11741" y="13609"/>
                  <a:pt x="11916" y="13486"/>
                  <a:pt x="11782" y="13742"/>
                </a:cubicBezTo>
                <a:cubicBezTo>
                  <a:pt x="11767" y="13770"/>
                  <a:pt x="11452" y="14049"/>
                  <a:pt x="11435" y="13891"/>
                </a:cubicBezTo>
                <a:cubicBezTo>
                  <a:pt x="11443" y="13866"/>
                  <a:pt x="11452" y="13841"/>
                  <a:pt x="11460" y="13816"/>
                </a:cubicBezTo>
              </a:path>
              <a:path w="968" h="670">
                <a:moveTo>
                  <a:pt x="11981" y="13246"/>
                </a:moveTo>
                <a:cubicBezTo>
                  <a:pt x="11981" y="13397"/>
                  <a:pt x="12003" y="13543"/>
                  <a:pt x="12030" y="13692"/>
                </a:cubicBezTo>
                <a:cubicBezTo>
                  <a:pt x="12038" y="13733"/>
                  <a:pt x="12047" y="13775"/>
                  <a:pt x="12055" y="13816"/>
                </a:cubicBezTo>
                <a:cubicBezTo>
                  <a:pt x="12215" y="13803"/>
                  <a:pt x="12357" y="13778"/>
                  <a:pt x="12402" y="13593"/>
                </a:cubicBezTo>
                <a:cubicBezTo>
                  <a:pt x="12402" y="13552"/>
                  <a:pt x="12402" y="13510"/>
                  <a:pt x="12402" y="13469"/>
                </a:cubicBezTo>
                <a:cubicBezTo>
                  <a:pt x="12268" y="13469"/>
                  <a:pt x="12171" y="13505"/>
                  <a:pt x="12154" y="13667"/>
                </a:cubicBezTo>
                <a:cubicBezTo>
                  <a:pt x="12176" y="13756"/>
                  <a:pt x="12177" y="13782"/>
                  <a:pt x="12229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48120" y="5527800"/>
            <a:ext cx="393840" cy="81000"/>
          </a:xfrm>
          <a:custGeom>
            <a:avLst/>
            <a:gdLst/>
            <a:ahLst/>
            <a:rect l="l" t="t" r="r" b="b"/>
            <a:pathLst>
              <a:path w="1092" h="224">
                <a:moveTo>
                  <a:pt x="13469" y="15577"/>
                </a:moveTo>
                <a:cubicBezTo>
                  <a:pt x="13522" y="15499"/>
                  <a:pt x="13641" y="15487"/>
                  <a:pt x="13742" y="15478"/>
                </a:cubicBezTo>
                <a:cubicBezTo>
                  <a:pt x="13836" y="15469"/>
                  <a:pt x="13862" y="15469"/>
                  <a:pt x="13940" y="15453"/>
                </a:cubicBezTo>
              </a:path>
              <a:path w="1092" h="224">
                <a:moveTo>
                  <a:pt x="14213" y="15354"/>
                </a:moveTo>
                <a:cubicBezTo>
                  <a:pt x="14236" y="15444"/>
                  <a:pt x="14242" y="15467"/>
                  <a:pt x="14213" y="15553"/>
                </a:cubicBezTo>
                <a:cubicBezTo>
                  <a:pt x="14303" y="15578"/>
                  <a:pt x="14373" y="15533"/>
                  <a:pt x="14461" y="15503"/>
                </a:cubicBezTo>
                <a:cubicBezTo>
                  <a:pt x="14483" y="15496"/>
                  <a:pt x="14541" y="15503"/>
                  <a:pt x="14560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500720"/>
            <a:ext cx="662040" cy="1206360"/>
          </a:xfrm>
          <a:custGeom>
            <a:avLst/>
            <a:gdLst/>
            <a:ahLst/>
            <a:rect l="l" t="t" r="r" b="b"/>
            <a:pathLst>
              <a:path w="1837" h="3349">
                <a:moveTo>
                  <a:pt x="13618" y="15131"/>
                </a:moveTo>
                <a:cubicBezTo>
                  <a:pt x="13610" y="15131"/>
                  <a:pt x="13601" y="15131"/>
                  <a:pt x="13593" y="15131"/>
                </a:cubicBezTo>
              </a:path>
              <a:path w="1837" h="3349">
                <a:moveTo>
                  <a:pt x="13816" y="15801"/>
                </a:moveTo>
                <a:lnTo>
                  <a:pt x="13816" y="15801"/>
                </a:lnTo>
                <a:lnTo>
                  <a:pt x="13816" y="15801"/>
                </a:lnTo>
              </a:path>
              <a:path w="1837" h="3349">
                <a:moveTo>
                  <a:pt x="14436" y="15156"/>
                </a:moveTo>
                <a:cubicBezTo>
                  <a:pt x="14452" y="15359"/>
                  <a:pt x="14515" y="15549"/>
                  <a:pt x="14536" y="15751"/>
                </a:cubicBezTo>
                <a:cubicBezTo>
                  <a:pt x="14536" y="15784"/>
                  <a:pt x="14536" y="15817"/>
                  <a:pt x="14536" y="15850"/>
                </a:cubicBezTo>
              </a:path>
              <a:path w="1837" h="3349">
                <a:moveTo>
                  <a:pt x="12874" y="12526"/>
                </a:moveTo>
                <a:cubicBezTo>
                  <a:pt x="12956" y="12506"/>
                  <a:pt x="12971" y="12498"/>
                  <a:pt x="13022" y="12502"/>
                </a:cubicBezTo>
              </a:path>
              <a:path w="1837" h="3349">
                <a:moveTo>
                  <a:pt x="12725" y="13221"/>
                </a:moveTo>
                <a:cubicBezTo>
                  <a:pt x="12700" y="13221"/>
                  <a:pt x="12692" y="13221"/>
                  <a:pt x="12700" y="13246"/>
                </a:cubicBezTo>
              </a:path>
              <a:path w="1837" h="3349">
                <a:moveTo>
                  <a:pt x="12750" y="13618"/>
                </a:moveTo>
                <a:cubicBezTo>
                  <a:pt x="12784" y="13583"/>
                  <a:pt x="12797" y="13560"/>
                  <a:pt x="12799" y="13519"/>
                </a:cubicBezTo>
              </a:path>
              <a:path w="1837" h="3349">
                <a:moveTo>
                  <a:pt x="13519" y="13395"/>
                </a:moveTo>
                <a:cubicBezTo>
                  <a:pt x="13544" y="13387"/>
                  <a:pt x="13568" y="13378"/>
                  <a:pt x="13593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38800" y="4402080"/>
            <a:ext cx="115560" cy="196920"/>
          </a:xfrm>
          <a:custGeom>
            <a:avLst/>
            <a:gdLst/>
            <a:ahLst/>
            <a:rect l="l" t="t" r="r" b="b"/>
            <a:pathLst>
              <a:path w="323" h="546">
                <a:moveTo>
                  <a:pt x="12328" y="12303"/>
                </a:moveTo>
                <a:cubicBezTo>
                  <a:pt x="12403" y="12348"/>
                  <a:pt x="12417" y="12412"/>
                  <a:pt x="12427" y="12502"/>
                </a:cubicBezTo>
                <a:cubicBezTo>
                  <a:pt x="12532" y="12472"/>
                  <a:pt x="12591" y="12444"/>
                  <a:pt x="12626" y="12353"/>
                </a:cubicBezTo>
              </a:path>
              <a:path w="323" h="546">
                <a:moveTo>
                  <a:pt x="12526" y="12229"/>
                </a:moveTo>
                <a:cubicBezTo>
                  <a:pt x="12580" y="12401"/>
                  <a:pt x="12623" y="12571"/>
                  <a:pt x="12650" y="12750"/>
                </a:cubicBezTo>
                <a:cubicBezTo>
                  <a:pt x="12650" y="12782"/>
                  <a:pt x="12650" y="12782"/>
                  <a:pt x="12650" y="12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33920" y="4438800"/>
            <a:ext cx="73080" cy="1440"/>
          </a:xfrm>
          <a:custGeom>
            <a:avLst/>
            <a:gdLst/>
            <a:ahLst/>
            <a:rect l="l" t="t" r="r" b="b"/>
            <a:pathLst>
              <a:path w="199" h="1">
                <a:moveTo>
                  <a:pt x="12874" y="12328"/>
                </a:moveTo>
                <a:cubicBezTo>
                  <a:pt x="12940" y="12328"/>
                  <a:pt x="13006" y="12328"/>
                  <a:pt x="13072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37080" y="4714920"/>
            <a:ext cx="357120" cy="160200"/>
          </a:xfrm>
          <a:custGeom>
            <a:avLst/>
            <a:gdLst/>
            <a:ahLst/>
            <a:rect l="l" t="t" r="r" b="b"/>
            <a:pathLst>
              <a:path w="993" h="447">
                <a:moveTo>
                  <a:pt x="12601" y="13444"/>
                </a:moveTo>
                <a:cubicBezTo>
                  <a:pt x="12675" y="13444"/>
                  <a:pt x="12750" y="13444"/>
                  <a:pt x="12824" y="13444"/>
                </a:cubicBezTo>
              </a:path>
              <a:path w="993" h="447">
                <a:moveTo>
                  <a:pt x="12948" y="13246"/>
                </a:moveTo>
                <a:cubicBezTo>
                  <a:pt x="12955" y="13319"/>
                  <a:pt x="12982" y="13382"/>
                  <a:pt x="12998" y="13444"/>
                </a:cubicBezTo>
                <a:cubicBezTo>
                  <a:pt x="13062" y="13430"/>
                  <a:pt x="13198" y="13376"/>
                  <a:pt x="13221" y="13295"/>
                </a:cubicBezTo>
                <a:cubicBezTo>
                  <a:pt x="13221" y="13262"/>
                  <a:pt x="13221" y="13229"/>
                  <a:pt x="13221" y="13196"/>
                </a:cubicBezTo>
              </a:path>
              <a:path w="993" h="447">
                <a:moveTo>
                  <a:pt x="13171" y="13097"/>
                </a:moveTo>
                <a:cubicBezTo>
                  <a:pt x="13171" y="13235"/>
                  <a:pt x="13221" y="13359"/>
                  <a:pt x="13246" y="13494"/>
                </a:cubicBezTo>
                <a:cubicBezTo>
                  <a:pt x="13246" y="13519"/>
                  <a:pt x="13246" y="13527"/>
                  <a:pt x="13246" y="13543"/>
                </a:cubicBezTo>
              </a:path>
              <a:path w="993" h="447">
                <a:moveTo>
                  <a:pt x="13469" y="13271"/>
                </a:moveTo>
                <a:cubicBezTo>
                  <a:pt x="13522" y="13271"/>
                  <a:pt x="13532" y="13264"/>
                  <a:pt x="13593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59280" y="2482920"/>
            <a:ext cx="1135080" cy="285840"/>
          </a:xfrm>
          <a:custGeom>
            <a:avLst/>
            <a:gdLst/>
            <a:ahLst/>
            <a:rect l="l" t="t" r="r" b="b"/>
            <a:pathLst>
              <a:path w="3151" h="794">
                <a:moveTo>
                  <a:pt x="16321" y="7342"/>
                </a:moveTo>
                <a:cubicBezTo>
                  <a:pt x="16276" y="7267"/>
                  <a:pt x="16154" y="7192"/>
                  <a:pt x="16073" y="7293"/>
                </a:cubicBezTo>
                <a:cubicBezTo>
                  <a:pt x="15931" y="7470"/>
                  <a:pt x="16001" y="7544"/>
                  <a:pt x="16098" y="7689"/>
                </a:cubicBezTo>
                <a:cubicBezTo>
                  <a:pt x="16331" y="7567"/>
                  <a:pt x="16414" y="7442"/>
                  <a:pt x="16222" y="7193"/>
                </a:cubicBezTo>
                <a:cubicBezTo>
                  <a:pt x="16163" y="7117"/>
                  <a:pt x="16120" y="7044"/>
                  <a:pt x="16024" y="7045"/>
                </a:cubicBezTo>
                <a:cubicBezTo>
                  <a:pt x="16170" y="7179"/>
                  <a:pt x="16292" y="7316"/>
                  <a:pt x="16421" y="7466"/>
                </a:cubicBezTo>
              </a:path>
              <a:path w="3151" h="794">
                <a:moveTo>
                  <a:pt x="16371" y="7243"/>
                </a:moveTo>
                <a:cubicBezTo>
                  <a:pt x="16477" y="7211"/>
                  <a:pt x="16575" y="7140"/>
                  <a:pt x="16669" y="7069"/>
                </a:cubicBezTo>
                <a:cubicBezTo>
                  <a:pt x="16584" y="7055"/>
                  <a:pt x="16466" y="6987"/>
                  <a:pt x="16421" y="7094"/>
                </a:cubicBezTo>
                <a:cubicBezTo>
                  <a:pt x="16368" y="7219"/>
                  <a:pt x="16488" y="7559"/>
                  <a:pt x="16669" y="7417"/>
                </a:cubicBezTo>
                <a:cubicBezTo>
                  <a:pt x="16702" y="7367"/>
                  <a:pt x="16735" y="7318"/>
                  <a:pt x="16768" y="7268"/>
                </a:cubicBezTo>
              </a:path>
              <a:path w="3151" h="794">
                <a:moveTo>
                  <a:pt x="16892" y="6970"/>
                </a:moveTo>
                <a:cubicBezTo>
                  <a:pt x="16895" y="6967"/>
                  <a:pt x="16752" y="6945"/>
                  <a:pt x="16768" y="7144"/>
                </a:cubicBezTo>
                <a:cubicBezTo>
                  <a:pt x="16799" y="7529"/>
                  <a:pt x="17096" y="7184"/>
                  <a:pt x="17190" y="7069"/>
                </a:cubicBezTo>
              </a:path>
              <a:path w="3151" h="794">
                <a:moveTo>
                  <a:pt x="17636" y="7491"/>
                </a:moveTo>
                <a:cubicBezTo>
                  <a:pt x="17612" y="7491"/>
                  <a:pt x="17926" y="7403"/>
                  <a:pt x="17959" y="7392"/>
                </a:cubicBezTo>
                <a:cubicBezTo>
                  <a:pt x="18094" y="7345"/>
                  <a:pt x="18315" y="7469"/>
                  <a:pt x="18380" y="7342"/>
                </a:cubicBezTo>
                <a:cubicBezTo>
                  <a:pt x="18355" y="7326"/>
                  <a:pt x="18331" y="7309"/>
                  <a:pt x="18306" y="7293"/>
                </a:cubicBezTo>
              </a:path>
              <a:path w="3151" h="794">
                <a:moveTo>
                  <a:pt x="18628" y="7045"/>
                </a:moveTo>
                <a:cubicBezTo>
                  <a:pt x="18788" y="7027"/>
                  <a:pt x="19004" y="6997"/>
                  <a:pt x="19149" y="6921"/>
                </a:cubicBezTo>
                <a:cubicBezTo>
                  <a:pt x="19149" y="6913"/>
                  <a:pt x="19149" y="6904"/>
                  <a:pt x="19149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3983040"/>
            <a:ext cx="527040" cy="231840"/>
          </a:xfrm>
          <a:custGeom>
            <a:avLst/>
            <a:gdLst/>
            <a:ahLst/>
            <a:rect l="l" t="t" r="r" b="b"/>
            <a:pathLst>
              <a:path w="1464" h="646">
                <a:moveTo>
                  <a:pt x="18802" y="11311"/>
                </a:moveTo>
                <a:cubicBezTo>
                  <a:pt x="18894" y="11334"/>
                  <a:pt x="18995" y="11336"/>
                  <a:pt x="19100" y="11336"/>
                </a:cubicBezTo>
                <a:cubicBezTo>
                  <a:pt x="19124" y="11336"/>
                  <a:pt x="19132" y="11336"/>
                  <a:pt x="19124" y="11361"/>
                </a:cubicBezTo>
              </a:path>
              <a:path w="1464" h="646">
                <a:moveTo>
                  <a:pt x="19546" y="11286"/>
                </a:moveTo>
                <a:cubicBezTo>
                  <a:pt x="19531" y="11184"/>
                  <a:pt x="19520" y="11130"/>
                  <a:pt x="19422" y="11088"/>
                </a:cubicBezTo>
                <a:cubicBezTo>
                  <a:pt x="19295" y="11033"/>
                  <a:pt x="19171" y="11074"/>
                  <a:pt x="19199" y="11237"/>
                </a:cubicBezTo>
                <a:cubicBezTo>
                  <a:pt x="19226" y="11397"/>
                  <a:pt x="19387" y="11498"/>
                  <a:pt x="19472" y="11311"/>
                </a:cubicBezTo>
                <a:cubicBezTo>
                  <a:pt x="19480" y="11270"/>
                  <a:pt x="19488" y="11228"/>
                  <a:pt x="19496" y="11187"/>
                </a:cubicBezTo>
                <a:cubicBezTo>
                  <a:pt x="19504" y="11170"/>
                  <a:pt x="19513" y="11154"/>
                  <a:pt x="19521" y="11137"/>
                </a:cubicBezTo>
                <a:cubicBezTo>
                  <a:pt x="19521" y="11327"/>
                  <a:pt x="19521" y="11518"/>
                  <a:pt x="19521" y="11708"/>
                </a:cubicBezTo>
              </a:path>
              <a:path w="1464" h="646">
                <a:moveTo>
                  <a:pt x="19819" y="11361"/>
                </a:moveTo>
                <a:cubicBezTo>
                  <a:pt x="19903" y="11361"/>
                  <a:pt x="19982" y="11339"/>
                  <a:pt x="20067" y="11336"/>
                </a:cubicBezTo>
                <a:cubicBezTo>
                  <a:pt x="20084" y="11336"/>
                  <a:pt x="20100" y="11336"/>
                  <a:pt x="20117" y="11336"/>
                </a:cubicBezTo>
              </a:path>
              <a:path w="1464" h="646">
                <a:moveTo>
                  <a:pt x="19918" y="11534"/>
                </a:moveTo>
                <a:cubicBezTo>
                  <a:pt x="20035" y="11515"/>
                  <a:pt x="20160" y="11487"/>
                  <a:pt x="20265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24800" y="4741920"/>
            <a:ext cx="561960" cy="196920"/>
          </a:xfrm>
          <a:custGeom>
            <a:avLst/>
            <a:gdLst/>
            <a:ahLst/>
            <a:rect l="l" t="t" r="r" b="b"/>
            <a:pathLst>
              <a:path w="1564" h="547">
                <a:moveTo>
                  <a:pt x="18678" y="13419"/>
                </a:moveTo>
                <a:cubicBezTo>
                  <a:pt x="18779" y="13441"/>
                  <a:pt x="18871" y="13444"/>
                  <a:pt x="18976" y="13444"/>
                </a:cubicBezTo>
              </a:path>
              <a:path w="1564" h="547">
                <a:moveTo>
                  <a:pt x="19348" y="13295"/>
                </a:moveTo>
                <a:cubicBezTo>
                  <a:pt x="19296" y="13214"/>
                  <a:pt x="19212" y="13114"/>
                  <a:pt x="19100" y="13196"/>
                </a:cubicBezTo>
                <a:cubicBezTo>
                  <a:pt x="18980" y="13284"/>
                  <a:pt x="19006" y="13609"/>
                  <a:pt x="19199" y="13494"/>
                </a:cubicBezTo>
                <a:cubicBezTo>
                  <a:pt x="19298" y="13435"/>
                  <a:pt x="19309" y="13342"/>
                  <a:pt x="19323" y="13246"/>
                </a:cubicBezTo>
                <a:cubicBezTo>
                  <a:pt x="19345" y="13376"/>
                  <a:pt x="19352" y="13513"/>
                  <a:pt x="19372" y="13643"/>
                </a:cubicBezTo>
                <a:cubicBezTo>
                  <a:pt x="19409" y="13754"/>
                  <a:pt x="19442" y="13749"/>
                  <a:pt x="19521" y="13568"/>
                </a:cubicBezTo>
              </a:path>
              <a:path w="1564" h="547">
                <a:moveTo>
                  <a:pt x="19745" y="13345"/>
                </a:moveTo>
                <a:cubicBezTo>
                  <a:pt x="19840" y="13345"/>
                  <a:pt x="19924" y="13329"/>
                  <a:pt x="20017" y="13320"/>
                </a:cubicBezTo>
              </a:path>
              <a:path w="1564" h="547">
                <a:moveTo>
                  <a:pt x="19769" y="13568"/>
                </a:moveTo>
                <a:cubicBezTo>
                  <a:pt x="19938" y="13544"/>
                  <a:pt x="20074" y="13528"/>
                  <a:pt x="20241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59800" y="4367160"/>
            <a:ext cx="268200" cy="204840"/>
          </a:xfrm>
          <a:custGeom>
            <a:avLst/>
            <a:gdLst/>
            <a:ahLst/>
            <a:rect l="l" t="t" r="r" b="b"/>
            <a:pathLst>
              <a:path w="745" h="572">
                <a:moveTo>
                  <a:pt x="21779" y="12278"/>
                </a:moveTo>
                <a:cubicBezTo>
                  <a:pt x="21762" y="12284"/>
                  <a:pt x="21720" y="12353"/>
                  <a:pt x="21729" y="12303"/>
                </a:cubicBezTo>
                <a:cubicBezTo>
                  <a:pt x="21750" y="12219"/>
                  <a:pt x="21752" y="12200"/>
                  <a:pt x="21779" y="12154"/>
                </a:cubicBezTo>
                <a:cubicBezTo>
                  <a:pt x="21933" y="12309"/>
                  <a:pt x="21880" y="12527"/>
                  <a:pt x="21679" y="12675"/>
                </a:cubicBezTo>
                <a:cubicBezTo>
                  <a:pt x="21595" y="12696"/>
                  <a:pt x="21569" y="12718"/>
                  <a:pt x="21555" y="12650"/>
                </a:cubicBezTo>
                <a:cubicBezTo>
                  <a:pt x="21648" y="12488"/>
                  <a:pt x="21773" y="12440"/>
                  <a:pt x="21952" y="12576"/>
                </a:cubicBezTo>
                <a:cubicBezTo>
                  <a:pt x="21960" y="12593"/>
                  <a:pt x="21969" y="12609"/>
                  <a:pt x="21977" y="12626"/>
                </a:cubicBezTo>
              </a:path>
              <a:path w="745" h="572">
                <a:moveTo>
                  <a:pt x="22151" y="12129"/>
                </a:moveTo>
                <a:cubicBezTo>
                  <a:pt x="21957" y="12365"/>
                  <a:pt x="22013" y="12285"/>
                  <a:pt x="22225" y="12427"/>
                </a:cubicBezTo>
                <a:cubicBezTo>
                  <a:pt x="22293" y="12495"/>
                  <a:pt x="22320" y="12512"/>
                  <a:pt x="22275" y="12576"/>
                </a:cubicBezTo>
                <a:cubicBezTo>
                  <a:pt x="22242" y="12593"/>
                  <a:pt x="22208" y="12609"/>
                  <a:pt x="22175" y="12626"/>
                </a:cubicBezTo>
                <a:cubicBezTo>
                  <a:pt x="22093" y="12461"/>
                  <a:pt x="22386" y="12301"/>
                  <a:pt x="22275" y="12154"/>
                </a:cubicBezTo>
                <a:cubicBezTo>
                  <a:pt x="22250" y="12162"/>
                  <a:pt x="22225" y="12171"/>
                  <a:pt x="22200" y="12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4960" y="5572080"/>
            <a:ext cx="115920" cy="19080"/>
          </a:xfrm>
          <a:custGeom>
            <a:avLst/>
            <a:gdLst/>
            <a:ahLst/>
            <a:rect l="l" t="t" r="r" b="b"/>
            <a:pathLst>
              <a:path w="323" h="51">
                <a:moveTo>
                  <a:pt x="20985" y="15528"/>
                </a:moveTo>
                <a:cubicBezTo>
                  <a:pt x="21096" y="15502"/>
                  <a:pt x="21194" y="15485"/>
                  <a:pt x="21307" y="15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9760" y="5500800"/>
            <a:ext cx="1625400" cy="928440"/>
          </a:xfrm>
          <a:custGeom>
            <a:avLst/>
            <a:gdLst/>
            <a:ahLst/>
            <a:rect l="l" t="t" r="r" b="b"/>
            <a:pathLst>
              <a:path w="4515" h="2580">
                <a:moveTo>
                  <a:pt x="20241" y="15453"/>
                </a:moveTo>
                <a:cubicBezTo>
                  <a:pt x="20241" y="15437"/>
                  <a:pt x="20241" y="15420"/>
                  <a:pt x="20241" y="15404"/>
                </a:cubicBezTo>
                <a:cubicBezTo>
                  <a:pt x="20397" y="15463"/>
                  <a:pt x="20495" y="15584"/>
                  <a:pt x="20613" y="15701"/>
                </a:cubicBezTo>
                <a:cubicBezTo>
                  <a:pt x="20643" y="15731"/>
                  <a:pt x="20659" y="15742"/>
                  <a:pt x="20687" y="15751"/>
                </a:cubicBezTo>
              </a:path>
              <a:path w="4515" h="2580">
                <a:moveTo>
                  <a:pt x="20712" y="15304"/>
                </a:moveTo>
                <a:cubicBezTo>
                  <a:pt x="20712" y="15259"/>
                  <a:pt x="20566" y="15500"/>
                  <a:pt x="20563" y="15503"/>
                </a:cubicBezTo>
                <a:cubicBezTo>
                  <a:pt x="20451" y="15642"/>
                  <a:pt x="20346" y="15761"/>
                  <a:pt x="20290" y="15925"/>
                </a:cubicBezTo>
                <a:cubicBezTo>
                  <a:pt x="20290" y="15949"/>
                  <a:pt x="20290" y="15957"/>
                  <a:pt x="20315" y="15949"/>
                </a:cubicBezTo>
              </a:path>
              <a:path w="4515" h="2580">
                <a:moveTo>
                  <a:pt x="17289" y="16495"/>
                </a:moveTo>
                <a:cubicBezTo>
                  <a:pt x="17437" y="16454"/>
                  <a:pt x="17478" y="16500"/>
                  <a:pt x="17587" y="16619"/>
                </a:cubicBezTo>
                <a:cubicBezTo>
                  <a:pt x="17631" y="16667"/>
                  <a:pt x="17886" y="16970"/>
                  <a:pt x="17884" y="16966"/>
                </a:cubicBezTo>
                <a:cubicBezTo>
                  <a:pt x="17859" y="16933"/>
                  <a:pt x="17835" y="16900"/>
                  <a:pt x="17810" y="16867"/>
                </a:cubicBezTo>
              </a:path>
              <a:path w="4515" h="2580">
                <a:moveTo>
                  <a:pt x="17859" y="16247"/>
                </a:moveTo>
                <a:cubicBezTo>
                  <a:pt x="17859" y="16526"/>
                  <a:pt x="17830" y="16814"/>
                  <a:pt x="17785" y="17090"/>
                </a:cubicBezTo>
                <a:cubicBezTo>
                  <a:pt x="17761" y="17236"/>
                  <a:pt x="17723" y="17366"/>
                  <a:pt x="17711" y="17512"/>
                </a:cubicBezTo>
              </a:path>
              <a:path w="4515" h="2580">
                <a:moveTo>
                  <a:pt x="18182" y="16619"/>
                </a:moveTo>
                <a:cubicBezTo>
                  <a:pt x="18278" y="16600"/>
                  <a:pt x="18380" y="16565"/>
                  <a:pt x="18479" y="16545"/>
                </a:cubicBezTo>
                <a:cubicBezTo>
                  <a:pt x="18504" y="16545"/>
                  <a:pt x="18512" y="16545"/>
                  <a:pt x="18504" y="16570"/>
                </a:cubicBezTo>
              </a:path>
              <a:path w="4515" h="2580">
                <a:moveTo>
                  <a:pt x="18256" y="16818"/>
                </a:moveTo>
                <a:cubicBezTo>
                  <a:pt x="18311" y="16818"/>
                  <a:pt x="18377" y="16805"/>
                  <a:pt x="18430" y="16793"/>
                </a:cubicBezTo>
                <a:cubicBezTo>
                  <a:pt x="18496" y="16778"/>
                  <a:pt x="18535" y="16768"/>
                  <a:pt x="18604" y="16768"/>
                </a:cubicBezTo>
              </a:path>
              <a:path w="4515" h="2580">
                <a:moveTo>
                  <a:pt x="19174" y="16446"/>
                </a:moveTo>
                <a:cubicBezTo>
                  <a:pt x="19322" y="16526"/>
                  <a:pt x="19449" y="16704"/>
                  <a:pt x="19571" y="16842"/>
                </a:cubicBezTo>
                <a:cubicBezTo>
                  <a:pt x="19579" y="16850"/>
                  <a:pt x="19588" y="16859"/>
                  <a:pt x="19596" y="16867"/>
                </a:cubicBezTo>
              </a:path>
              <a:path w="4515" h="2580">
                <a:moveTo>
                  <a:pt x="19496" y="16346"/>
                </a:moveTo>
                <a:cubicBezTo>
                  <a:pt x="19413" y="16543"/>
                  <a:pt x="19318" y="16756"/>
                  <a:pt x="19273" y="16966"/>
                </a:cubicBezTo>
                <a:cubicBezTo>
                  <a:pt x="19243" y="17106"/>
                  <a:pt x="19291" y="17064"/>
                  <a:pt x="19348" y="16991"/>
                </a:cubicBezTo>
              </a:path>
              <a:path w="4515" h="2580">
                <a:moveTo>
                  <a:pt x="19844" y="16694"/>
                </a:moveTo>
                <a:cubicBezTo>
                  <a:pt x="19940" y="16706"/>
                  <a:pt x="20079" y="16668"/>
                  <a:pt x="20166" y="16694"/>
                </a:cubicBezTo>
                <a:cubicBezTo>
                  <a:pt x="20166" y="16718"/>
                  <a:pt x="20166" y="16726"/>
                  <a:pt x="20191" y="16718"/>
                </a:cubicBezTo>
              </a:path>
              <a:path w="4515" h="2580">
                <a:moveTo>
                  <a:pt x="20687" y="16495"/>
                </a:moveTo>
                <a:cubicBezTo>
                  <a:pt x="20687" y="16440"/>
                  <a:pt x="20684" y="16384"/>
                  <a:pt x="20638" y="16346"/>
                </a:cubicBezTo>
                <a:cubicBezTo>
                  <a:pt x="20555" y="16276"/>
                  <a:pt x="20470" y="16246"/>
                  <a:pt x="20389" y="16346"/>
                </a:cubicBezTo>
                <a:cubicBezTo>
                  <a:pt x="20266" y="16497"/>
                  <a:pt x="20270" y="16645"/>
                  <a:pt x="20365" y="16793"/>
                </a:cubicBezTo>
                <a:cubicBezTo>
                  <a:pt x="20510" y="16762"/>
                  <a:pt x="20688" y="16659"/>
                  <a:pt x="20737" y="16495"/>
                </a:cubicBezTo>
                <a:cubicBezTo>
                  <a:pt x="20749" y="16456"/>
                  <a:pt x="20681" y="16335"/>
                  <a:pt x="20662" y="16297"/>
                </a:cubicBezTo>
                <a:cubicBezTo>
                  <a:pt x="20662" y="16155"/>
                  <a:pt x="20693" y="16529"/>
                  <a:pt x="20712" y="16669"/>
                </a:cubicBezTo>
                <a:cubicBezTo>
                  <a:pt x="20734" y="16826"/>
                  <a:pt x="20749" y="16984"/>
                  <a:pt x="20762" y="17140"/>
                </a:cubicBezTo>
                <a:cubicBezTo>
                  <a:pt x="20762" y="17148"/>
                  <a:pt x="20762" y="17157"/>
                  <a:pt x="20762" y="17165"/>
                </a:cubicBezTo>
              </a:path>
              <a:path w="4515" h="2580">
                <a:moveTo>
                  <a:pt x="17041" y="16098"/>
                </a:moveTo>
                <a:cubicBezTo>
                  <a:pt x="17062" y="16220"/>
                  <a:pt x="17142" y="16639"/>
                  <a:pt x="17165" y="16842"/>
                </a:cubicBezTo>
                <a:cubicBezTo>
                  <a:pt x="17200" y="17154"/>
                  <a:pt x="17148" y="17408"/>
                  <a:pt x="17115" y="17711"/>
                </a:cubicBezTo>
                <a:cubicBezTo>
                  <a:pt x="17112" y="17735"/>
                  <a:pt x="17118" y="17761"/>
                  <a:pt x="17115" y="17785"/>
                </a:cubicBezTo>
                <a:cubicBezTo>
                  <a:pt x="17269" y="17858"/>
                  <a:pt x="17296" y="17855"/>
                  <a:pt x="17487" y="17835"/>
                </a:cubicBezTo>
                <a:cubicBezTo>
                  <a:pt x="18202" y="17761"/>
                  <a:pt x="18926" y="17693"/>
                  <a:pt x="19645" y="17686"/>
                </a:cubicBezTo>
                <a:cubicBezTo>
                  <a:pt x="19942" y="17683"/>
                  <a:pt x="20219" y="17675"/>
                  <a:pt x="20513" y="17636"/>
                </a:cubicBezTo>
                <a:cubicBezTo>
                  <a:pt x="20663" y="17616"/>
                  <a:pt x="20811" y="17576"/>
                  <a:pt x="20960" y="17562"/>
                </a:cubicBezTo>
                <a:cubicBezTo>
                  <a:pt x="21028" y="17556"/>
                  <a:pt x="21232" y="17593"/>
                  <a:pt x="21282" y="17537"/>
                </a:cubicBezTo>
                <a:cubicBezTo>
                  <a:pt x="21328" y="17486"/>
                  <a:pt x="21339" y="17489"/>
                  <a:pt x="21357" y="17363"/>
                </a:cubicBezTo>
                <a:cubicBezTo>
                  <a:pt x="21385" y="17167"/>
                  <a:pt x="21361" y="16964"/>
                  <a:pt x="21382" y="16768"/>
                </a:cubicBezTo>
                <a:cubicBezTo>
                  <a:pt x="21398" y="16619"/>
                  <a:pt x="21420" y="16470"/>
                  <a:pt x="21431" y="16321"/>
                </a:cubicBezTo>
                <a:cubicBezTo>
                  <a:pt x="21439" y="16216"/>
                  <a:pt x="21417" y="16214"/>
                  <a:pt x="21406" y="16173"/>
                </a:cubicBezTo>
                <a:cubicBezTo>
                  <a:pt x="21390" y="16114"/>
                  <a:pt x="21399" y="16087"/>
                  <a:pt x="21357" y="16049"/>
                </a:cubicBezTo>
                <a:cubicBezTo>
                  <a:pt x="21348" y="16041"/>
                  <a:pt x="21265" y="16025"/>
                  <a:pt x="21258" y="16024"/>
                </a:cubicBezTo>
                <a:cubicBezTo>
                  <a:pt x="21150" y="16009"/>
                  <a:pt x="21062" y="16051"/>
                  <a:pt x="20960" y="16073"/>
                </a:cubicBezTo>
                <a:cubicBezTo>
                  <a:pt x="20886" y="16089"/>
                  <a:pt x="20813" y="16108"/>
                  <a:pt x="20737" y="16123"/>
                </a:cubicBezTo>
                <a:cubicBezTo>
                  <a:pt x="20599" y="16150"/>
                  <a:pt x="20458" y="16148"/>
                  <a:pt x="20315" y="16148"/>
                </a:cubicBezTo>
                <a:cubicBezTo>
                  <a:pt x="20056" y="16148"/>
                  <a:pt x="19802" y="16156"/>
                  <a:pt x="19546" y="16173"/>
                </a:cubicBezTo>
                <a:cubicBezTo>
                  <a:pt x="19406" y="16182"/>
                  <a:pt x="19265" y="16152"/>
                  <a:pt x="19124" y="16148"/>
                </a:cubicBezTo>
                <a:cubicBezTo>
                  <a:pt x="18885" y="16142"/>
                  <a:pt x="18642" y="16151"/>
                  <a:pt x="18405" y="16173"/>
                </a:cubicBezTo>
                <a:cubicBezTo>
                  <a:pt x="18188" y="16193"/>
                  <a:pt x="17978" y="16197"/>
                  <a:pt x="17760" y="16197"/>
                </a:cubicBezTo>
                <a:cubicBezTo>
                  <a:pt x="17609" y="16197"/>
                  <a:pt x="17465" y="16219"/>
                  <a:pt x="17314" y="16222"/>
                </a:cubicBezTo>
                <a:cubicBezTo>
                  <a:pt x="17219" y="16224"/>
                  <a:pt x="17118" y="16262"/>
                  <a:pt x="17041" y="16272"/>
                </a:cubicBezTo>
                <a:cubicBezTo>
                  <a:pt x="17007" y="16277"/>
                  <a:pt x="16923" y="16266"/>
                  <a:pt x="16917" y="16297"/>
                </a:cubicBezTo>
                <a:cubicBezTo>
                  <a:pt x="16950" y="16305"/>
                  <a:pt x="16983" y="16313"/>
                  <a:pt x="17016" y="163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2160" y="5429160"/>
            <a:ext cx="187560" cy="295200"/>
          </a:xfrm>
          <a:custGeom>
            <a:avLst/>
            <a:gdLst/>
            <a:ahLst/>
            <a:rect l="l" t="t" r="r" b="b"/>
            <a:pathLst>
              <a:path w="522" h="820">
                <a:moveTo>
                  <a:pt x="22027" y="15379"/>
                </a:moveTo>
                <a:cubicBezTo>
                  <a:pt x="22005" y="15228"/>
                  <a:pt x="21964" y="15122"/>
                  <a:pt x="21803" y="15081"/>
                </a:cubicBezTo>
                <a:cubicBezTo>
                  <a:pt x="21614" y="15033"/>
                  <a:pt x="21423" y="15282"/>
                  <a:pt x="21530" y="15453"/>
                </a:cubicBezTo>
                <a:cubicBezTo>
                  <a:pt x="21682" y="15695"/>
                  <a:pt x="21859" y="15382"/>
                  <a:pt x="21903" y="15280"/>
                </a:cubicBezTo>
                <a:cubicBezTo>
                  <a:pt x="21903" y="15255"/>
                  <a:pt x="21903" y="15230"/>
                  <a:pt x="21903" y="15205"/>
                </a:cubicBezTo>
                <a:cubicBezTo>
                  <a:pt x="21903" y="15390"/>
                  <a:pt x="21939" y="15568"/>
                  <a:pt x="21952" y="15751"/>
                </a:cubicBezTo>
                <a:cubicBezTo>
                  <a:pt x="21952" y="15842"/>
                  <a:pt x="21952" y="15850"/>
                  <a:pt x="21952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23080" y="3697200"/>
            <a:ext cx="214200" cy="187560"/>
          </a:xfrm>
          <a:custGeom>
            <a:avLst/>
            <a:gdLst/>
            <a:ahLst/>
            <a:rect l="l" t="t" r="r" b="b"/>
            <a:pathLst>
              <a:path w="596" h="522">
                <a:moveTo>
                  <a:pt x="18951" y="10517"/>
                </a:moveTo>
                <a:cubicBezTo>
                  <a:pt x="19009" y="10517"/>
                  <a:pt x="19066" y="10517"/>
                  <a:pt x="19124" y="10517"/>
                </a:cubicBezTo>
              </a:path>
              <a:path w="596" h="522">
                <a:moveTo>
                  <a:pt x="19472" y="10368"/>
                </a:moveTo>
                <a:cubicBezTo>
                  <a:pt x="19462" y="10351"/>
                  <a:pt x="19317" y="10209"/>
                  <a:pt x="19273" y="10269"/>
                </a:cubicBezTo>
                <a:cubicBezTo>
                  <a:pt x="19250" y="10359"/>
                  <a:pt x="19242" y="10383"/>
                  <a:pt x="19248" y="10443"/>
                </a:cubicBezTo>
                <a:cubicBezTo>
                  <a:pt x="19368" y="10443"/>
                  <a:pt x="19377" y="10439"/>
                  <a:pt x="19422" y="10319"/>
                </a:cubicBezTo>
                <a:cubicBezTo>
                  <a:pt x="19422" y="10311"/>
                  <a:pt x="19422" y="10302"/>
                  <a:pt x="19422" y="10294"/>
                </a:cubicBezTo>
                <a:cubicBezTo>
                  <a:pt x="19497" y="10344"/>
                  <a:pt x="19500" y="10597"/>
                  <a:pt x="19521" y="10691"/>
                </a:cubicBezTo>
                <a:cubicBezTo>
                  <a:pt x="19540" y="10748"/>
                  <a:pt x="19549" y="10755"/>
                  <a:pt x="19546" y="10790"/>
                </a:cubicBezTo>
              </a:path>
              <a:path w="596" h="522">
                <a:moveTo>
                  <a:pt x="19050" y="10468"/>
                </a:moveTo>
                <a:cubicBezTo>
                  <a:pt x="19038" y="10503"/>
                  <a:pt x="18985" y="10497"/>
                  <a:pt x="19025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31080" y="3598920"/>
            <a:ext cx="152280" cy="206280"/>
          </a:xfrm>
          <a:custGeom>
            <a:avLst/>
            <a:gdLst/>
            <a:ahLst/>
            <a:rect l="l" t="t" r="r" b="b"/>
            <a:pathLst>
              <a:path w="422" h="572">
                <a:moveTo>
                  <a:pt x="21754" y="10145"/>
                </a:moveTo>
                <a:cubicBezTo>
                  <a:pt x="21790" y="10264"/>
                  <a:pt x="21779" y="10389"/>
                  <a:pt x="21779" y="10517"/>
                </a:cubicBezTo>
                <a:cubicBezTo>
                  <a:pt x="21779" y="10534"/>
                  <a:pt x="21779" y="10550"/>
                  <a:pt x="21779" y="10567"/>
                </a:cubicBezTo>
              </a:path>
              <a:path w="422" h="572">
                <a:moveTo>
                  <a:pt x="21977" y="10021"/>
                </a:moveTo>
                <a:cubicBezTo>
                  <a:pt x="21891" y="10253"/>
                  <a:pt x="21895" y="10255"/>
                  <a:pt x="22101" y="10393"/>
                </a:cubicBezTo>
                <a:cubicBezTo>
                  <a:pt x="22165" y="10437"/>
                  <a:pt x="22195" y="10443"/>
                  <a:pt x="22151" y="10492"/>
                </a:cubicBezTo>
                <a:cubicBezTo>
                  <a:pt x="21882" y="10493"/>
                  <a:pt x="22012" y="10318"/>
                  <a:pt x="22101" y="10120"/>
                </a:cubicBezTo>
                <a:cubicBezTo>
                  <a:pt x="22140" y="10043"/>
                  <a:pt x="22174" y="10028"/>
                  <a:pt x="22126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23080" y="4500720"/>
            <a:ext cx="88920" cy="17280"/>
          </a:xfrm>
          <a:custGeom>
            <a:avLst/>
            <a:gdLst/>
            <a:ahLst/>
            <a:rect l="l" t="t" r="r" b="b"/>
            <a:pathLst>
              <a:path w="249" h="50">
                <a:moveTo>
                  <a:pt x="18951" y="12551"/>
                </a:moveTo>
                <a:cubicBezTo>
                  <a:pt x="19034" y="12528"/>
                  <a:pt x="19085" y="12502"/>
                  <a:pt x="19174" y="12502"/>
                </a:cubicBezTo>
                <a:cubicBezTo>
                  <a:pt x="19182" y="12502"/>
                  <a:pt x="19191" y="12502"/>
                  <a:pt x="19199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35840" y="4367160"/>
            <a:ext cx="108000" cy="169920"/>
          </a:xfrm>
          <a:custGeom>
            <a:avLst/>
            <a:gdLst/>
            <a:ahLst/>
            <a:rect l="l" t="t" r="r" b="b"/>
            <a:pathLst>
              <a:path w="299" h="473">
                <a:moveTo>
                  <a:pt x="19819" y="12179"/>
                </a:moveTo>
                <a:cubicBezTo>
                  <a:pt x="19858" y="12102"/>
                  <a:pt x="19623" y="12112"/>
                  <a:pt x="19571" y="12179"/>
                </a:cubicBezTo>
                <a:cubicBezTo>
                  <a:pt x="19461" y="12321"/>
                  <a:pt x="19625" y="12417"/>
                  <a:pt x="19720" y="12303"/>
                </a:cubicBezTo>
                <a:cubicBezTo>
                  <a:pt x="19736" y="12262"/>
                  <a:pt x="19753" y="12220"/>
                  <a:pt x="19769" y="12179"/>
                </a:cubicBezTo>
                <a:cubicBezTo>
                  <a:pt x="19777" y="12162"/>
                  <a:pt x="19786" y="12146"/>
                  <a:pt x="19794" y="12129"/>
                </a:cubicBezTo>
                <a:cubicBezTo>
                  <a:pt x="19794" y="12262"/>
                  <a:pt x="19837" y="12390"/>
                  <a:pt x="19844" y="12526"/>
                </a:cubicBezTo>
                <a:cubicBezTo>
                  <a:pt x="19844" y="12584"/>
                  <a:pt x="19844" y="12626"/>
                  <a:pt x="19844" y="125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31960" y="3714840"/>
            <a:ext cx="936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4837" y="10319"/>
                </a:moveTo>
                <a:cubicBezTo>
                  <a:pt x="4831" y="10395"/>
                  <a:pt x="4820" y="10467"/>
                  <a:pt x="4812" y="10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87680" y="3724200"/>
            <a:ext cx="134640" cy="1800"/>
          </a:xfrm>
          <a:custGeom>
            <a:avLst/>
            <a:gdLst/>
            <a:ahLst/>
            <a:rect l="l" t="t" r="r" b="b"/>
            <a:pathLst>
              <a:path w="373" h="1">
                <a:moveTo>
                  <a:pt x="4688" y="10344"/>
                </a:moveTo>
                <a:cubicBezTo>
                  <a:pt x="4812" y="10344"/>
                  <a:pt x="4936" y="10344"/>
                  <a:pt x="5060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9960" y="3687840"/>
            <a:ext cx="9360" cy="135000"/>
          </a:xfrm>
          <a:custGeom>
            <a:avLst/>
            <a:gdLst/>
            <a:ahLst/>
            <a:rect l="l" t="t" r="r" b="b"/>
            <a:pathLst>
              <a:path w="26" h="373">
                <a:moveTo>
                  <a:pt x="5110" y="10244"/>
                </a:moveTo>
                <a:cubicBezTo>
                  <a:pt x="5129" y="10360"/>
                  <a:pt x="5135" y="10471"/>
                  <a:pt x="5135" y="10592"/>
                </a:cubicBezTo>
                <a:cubicBezTo>
                  <a:pt x="5135" y="10616"/>
                  <a:pt x="5135" y="10624"/>
                  <a:pt x="5135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38240" y="3652920"/>
            <a:ext cx="27000" cy="160200"/>
          </a:xfrm>
          <a:custGeom>
            <a:avLst/>
            <a:gdLst/>
            <a:ahLst/>
            <a:rect l="l" t="t" r="r" b="b"/>
            <a:pathLst>
              <a:path w="75" h="448">
                <a:moveTo>
                  <a:pt x="5383" y="10145"/>
                </a:moveTo>
                <a:cubicBezTo>
                  <a:pt x="5425" y="10272"/>
                  <a:pt x="5452" y="10374"/>
                  <a:pt x="5457" y="10517"/>
                </a:cubicBezTo>
                <a:cubicBezTo>
                  <a:pt x="5457" y="10559"/>
                  <a:pt x="5457" y="10567"/>
                  <a:pt x="5457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76240" y="3687840"/>
            <a:ext cx="972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4961" y="10319"/>
                </a:moveTo>
                <a:cubicBezTo>
                  <a:pt x="4927" y="10239"/>
                  <a:pt x="4936" y="10230"/>
                  <a:pt x="4936" y="10319"/>
                </a:cubicBezTo>
                <a:cubicBezTo>
                  <a:pt x="4936" y="10400"/>
                  <a:pt x="4944" y="10342"/>
                  <a:pt x="4961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60720" y="3732120"/>
            <a:ext cx="144360" cy="97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6003" y="10368"/>
                </a:moveTo>
                <a:cubicBezTo>
                  <a:pt x="6130" y="10384"/>
                  <a:pt x="6246" y="10393"/>
                  <a:pt x="6375" y="10393"/>
                </a:cubicBezTo>
                <a:cubicBezTo>
                  <a:pt x="6383" y="10393"/>
                  <a:pt x="6392" y="10393"/>
                  <a:pt x="6400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87720" y="3751200"/>
            <a:ext cx="134640" cy="17640"/>
          </a:xfrm>
          <a:custGeom>
            <a:avLst/>
            <a:gdLst/>
            <a:ahLst/>
            <a:rect l="l" t="t" r="r" b="b"/>
            <a:pathLst>
              <a:path w="373" h="51">
                <a:moveTo>
                  <a:pt x="6077" y="10468"/>
                </a:moveTo>
                <a:cubicBezTo>
                  <a:pt x="6198" y="10454"/>
                  <a:pt x="6300" y="10418"/>
                  <a:pt x="6424" y="10418"/>
                </a:cubicBezTo>
                <a:cubicBezTo>
                  <a:pt x="6432" y="10418"/>
                  <a:pt x="6441" y="10418"/>
                  <a:pt x="6449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31960" y="4062240"/>
            <a:ext cx="9360" cy="108000"/>
          </a:xfrm>
          <a:custGeom>
            <a:avLst/>
            <a:gdLst/>
            <a:ahLst/>
            <a:rect l="l" t="t" r="r" b="b"/>
            <a:pathLst>
              <a:path w="26" h="299">
                <a:moveTo>
                  <a:pt x="4812" y="11311"/>
                </a:moveTo>
                <a:cubicBezTo>
                  <a:pt x="4812" y="11236"/>
                  <a:pt x="4831" y="11410"/>
                  <a:pt x="4837" y="11485"/>
                </a:cubicBezTo>
                <a:cubicBezTo>
                  <a:pt x="4837" y="11559"/>
                  <a:pt x="4862" y="11592"/>
                  <a:pt x="4812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87680" y="4106880"/>
            <a:ext cx="142560" cy="19080"/>
          </a:xfrm>
          <a:custGeom>
            <a:avLst/>
            <a:gdLst/>
            <a:ahLst/>
            <a:rect l="l" t="t" r="r" b="b"/>
            <a:pathLst>
              <a:path w="398" h="51">
                <a:moveTo>
                  <a:pt x="4688" y="11460"/>
                </a:moveTo>
                <a:cubicBezTo>
                  <a:pt x="4810" y="11434"/>
                  <a:pt x="4935" y="11417"/>
                  <a:pt x="5060" y="11410"/>
                </a:cubicBezTo>
                <a:cubicBezTo>
                  <a:pt x="5068" y="11410"/>
                  <a:pt x="5077" y="11410"/>
                  <a:pt x="5085" y="11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9960" y="4037040"/>
            <a:ext cx="17280" cy="115920"/>
          </a:xfrm>
          <a:custGeom>
            <a:avLst/>
            <a:gdLst/>
            <a:ahLst/>
            <a:rect l="l" t="t" r="r" b="b"/>
            <a:pathLst>
              <a:path w="50" h="323">
                <a:moveTo>
                  <a:pt x="5110" y="11212"/>
                </a:moveTo>
                <a:cubicBezTo>
                  <a:pt x="5138" y="11314"/>
                  <a:pt x="5146" y="11425"/>
                  <a:pt x="5159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11240" y="4044960"/>
            <a:ext cx="44640" cy="135000"/>
          </a:xfrm>
          <a:custGeom>
            <a:avLst/>
            <a:gdLst/>
            <a:ahLst/>
            <a:rect l="l" t="t" r="r" b="b"/>
            <a:pathLst>
              <a:path w="125" h="373">
                <a:moveTo>
                  <a:pt x="5308" y="11237"/>
                </a:moveTo>
                <a:cubicBezTo>
                  <a:pt x="5322" y="11347"/>
                  <a:pt x="5363" y="11454"/>
                  <a:pt x="5383" y="11559"/>
                </a:cubicBezTo>
                <a:cubicBezTo>
                  <a:pt x="5383" y="11611"/>
                  <a:pt x="5384" y="11627"/>
                  <a:pt x="5432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44800" y="4081320"/>
            <a:ext cx="108000" cy="17640"/>
          </a:xfrm>
          <a:custGeom>
            <a:avLst/>
            <a:gdLst/>
            <a:ahLst/>
            <a:rect l="l" t="t" r="r" b="b"/>
            <a:pathLst>
              <a:path w="299" h="50">
                <a:moveTo>
                  <a:pt x="5680" y="11385"/>
                </a:moveTo>
                <a:cubicBezTo>
                  <a:pt x="5771" y="11368"/>
                  <a:pt x="5857" y="11341"/>
                  <a:pt x="5953" y="11336"/>
                </a:cubicBezTo>
                <a:cubicBezTo>
                  <a:pt x="5961" y="11336"/>
                  <a:pt x="5970" y="11336"/>
                  <a:pt x="5978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81160" y="4116240"/>
            <a:ext cx="125640" cy="19080"/>
          </a:xfrm>
          <a:custGeom>
            <a:avLst/>
            <a:gdLst/>
            <a:ahLst/>
            <a:rect l="l" t="t" r="r" b="b"/>
            <a:pathLst>
              <a:path w="349" h="51">
                <a:moveTo>
                  <a:pt x="5779" y="11485"/>
                </a:moveTo>
                <a:cubicBezTo>
                  <a:pt x="5902" y="11479"/>
                  <a:pt x="6008" y="11455"/>
                  <a:pt x="6127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understand and write a rule for a function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eecd"/>
                </a:solidFill>
                <a:latin typeface="Arial"/>
              </a:rPr>
              <a:t>Skill Practice: 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Find the </a:t>
            </a:r>
            <a:r>
              <a:rPr b="1" lang="en-US" sz="2600" spc="-1" strike="noStrike">
                <a:solidFill>
                  <a:srgbClr val="e42b00"/>
                </a:solidFill>
                <a:latin typeface="Arial"/>
              </a:rPr>
              <a:t>missing inputs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and outputs, as well as </a:t>
            </a:r>
            <a:r>
              <a:rPr b="1" lang="en-US" sz="2600" spc="-1" strike="noStrike">
                <a:solidFill>
                  <a:srgbClr val="e42b00"/>
                </a:solidFill>
                <a:latin typeface="Arial"/>
              </a:rPr>
              <a:t>the rule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for each function 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Rule is:____      Rule is:____      Rule is: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907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5053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0199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098720" y="3116160"/>
            <a:ext cx="7099200" cy="3268800"/>
          </a:xfrm>
          <a:custGeom>
            <a:avLst/>
            <a:gdLst/>
            <a:ahLst/>
            <a:rect l="l" t="t" r="r" b="b"/>
            <a:pathLst>
              <a:path w="19721" h="9079">
                <a:moveTo>
                  <a:pt x="3051" y="12129"/>
                </a:moveTo>
                <a:lnTo>
                  <a:pt x="3051" y="12129"/>
                </a:lnTo>
              </a:path>
              <a:path w="19721" h="9079">
                <a:moveTo>
                  <a:pt x="11832" y="8657"/>
                </a:moveTo>
                <a:cubicBezTo>
                  <a:pt x="11788" y="8808"/>
                  <a:pt x="11782" y="8845"/>
                  <a:pt x="11733" y="8930"/>
                </a:cubicBezTo>
              </a:path>
              <a:path w="19721" h="9079">
                <a:moveTo>
                  <a:pt x="21878" y="17735"/>
                </a:moveTo>
                <a:cubicBezTo>
                  <a:pt x="22056" y="17706"/>
                  <a:pt x="22240" y="17705"/>
                  <a:pt x="22423" y="17686"/>
                </a:cubicBezTo>
                <a:cubicBezTo>
                  <a:pt x="22542" y="17674"/>
                  <a:pt x="22654" y="17648"/>
                  <a:pt x="22771" y="17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6960" y="4286160"/>
            <a:ext cx="411120" cy="142920"/>
          </a:xfrm>
          <a:custGeom>
            <a:avLst/>
            <a:gdLst/>
            <a:ahLst/>
            <a:rect l="l" t="t" r="r" b="b"/>
            <a:pathLst>
              <a:path w="1142" h="398">
                <a:moveTo>
                  <a:pt x="3051" y="12129"/>
                </a:moveTo>
                <a:cubicBezTo>
                  <a:pt x="3051" y="12063"/>
                  <a:pt x="3051" y="11997"/>
                  <a:pt x="3051" y="11931"/>
                </a:cubicBezTo>
                <a:cubicBezTo>
                  <a:pt x="2867" y="11931"/>
                  <a:pt x="2687" y="11947"/>
                  <a:pt x="2505" y="11956"/>
                </a:cubicBezTo>
                <a:cubicBezTo>
                  <a:pt x="2308" y="11965"/>
                  <a:pt x="2133" y="11953"/>
                  <a:pt x="1960" y="12055"/>
                </a:cubicBezTo>
                <a:cubicBezTo>
                  <a:pt x="1935" y="12070"/>
                  <a:pt x="1960" y="12164"/>
                  <a:pt x="1960" y="12204"/>
                </a:cubicBezTo>
                <a:cubicBezTo>
                  <a:pt x="1960" y="12262"/>
                  <a:pt x="1960" y="12270"/>
                  <a:pt x="1960" y="12303"/>
                </a:cubicBezTo>
                <a:cubicBezTo>
                  <a:pt x="2117" y="12303"/>
                  <a:pt x="2188" y="12224"/>
                  <a:pt x="2332" y="12154"/>
                </a:cubicBezTo>
                <a:cubicBezTo>
                  <a:pt x="2491" y="12077"/>
                  <a:pt x="2659" y="12027"/>
                  <a:pt x="2828" y="11981"/>
                </a:cubicBezTo>
                <a:cubicBezTo>
                  <a:pt x="2870" y="11969"/>
                  <a:pt x="3090" y="11922"/>
                  <a:pt x="3076" y="11931"/>
                </a:cubicBezTo>
                <a:cubicBezTo>
                  <a:pt x="3068" y="11931"/>
                  <a:pt x="3059" y="11931"/>
                  <a:pt x="3051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03240" y="4160880"/>
            <a:ext cx="250920" cy="179280"/>
          </a:xfrm>
          <a:custGeom>
            <a:avLst/>
            <a:gdLst/>
            <a:ahLst/>
            <a:rect l="l" t="t" r="r" b="b"/>
            <a:pathLst>
              <a:path w="695" h="497">
                <a:moveTo>
                  <a:pt x="5011" y="11782"/>
                </a:moveTo>
                <a:cubicBezTo>
                  <a:pt x="5051" y="11796"/>
                  <a:pt x="5090" y="11807"/>
                  <a:pt x="5159" y="11807"/>
                </a:cubicBezTo>
              </a:path>
              <a:path w="695" h="497">
                <a:moveTo>
                  <a:pt x="5234" y="11584"/>
                </a:moveTo>
                <a:cubicBezTo>
                  <a:pt x="5268" y="11740"/>
                  <a:pt x="5321" y="11870"/>
                  <a:pt x="5333" y="12030"/>
                </a:cubicBezTo>
                <a:cubicBezTo>
                  <a:pt x="5333" y="12038"/>
                  <a:pt x="5333" y="12047"/>
                  <a:pt x="5333" y="12055"/>
                </a:cubicBezTo>
              </a:path>
              <a:path w="695" h="497">
                <a:moveTo>
                  <a:pt x="5581" y="11609"/>
                </a:moveTo>
                <a:cubicBezTo>
                  <a:pt x="5467" y="11609"/>
                  <a:pt x="5441" y="11693"/>
                  <a:pt x="5457" y="11807"/>
                </a:cubicBezTo>
                <a:cubicBezTo>
                  <a:pt x="5465" y="11815"/>
                  <a:pt x="5474" y="11824"/>
                  <a:pt x="5482" y="11832"/>
                </a:cubicBezTo>
                <a:cubicBezTo>
                  <a:pt x="5592" y="11749"/>
                  <a:pt x="5652" y="11716"/>
                  <a:pt x="5631" y="11584"/>
                </a:cubicBezTo>
                <a:cubicBezTo>
                  <a:pt x="5631" y="11576"/>
                  <a:pt x="5631" y="11567"/>
                  <a:pt x="5631" y="11559"/>
                </a:cubicBezTo>
                <a:cubicBezTo>
                  <a:pt x="5647" y="11678"/>
                  <a:pt x="5657" y="11816"/>
                  <a:pt x="5680" y="11931"/>
                </a:cubicBezTo>
                <a:cubicBezTo>
                  <a:pt x="5688" y="11948"/>
                  <a:pt x="5697" y="11964"/>
                  <a:pt x="5705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59040" y="4027320"/>
            <a:ext cx="285840" cy="295560"/>
          </a:xfrm>
          <a:custGeom>
            <a:avLst/>
            <a:gdLst/>
            <a:ahLst/>
            <a:rect l="l" t="t" r="r" b="b"/>
            <a:pathLst>
              <a:path w="794" h="819">
                <a:moveTo>
                  <a:pt x="7665" y="11485"/>
                </a:moveTo>
                <a:cubicBezTo>
                  <a:pt x="7675" y="11589"/>
                  <a:pt x="7650" y="11864"/>
                  <a:pt x="7714" y="11956"/>
                </a:cubicBezTo>
                <a:cubicBezTo>
                  <a:pt x="7739" y="11964"/>
                  <a:pt x="7764" y="11973"/>
                  <a:pt x="7789" y="11981"/>
                </a:cubicBezTo>
                <a:cubicBezTo>
                  <a:pt x="7939" y="11920"/>
                  <a:pt x="8025" y="11849"/>
                  <a:pt x="7987" y="11658"/>
                </a:cubicBezTo>
                <a:cubicBezTo>
                  <a:pt x="7979" y="11650"/>
                  <a:pt x="7970" y="11641"/>
                  <a:pt x="7962" y="11633"/>
                </a:cubicBezTo>
                <a:cubicBezTo>
                  <a:pt x="7921" y="11679"/>
                  <a:pt x="7744" y="11936"/>
                  <a:pt x="7863" y="12005"/>
                </a:cubicBezTo>
                <a:cubicBezTo>
                  <a:pt x="7871" y="11989"/>
                  <a:pt x="7880" y="11972"/>
                  <a:pt x="7888" y="11956"/>
                </a:cubicBezTo>
              </a:path>
              <a:path w="794" h="819">
                <a:moveTo>
                  <a:pt x="8186" y="11336"/>
                </a:moveTo>
                <a:cubicBezTo>
                  <a:pt x="8185" y="11252"/>
                  <a:pt x="8260" y="11209"/>
                  <a:pt x="8359" y="11187"/>
                </a:cubicBezTo>
                <a:cubicBezTo>
                  <a:pt x="8351" y="11330"/>
                  <a:pt x="8337" y="11436"/>
                  <a:pt x="8260" y="11559"/>
                </a:cubicBezTo>
                <a:cubicBezTo>
                  <a:pt x="8279" y="11467"/>
                  <a:pt x="8292" y="11492"/>
                  <a:pt x="8384" y="11435"/>
                </a:cubicBezTo>
                <a:cubicBezTo>
                  <a:pt x="8484" y="11550"/>
                  <a:pt x="8492" y="11691"/>
                  <a:pt x="8334" y="11782"/>
                </a:cubicBezTo>
                <a:cubicBezTo>
                  <a:pt x="8257" y="11802"/>
                  <a:pt x="8239" y="11826"/>
                  <a:pt x="8210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46200" y="5375160"/>
            <a:ext cx="9864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6796" y="14932"/>
                </a:moveTo>
                <a:cubicBezTo>
                  <a:pt x="6887" y="14932"/>
                  <a:pt x="6978" y="14932"/>
                  <a:pt x="7069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70120" y="5259240"/>
            <a:ext cx="214200" cy="304920"/>
          </a:xfrm>
          <a:custGeom>
            <a:avLst/>
            <a:gdLst/>
            <a:ahLst/>
            <a:rect l="l" t="t" r="r" b="b"/>
            <a:pathLst>
              <a:path w="596" h="844">
                <a:moveTo>
                  <a:pt x="7417" y="14610"/>
                </a:moveTo>
                <a:cubicBezTo>
                  <a:pt x="7469" y="14856"/>
                  <a:pt x="7492" y="15109"/>
                  <a:pt x="7541" y="15354"/>
                </a:cubicBezTo>
                <a:cubicBezTo>
                  <a:pt x="7541" y="15346"/>
                  <a:pt x="7541" y="15337"/>
                  <a:pt x="7541" y="15329"/>
                </a:cubicBezTo>
              </a:path>
              <a:path w="596" h="844">
                <a:moveTo>
                  <a:pt x="7962" y="14908"/>
                </a:moveTo>
                <a:cubicBezTo>
                  <a:pt x="8038" y="14883"/>
                  <a:pt x="7931" y="14729"/>
                  <a:pt x="7888" y="14684"/>
                </a:cubicBezTo>
                <a:cubicBezTo>
                  <a:pt x="7832" y="14657"/>
                  <a:pt x="7810" y="14649"/>
                  <a:pt x="7764" y="14660"/>
                </a:cubicBezTo>
                <a:cubicBezTo>
                  <a:pt x="7711" y="14732"/>
                  <a:pt x="7520" y="14985"/>
                  <a:pt x="7689" y="15056"/>
                </a:cubicBezTo>
                <a:cubicBezTo>
                  <a:pt x="7887" y="15139"/>
                  <a:pt x="7931" y="14907"/>
                  <a:pt x="7938" y="14784"/>
                </a:cubicBezTo>
                <a:cubicBezTo>
                  <a:pt x="7938" y="14759"/>
                  <a:pt x="7938" y="14734"/>
                  <a:pt x="7938" y="14709"/>
                </a:cubicBezTo>
                <a:cubicBezTo>
                  <a:pt x="7952" y="14912"/>
                  <a:pt x="7962" y="15128"/>
                  <a:pt x="7987" y="15329"/>
                </a:cubicBezTo>
                <a:cubicBezTo>
                  <a:pt x="8006" y="15403"/>
                  <a:pt x="8014" y="15410"/>
                  <a:pt x="8012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97240" y="3062160"/>
            <a:ext cx="320760" cy="169920"/>
          </a:xfrm>
          <a:custGeom>
            <a:avLst/>
            <a:gdLst/>
            <a:ahLst/>
            <a:rect l="l" t="t" r="r" b="b"/>
            <a:pathLst>
              <a:path w="894" h="472">
                <a:moveTo>
                  <a:pt x="11658" y="8607"/>
                </a:moveTo>
                <a:cubicBezTo>
                  <a:pt x="11696" y="8682"/>
                  <a:pt x="11813" y="8784"/>
                  <a:pt x="11881" y="8855"/>
                </a:cubicBezTo>
                <a:cubicBezTo>
                  <a:pt x="11920" y="8894"/>
                  <a:pt x="11937" y="8896"/>
                  <a:pt x="11931" y="8930"/>
                </a:cubicBezTo>
              </a:path>
              <a:path w="894" h="472">
                <a:moveTo>
                  <a:pt x="12129" y="8508"/>
                </a:moveTo>
                <a:cubicBezTo>
                  <a:pt x="12129" y="8629"/>
                  <a:pt x="12142" y="8747"/>
                  <a:pt x="12204" y="8855"/>
                </a:cubicBezTo>
                <a:cubicBezTo>
                  <a:pt x="12221" y="8872"/>
                  <a:pt x="12237" y="8888"/>
                  <a:pt x="12254" y="8905"/>
                </a:cubicBezTo>
                <a:cubicBezTo>
                  <a:pt x="12450" y="8868"/>
                  <a:pt x="12484" y="8797"/>
                  <a:pt x="12551" y="8607"/>
                </a:cubicBezTo>
                <a:cubicBezTo>
                  <a:pt x="12429" y="8607"/>
                  <a:pt x="12389" y="8767"/>
                  <a:pt x="12402" y="8880"/>
                </a:cubicBezTo>
                <a:cubicBezTo>
                  <a:pt x="12419" y="8913"/>
                  <a:pt x="12435" y="8946"/>
                  <a:pt x="12452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97240" y="3411360"/>
            <a:ext cx="295560" cy="169920"/>
          </a:xfrm>
          <a:custGeom>
            <a:avLst/>
            <a:gdLst/>
            <a:ahLst/>
            <a:rect l="l" t="t" r="r" b="b"/>
            <a:pathLst>
              <a:path w="820" h="473">
                <a:moveTo>
                  <a:pt x="11658" y="9599"/>
                </a:moveTo>
                <a:cubicBezTo>
                  <a:pt x="11767" y="9643"/>
                  <a:pt x="11819" y="9770"/>
                  <a:pt x="11906" y="9847"/>
                </a:cubicBezTo>
                <a:cubicBezTo>
                  <a:pt x="11931" y="9847"/>
                  <a:pt x="11939" y="9847"/>
                  <a:pt x="11931" y="9823"/>
                </a:cubicBezTo>
              </a:path>
              <a:path w="820" h="473">
                <a:moveTo>
                  <a:pt x="12080" y="9475"/>
                </a:moveTo>
                <a:cubicBezTo>
                  <a:pt x="12137" y="9551"/>
                  <a:pt x="12134" y="9680"/>
                  <a:pt x="12154" y="9773"/>
                </a:cubicBezTo>
                <a:cubicBezTo>
                  <a:pt x="12176" y="9862"/>
                  <a:pt x="12177" y="9887"/>
                  <a:pt x="12229" y="9922"/>
                </a:cubicBezTo>
                <a:cubicBezTo>
                  <a:pt x="12392" y="9897"/>
                  <a:pt x="12497" y="9840"/>
                  <a:pt x="12477" y="9649"/>
                </a:cubicBezTo>
                <a:cubicBezTo>
                  <a:pt x="12469" y="9649"/>
                  <a:pt x="12460" y="9649"/>
                  <a:pt x="12452" y="9649"/>
                </a:cubicBezTo>
                <a:cubicBezTo>
                  <a:pt x="12364" y="9759"/>
                  <a:pt x="12337" y="9811"/>
                  <a:pt x="12378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41880" y="4170240"/>
            <a:ext cx="169920" cy="214560"/>
          </a:xfrm>
          <a:custGeom>
            <a:avLst/>
            <a:gdLst/>
            <a:ahLst/>
            <a:rect l="l" t="t" r="r" b="b"/>
            <a:pathLst>
              <a:path w="473" h="596">
                <a:moveTo>
                  <a:pt x="11782" y="11609"/>
                </a:moveTo>
                <a:cubicBezTo>
                  <a:pt x="11782" y="11563"/>
                  <a:pt x="11806" y="11941"/>
                  <a:pt x="11807" y="11956"/>
                </a:cubicBezTo>
                <a:cubicBezTo>
                  <a:pt x="11811" y="12041"/>
                  <a:pt x="11801" y="12155"/>
                  <a:pt x="11832" y="12154"/>
                </a:cubicBezTo>
              </a:path>
              <a:path w="473" h="596">
                <a:moveTo>
                  <a:pt x="12179" y="11609"/>
                </a:moveTo>
                <a:cubicBezTo>
                  <a:pt x="12179" y="11475"/>
                  <a:pt x="12220" y="11823"/>
                  <a:pt x="12229" y="11956"/>
                </a:cubicBezTo>
                <a:cubicBezTo>
                  <a:pt x="12237" y="12076"/>
                  <a:pt x="12236" y="12088"/>
                  <a:pt x="12254" y="12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1880" y="1670040"/>
            <a:ext cx="3687840" cy="4276800"/>
          </a:xfrm>
          <a:custGeom>
            <a:avLst/>
            <a:gdLst/>
            <a:ahLst/>
            <a:rect l="l" t="t" r="r" b="b"/>
            <a:pathLst>
              <a:path w="10246" h="11883">
                <a:moveTo>
                  <a:pt x="11906" y="9500"/>
                </a:moveTo>
                <a:cubicBezTo>
                  <a:pt x="11878" y="9602"/>
                  <a:pt x="11829" y="9729"/>
                  <a:pt x="11782" y="9823"/>
                </a:cubicBezTo>
              </a:path>
              <a:path w="10246" h="11883">
                <a:moveTo>
                  <a:pt x="16024" y="4762"/>
                </a:moveTo>
                <a:cubicBezTo>
                  <a:pt x="16109" y="4961"/>
                  <a:pt x="16195" y="5172"/>
                  <a:pt x="16247" y="5383"/>
                </a:cubicBezTo>
                <a:cubicBezTo>
                  <a:pt x="16247" y="5445"/>
                  <a:pt x="16239" y="5451"/>
                  <a:pt x="16197" y="5358"/>
                </a:cubicBezTo>
              </a:path>
              <a:path w="10246" h="11883">
                <a:moveTo>
                  <a:pt x="15850" y="4762"/>
                </a:moveTo>
                <a:cubicBezTo>
                  <a:pt x="16096" y="4656"/>
                  <a:pt x="16459" y="4516"/>
                  <a:pt x="16545" y="4911"/>
                </a:cubicBezTo>
                <a:cubicBezTo>
                  <a:pt x="16580" y="5072"/>
                  <a:pt x="16379" y="5397"/>
                  <a:pt x="16197" y="5383"/>
                </a:cubicBezTo>
                <a:cubicBezTo>
                  <a:pt x="16181" y="5366"/>
                  <a:pt x="16164" y="5350"/>
                  <a:pt x="16148" y="5333"/>
                </a:cubicBezTo>
              </a:path>
              <a:path w="10246" h="11883">
                <a:moveTo>
                  <a:pt x="18827" y="11336"/>
                </a:moveTo>
                <a:cubicBezTo>
                  <a:pt x="18827" y="11352"/>
                  <a:pt x="18827" y="11369"/>
                  <a:pt x="18827" y="11385"/>
                </a:cubicBezTo>
              </a:path>
              <a:path w="10246" h="11883">
                <a:moveTo>
                  <a:pt x="18876" y="11956"/>
                </a:moveTo>
                <a:cubicBezTo>
                  <a:pt x="18934" y="11956"/>
                  <a:pt x="18969" y="11936"/>
                  <a:pt x="19000" y="11881"/>
                </a:cubicBezTo>
              </a:path>
              <a:path w="10246" h="11883">
                <a:moveTo>
                  <a:pt x="19050" y="16222"/>
                </a:moveTo>
                <a:cubicBezTo>
                  <a:pt x="19113" y="16172"/>
                  <a:pt x="19267" y="16074"/>
                  <a:pt x="19348" y="16098"/>
                </a:cubicBezTo>
                <a:cubicBezTo>
                  <a:pt x="19348" y="16115"/>
                  <a:pt x="19348" y="16131"/>
                  <a:pt x="19348" y="16148"/>
                </a:cubicBezTo>
              </a:path>
              <a:path w="10246" h="11883">
                <a:moveTo>
                  <a:pt x="19075" y="16520"/>
                </a:moveTo>
                <a:cubicBezTo>
                  <a:pt x="19324" y="16510"/>
                  <a:pt x="19476" y="16466"/>
                  <a:pt x="19695" y="16346"/>
                </a:cubicBezTo>
              </a:path>
              <a:path w="10246" h="11883">
                <a:moveTo>
                  <a:pt x="19695" y="16346"/>
                </a:moveTo>
                <a:lnTo>
                  <a:pt x="19695" y="16346"/>
                </a:lnTo>
              </a:path>
              <a:path w="10246" h="11883">
                <a:moveTo>
                  <a:pt x="20290" y="14684"/>
                </a:moveTo>
                <a:cubicBezTo>
                  <a:pt x="20220" y="14945"/>
                  <a:pt x="20202" y="15206"/>
                  <a:pt x="20191" y="15478"/>
                </a:cubicBezTo>
              </a:path>
              <a:path w="10246" h="11883">
                <a:moveTo>
                  <a:pt x="22027" y="10914"/>
                </a:moveTo>
                <a:lnTo>
                  <a:pt x="22027" y="1091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80160" y="3463920"/>
            <a:ext cx="115920" cy="36360"/>
          </a:xfrm>
          <a:custGeom>
            <a:avLst/>
            <a:gdLst/>
            <a:ahLst/>
            <a:rect l="l" t="t" r="r" b="b"/>
            <a:pathLst>
              <a:path w="323" h="100">
                <a:moveTo>
                  <a:pt x="18554" y="9723"/>
                </a:moveTo>
                <a:cubicBezTo>
                  <a:pt x="18719" y="9723"/>
                  <a:pt x="18881" y="9801"/>
                  <a:pt x="18852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96080" y="3803760"/>
            <a:ext cx="115920" cy="36360"/>
          </a:xfrm>
          <a:custGeom>
            <a:avLst/>
            <a:gdLst/>
            <a:ahLst/>
            <a:rect l="l" t="t" r="r" b="b"/>
            <a:pathLst>
              <a:path w="324" h="100">
                <a:moveTo>
                  <a:pt x="18876" y="10666"/>
                </a:moveTo>
                <a:cubicBezTo>
                  <a:pt x="18998" y="10641"/>
                  <a:pt x="19090" y="10621"/>
                  <a:pt x="19199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97800" y="4214880"/>
            <a:ext cx="142560" cy="17280"/>
          </a:xfrm>
          <a:custGeom>
            <a:avLst/>
            <a:gdLst/>
            <a:ahLst/>
            <a:rect l="l" t="t" r="r" b="b"/>
            <a:pathLst>
              <a:path w="397" h="50">
                <a:moveTo>
                  <a:pt x="18604" y="11733"/>
                </a:moveTo>
                <a:cubicBezTo>
                  <a:pt x="18744" y="11716"/>
                  <a:pt x="18859" y="11746"/>
                  <a:pt x="19000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97840" y="5340240"/>
            <a:ext cx="142920" cy="133560"/>
          </a:xfrm>
          <a:custGeom>
            <a:avLst/>
            <a:gdLst/>
            <a:ahLst/>
            <a:rect l="l" t="t" r="r" b="b"/>
            <a:pathLst>
              <a:path w="397" h="373">
                <a:moveTo>
                  <a:pt x="19993" y="14858"/>
                </a:moveTo>
                <a:cubicBezTo>
                  <a:pt x="20026" y="14756"/>
                  <a:pt x="20146" y="14926"/>
                  <a:pt x="20216" y="15007"/>
                </a:cubicBezTo>
                <a:cubicBezTo>
                  <a:pt x="20304" y="15117"/>
                  <a:pt x="20324" y="15146"/>
                  <a:pt x="20389" y="152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73960" y="5724360"/>
            <a:ext cx="27000" cy="187560"/>
          </a:xfrm>
          <a:custGeom>
            <a:avLst/>
            <a:gdLst/>
            <a:ahLst/>
            <a:rect l="l" t="t" r="r" b="b"/>
            <a:pathLst>
              <a:path w="75" h="522">
                <a:moveTo>
                  <a:pt x="20762" y="15900"/>
                </a:moveTo>
                <a:cubicBezTo>
                  <a:pt x="20762" y="16002"/>
                  <a:pt x="20771" y="16053"/>
                  <a:pt x="20811" y="16123"/>
                </a:cubicBezTo>
              </a:path>
              <a:path w="75" h="522">
                <a:moveTo>
                  <a:pt x="20836" y="16421"/>
                </a:moveTo>
                <a:lnTo>
                  <a:pt x="20836" y="16421"/>
                </a:lnTo>
                <a:lnTo>
                  <a:pt x="20836" y="16421"/>
                </a:lnTo>
              </a:path>
              <a:path w="75" h="522">
                <a:moveTo>
                  <a:pt x="20811" y="16123"/>
                </a:moveTo>
                <a:lnTo>
                  <a:pt x="20811" y="1612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80200" y="5724360"/>
            <a:ext cx="588960" cy="249480"/>
          </a:xfrm>
          <a:custGeom>
            <a:avLst/>
            <a:gdLst/>
            <a:ahLst/>
            <a:rect l="l" t="t" r="r" b="b"/>
            <a:pathLst>
              <a:path w="1638" h="695">
                <a:moveTo>
                  <a:pt x="19943" y="16173"/>
                </a:moveTo>
                <a:cubicBezTo>
                  <a:pt x="20055" y="16270"/>
                  <a:pt x="20160" y="16365"/>
                  <a:pt x="20265" y="16470"/>
                </a:cubicBezTo>
              </a:path>
              <a:path w="1638" h="695">
                <a:moveTo>
                  <a:pt x="20166" y="16073"/>
                </a:moveTo>
                <a:cubicBezTo>
                  <a:pt x="20143" y="16137"/>
                  <a:pt x="19949" y="16515"/>
                  <a:pt x="19993" y="16594"/>
                </a:cubicBezTo>
                <a:cubicBezTo>
                  <a:pt x="20001" y="16594"/>
                  <a:pt x="20009" y="16594"/>
                  <a:pt x="20017" y="16594"/>
                </a:cubicBezTo>
              </a:path>
              <a:path w="1638" h="695">
                <a:moveTo>
                  <a:pt x="20638" y="16148"/>
                </a:moveTo>
                <a:cubicBezTo>
                  <a:pt x="20776" y="16133"/>
                  <a:pt x="20938" y="16068"/>
                  <a:pt x="21059" y="16098"/>
                </a:cubicBezTo>
              </a:path>
              <a:path w="1638" h="695">
                <a:moveTo>
                  <a:pt x="21481" y="15900"/>
                </a:moveTo>
                <a:cubicBezTo>
                  <a:pt x="21377" y="15966"/>
                  <a:pt x="21261" y="16016"/>
                  <a:pt x="21208" y="16123"/>
                </a:cubicBezTo>
                <a:cubicBezTo>
                  <a:pt x="21295" y="16156"/>
                  <a:pt x="21659" y="16222"/>
                  <a:pt x="21555" y="16371"/>
                </a:cubicBezTo>
                <a:cubicBezTo>
                  <a:pt x="21463" y="16441"/>
                  <a:pt x="21438" y="16466"/>
                  <a:pt x="21357" y="16446"/>
                </a:cubicBezTo>
                <a:cubicBezTo>
                  <a:pt x="21324" y="16255"/>
                  <a:pt x="21322" y="16076"/>
                  <a:pt x="21456" y="15900"/>
                </a:cubicBezTo>
                <a:cubicBezTo>
                  <a:pt x="21456" y="15908"/>
                  <a:pt x="21456" y="15917"/>
                  <a:pt x="21456" y="15925"/>
                </a:cubicBezTo>
              </a:path>
              <a:path w="1638" h="695">
                <a:moveTo>
                  <a:pt x="20563" y="16272"/>
                </a:moveTo>
                <a:cubicBezTo>
                  <a:pt x="20645" y="16256"/>
                  <a:pt x="20723" y="16228"/>
                  <a:pt x="20811" y="16222"/>
                </a:cubicBezTo>
                <a:cubicBezTo>
                  <a:pt x="20819" y="16222"/>
                  <a:pt x="20828" y="16222"/>
                  <a:pt x="20836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9080" y="5313240"/>
            <a:ext cx="401760" cy="295560"/>
          </a:xfrm>
          <a:custGeom>
            <a:avLst/>
            <a:gdLst/>
            <a:ahLst/>
            <a:rect l="l" t="t" r="r" b="b"/>
            <a:pathLst>
              <a:path w="1118" h="819">
                <a:moveTo>
                  <a:pt x="22051" y="14858"/>
                </a:moveTo>
                <a:cubicBezTo>
                  <a:pt x="22167" y="14858"/>
                  <a:pt x="22367" y="14811"/>
                  <a:pt x="22399" y="14908"/>
                </a:cubicBezTo>
              </a:path>
              <a:path w="1118" h="819">
                <a:moveTo>
                  <a:pt x="22151" y="15131"/>
                </a:moveTo>
                <a:cubicBezTo>
                  <a:pt x="22293" y="15102"/>
                  <a:pt x="22433" y="15074"/>
                  <a:pt x="22572" y="15032"/>
                </a:cubicBezTo>
              </a:path>
              <a:path w="1118" h="819">
                <a:moveTo>
                  <a:pt x="22820" y="14759"/>
                </a:moveTo>
                <a:cubicBezTo>
                  <a:pt x="22820" y="14858"/>
                  <a:pt x="22822" y="14923"/>
                  <a:pt x="22870" y="15007"/>
                </a:cubicBezTo>
                <a:cubicBezTo>
                  <a:pt x="23023" y="14985"/>
                  <a:pt x="23050" y="14947"/>
                  <a:pt x="23068" y="14784"/>
                </a:cubicBezTo>
                <a:cubicBezTo>
                  <a:pt x="23068" y="14759"/>
                  <a:pt x="23068" y="14751"/>
                  <a:pt x="23068" y="14784"/>
                </a:cubicBezTo>
                <a:cubicBezTo>
                  <a:pt x="23158" y="14993"/>
                  <a:pt x="23238" y="15172"/>
                  <a:pt x="23093" y="15379"/>
                </a:cubicBezTo>
                <a:cubicBezTo>
                  <a:pt x="23044" y="15449"/>
                  <a:pt x="22771" y="15715"/>
                  <a:pt x="22796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61160" y="5268960"/>
            <a:ext cx="15264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21679" y="14635"/>
                </a:moveTo>
                <a:cubicBezTo>
                  <a:pt x="21526" y="14678"/>
                  <a:pt x="21408" y="14760"/>
                  <a:pt x="21307" y="14883"/>
                </a:cubicBezTo>
                <a:cubicBezTo>
                  <a:pt x="21299" y="14899"/>
                  <a:pt x="21290" y="14916"/>
                  <a:pt x="21282" y="14932"/>
                </a:cubicBezTo>
                <a:cubicBezTo>
                  <a:pt x="21484" y="14997"/>
                  <a:pt x="21640" y="14999"/>
                  <a:pt x="21704" y="15205"/>
                </a:cubicBezTo>
                <a:cubicBezTo>
                  <a:pt x="21515" y="15281"/>
                  <a:pt x="21455" y="15220"/>
                  <a:pt x="21506" y="14982"/>
                </a:cubicBezTo>
                <a:cubicBezTo>
                  <a:pt x="21534" y="14853"/>
                  <a:pt x="21649" y="14726"/>
                  <a:pt x="21679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47000" y="6419880"/>
            <a:ext cx="179280" cy="260280"/>
          </a:xfrm>
          <a:custGeom>
            <a:avLst/>
            <a:gdLst/>
            <a:ahLst/>
            <a:rect l="l" t="t" r="r" b="b"/>
            <a:pathLst>
              <a:path w="497" h="720">
                <a:moveTo>
                  <a:pt x="22349" y="17884"/>
                </a:moveTo>
                <a:cubicBezTo>
                  <a:pt x="22275" y="17859"/>
                  <a:pt x="22155" y="17900"/>
                  <a:pt x="22101" y="17983"/>
                </a:cubicBezTo>
                <a:cubicBezTo>
                  <a:pt x="22014" y="18116"/>
                  <a:pt x="22143" y="18179"/>
                  <a:pt x="22225" y="18256"/>
                </a:cubicBezTo>
                <a:cubicBezTo>
                  <a:pt x="22275" y="18303"/>
                  <a:pt x="22429" y="18427"/>
                  <a:pt x="22423" y="18504"/>
                </a:cubicBezTo>
                <a:cubicBezTo>
                  <a:pt x="22415" y="18512"/>
                  <a:pt x="22407" y="18521"/>
                  <a:pt x="22399" y="18529"/>
                </a:cubicBezTo>
                <a:cubicBezTo>
                  <a:pt x="22247" y="18548"/>
                  <a:pt x="22132" y="18553"/>
                  <a:pt x="22151" y="18355"/>
                </a:cubicBezTo>
                <a:cubicBezTo>
                  <a:pt x="22164" y="18217"/>
                  <a:pt x="22293" y="18140"/>
                  <a:pt x="22399" y="18083"/>
                </a:cubicBezTo>
                <a:cubicBezTo>
                  <a:pt x="22435" y="18063"/>
                  <a:pt x="22632" y="17973"/>
                  <a:pt x="22572" y="17884"/>
                </a:cubicBezTo>
                <a:cubicBezTo>
                  <a:pt x="22533" y="17827"/>
                  <a:pt x="22451" y="17827"/>
                  <a:pt x="22399" y="17859"/>
                </a:cubicBezTo>
                <a:cubicBezTo>
                  <a:pt x="22391" y="17867"/>
                  <a:pt x="22382" y="17876"/>
                  <a:pt x="22374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80200" y="6276960"/>
            <a:ext cx="490680" cy="376200"/>
          </a:xfrm>
          <a:custGeom>
            <a:avLst/>
            <a:gdLst/>
            <a:ahLst/>
            <a:rect l="l" t="t" r="r" b="b"/>
            <a:pathLst>
              <a:path w="1365" h="1042">
                <a:moveTo>
                  <a:pt x="20042" y="17462"/>
                </a:moveTo>
                <a:cubicBezTo>
                  <a:pt x="20042" y="17387"/>
                  <a:pt x="20023" y="17561"/>
                  <a:pt x="20017" y="17636"/>
                </a:cubicBezTo>
                <a:cubicBezTo>
                  <a:pt x="20008" y="17742"/>
                  <a:pt x="19985" y="17872"/>
                  <a:pt x="20117" y="17909"/>
                </a:cubicBezTo>
                <a:cubicBezTo>
                  <a:pt x="20267" y="17951"/>
                  <a:pt x="20370" y="17773"/>
                  <a:pt x="20414" y="17661"/>
                </a:cubicBezTo>
                <a:cubicBezTo>
                  <a:pt x="20415" y="17658"/>
                  <a:pt x="20480" y="17429"/>
                  <a:pt x="20439" y="17512"/>
                </a:cubicBezTo>
                <a:cubicBezTo>
                  <a:pt x="20439" y="17725"/>
                  <a:pt x="20463" y="17921"/>
                  <a:pt x="20439" y="18132"/>
                </a:cubicBezTo>
                <a:cubicBezTo>
                  <a:pt x="20411" y="18379"/>
                  <a:pt x="20296" y="18491"/>
                  <a:pt x="20042" y="18479"/>
                </a:cubicBezTo>
                <a:cubicBezTo>
                  <a:pt x="20024" y="18478"/>
                  <a:pt x="19922" y="18432"/>
                  <a:pt x="19943" y="18405"/>
                </a:cubicBezTo>
                <a:cubicBezTo>
                  <a:pt x="19968" y="18380"/>
                  <a:pt x="19992" y="18356"/>
                  <a:pt x="20017" y="18331"/>
                </a:cubicBezTo>
              </a:path>
              <a:path w="1365" h="1042">
                <a:moveTo>
                  <a:pt x="20811" y="17611"/>
                </a:moveTo>
                <a:cubicBezTo>
                  <a:pt x="20928" y="17592"/>
                  <a:pt x="21037" y="17587"/>
                  <a:pt x="21158" y="17587"/>
                </a:cubicBezTo>
                <a:cubicBezTo>
                  <a:pt x="21234" y="17587"/>
                  <a:pt x="21221" y="17568"/>
                  <a:pt x="21233" y="17636"/>
                </a:cubicBezTo>
              </a:path>
              <a:path w="1365" h="1042">
                <a:moveTo>
                  <a:pt x="20886" y="17835"/>
                </a:moveTo>
                <a:cubicBezTo>
                  <a:pt x="21018" y="17811"/>
                  <a:pt x="21146" y="17779"/>
                  <a:pt x="21282" y="17760"/>
                </a:cubicBezTo>
                <a:cubicBezTo>
                  <a:pt x="21290" y="17760"/>
                  <a:pt x="21299" y="17760"/>
                  <a:pt x="21307" y="177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9080" y="6037200"/>
            <a:ext cx="160200" cy="231840"/>
          </a:xfrm>
          <a:custGeom>
            <a:avLst/>
            <a:gdLst/>
            <a:ahLst/>
            <a:rect l="l" t="t" r="r" b="b"/>
            <a:pathLst>
              <a:path w="448" h="646">
                <a:moveTo>
                  <a:pt x="22051" y="16966"/>
                </a:moveTo>
                <a:cubicBezTo>
                  <a:pt x="22148" y="17086"/>
                  <a:pt x="22247" y="17273"/>
                  <a:pt x="22374" y="17363"/>
                </a:cubicBezTo>
                <a:cubicBezTo>
                  <a:pt x="22382" y="17363"/>
                  <a:pt x="22391" y="17363"/>
                  <a:pt x="22399" y="17363"/>
                </a:cubicBezTo>
              </a:path>
              <a:path w="448" h="646">
                <a:moveTo>
                  <a:pt x="22498" y="16768"/>
                </a:moveTo>
                <a:cubicBezTo>
                  <a:pt x="22416" y="16973"/>
                  <a:pt x="22280" y="17123"/>
                  <a:pt x="22175" y="17314"/>
                </a:cubicBezTo>
                <a:cubicBezTo>
                  <a:pt x="22142" y="17374"/>
                  <a:pt x="22134" y="17399"/>
                  <a:pt x="22175" y="17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5120" y="5214960"/>
            <a:ext cx="403200" cy="233280"/>
          </a:xfrm>
          <a:custGeom>
            <a:avLst/>
            <a:gdLst/>
            <a:ahLst/>
            <a:rect l="l" t="t" r="r" b="b"/>
            <a:pathLst>
              <a:path w="1118" h="646">
                <a:moveTo>
                  <a:pt x="13543" y="14660"/>
                </a:moveTo>
                <a:cubicBezTo>
                  <a:pt x="13664" y="14740"/>
                  <a:pt x="13755" y="14904"/>
                  <a:pt x="13841" y="15032"/>
                </a:cubicBezTo>
                <a:cubicBezTo>
                  <a:pt x="13879" y="15088"/>
                  <a:pt x="13896" y="15091"/>
                  <a:pt x="13891" y="15131"/>
                </a:cubicBezTo>
              </a:path>
              <a:path w="1118" h="646">
                <a:moveTo>
                  <a:pt x="13891" y="14560"/>
                </a:moveTo>
                <a:cubicBezTo>
                  <a:pt x="13791" y="14727"/>
                  <a:pt x="13732" y="14909"/>
                  <a:pt x="13643" y="15081"/>
                </a:cubicBezTo>
                <a:cubicBezTo>
                  <a:pt x="13622" y="15122"/>
                  <a:pt x="13574" y="15160"/>
                  <a:pt x="13667" y="15081"/>
                </a:cubicBezTo>
              </a:path>
              <a:path w="1118" h="646">
                <a:moveTo>
                  <a:pt x="14188" y="14486"/>
                </a:moveTo>
                <a:cubicBezTo>
                  <a:pt x="14188" y="14630"/>
                  <a:pt x="14209" y="14765"/>
                  <a:pt x="14213" y="14908"/>
                </a:cubicBezTo>
                <a:cubicBezTo>
                  <a:pt x="14216" y="15015"/>
                  <a:pt x="14236" y="15093"/>
                  <a:pt x="14362" y="15106"/>
                </a:cubicBezTo>
                <a:cubicBezTo>
                  <a:pt x="14489" y="15119"/>
                  <a:pt x="14579" y="15043"/>
                  <a:pt x="14635" y="14932"/>
                </a:cubicBezTo>
                <a:cubicBezTo>
                  <a:pt x="14661" y="14881"/>
                  <a:pt x="14660" y="14857"/>
                  <a:pt x="14660" y="14808"/>
                </a:cubicBezTo>
                <a:cubicBezTo>
                  <a:pt x="14545" y="14778"/>
                  <a:pt x="14514" y="14783"/>
                  <a:pt x="14436" y="14883"/>
                </a:cubicBezTo>
                <a:cubicBezTo>
                  <a:pt x="14382" y="14952"/>
                  <a:pt x="14359" y="15062"/>
                  <a:pt x="14436" y="15131"/>
                </a:cubicBezTo>
                <a:cubicBezTo>
                  <a:pt x="14444" y="15131"/>
                  <a:pt x="14453" y="15131"/>
                  <a:pt x="14461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59240" y="3724200"/>
            <a:ext cx="304920" cy="231840"/>
          </a:xfrm>
          <a:custGeom>
            <a:avLst/>
            <a:gdLst/>
            <a:ahLst/>
            <a:rect l="l" t="t" r="r" b="b"/>
            <a:pathLst>
              <a:path w="844" h="645">
                <a:moveTo>
                  <a:pt x="14734" y="10492"/>
                </a:moveTo>
                <a:cubicBezTo>
                  <a:pt x="14690" y="10591"/>
                  <a:pt x="14652" y="10690"/>
                  <a:pt x="14610" y="10790"/>
                </a:cubicBezTo>
                <a:cubicBezTo>
                  <a:pt x="14719" y="10831"/>
                  <a:pt x="14865" y="10813"/>
                  <a:pt x="14982" y="10765"/>
                </a:cubicBezTo>
                <a:cubicBezTo>
                  <a:pt x="15017" y="10730"/>
                  <a:pt x="15030" y="10708"/>
                  <a:pt x="15032" y="10666"/>
                </a:cubicBezTo>
              </a:path>
              <a:path w="844" h="645">
                <a:moveTo>
                  <a:pt x="14957" y="10393"/>
                </a:moveTo>
                <a:cubicBezTo>
                  <a:pt x="14957" y="10553"/>
                  <a:pt x="14978" y="10705"/>
                  <a:pt x="14982" y="10864"/>
                </a:cubicBezTo>
                <a:cubicBezTo>
                  <a:pt x="14983" y="10922"/>
                  <a:pt x="14982" y="10997"/>
                  <a:pt x="14982" y="10939"/>
                </a:cubicBezTo>
              </a:path>
              <a:path w="844" h="645">
                <a:moveTo>
                  <a:pt x="15453" y="10344"/>
                </a:moveTo>
                <a:cubicBezTo>
                  <a:pt x="15357" y="10383"/>
                  <a:pt x="15254" y="10425"/>
                  <a:pt x="15230" y="10542"/>
                </a:cubicBezTo>
                <a:cubicBezTo>
                  <a:pt x="15199" y="10691"/>
                  <a:pt x="15427" y="10677"/>
                  <a:pt x="15453" y="10815"/>
                </a:cubicBezTo>
                <a:cubicBezTo>
                  <a:pt x="15445" y="10840"/>
                  <a:pt x="15437" y="10864"/>
                  <a:pt x="15429" y="10889"/>
                </a:cubicBezTo>
                <a:cubicBezTo>
                  <a:pt x="15244" y="10871"/>
                  <a:pt x="15310" y="10710"/>
                  <a:pt x="15354" y="10567"/>
                </a:cubicBezTo>
                <a:cubicBezTo>
                  <a:pt x="15361" y="10544"/>
                  <a:pt x="15519" y="10293"/>
                  <a:pt x="15429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6840" y="1616040"/>
            <a:ext cx="312840" cy="258840"/>
          </a:xfrm>
          <a:custGeom>
            <a:avLst/>
            <a:gdLst/>
            <a:ahLst/>
            <a:rect l="l" t="t" r="r" b="b"/>
            <a:pathLst>
              <a:path w="869" h="720">
                <a:moveTo>
                  <a:pt x="16520" y="4986"/>
                </a:moveTo>
                <a:cubicBezTo>
                  <a:pt x="16602" y="4970"/>
                  <a:pt x="16720" y="4926"/>
                  <a:pt x="16768" y="4862"/>
                </a:cubicBezTo>
                <a:cubicBezTo>
                  <a:pt x="16796" y="4825"/>
                  <a:pt x="16729" y="4775"/>
                  <a:pt x="16718" y="4762"/>
                </a:cubicBezTo>
                <a:cubicBezTo>
                  <a:pt x="16543" y="4728"/>
                  <a:pt x="16546" y="4943"/>
                  <a:pt x="16594" y="5085"/>
                </a:cubicBezTo>
                <a:cubicBezTo>
                  <a:pt x="16619" y="5118"/>
                  <a:pt x="16644" y="5151"/>
                  <a:pt x="16669" y="5184"/>
                </a:cubicBezTo>
                <a:cubicBezTo>
                  <a:pt x="16982" y="5185"/>
                  <a:pt x="16966" y="5022"/>
                  <a:pt x="17016" y="4738"/>
                </a:cubicBezTo>
              </a:path>
              <a:path w="869" h="720">
                <a:moveTo>
                  <a:pt x="17090" y="4539"/>
                </a:moveTo>
                <a:cubicBezTo>
                  <a:pt x="17115" y="4539"/>
                  <a:pt x="17123" y="4539"/>
                  <a:pt x="17115" y="4514"/>
                </a:cubicBezTo>
                <a:cubicBezTo>
                  <a:pt x="17005" y="4434"/>
                  <a:pt x="16964" y="4717"/>
                  <a:pt x="16966" y="4762"/>
                </a:cubicBezTo>
                <a:cubicBezTo>
                  <a:pt x="16977" y="5068"/>
                  <a:pt x="17214" y="4973"/>
                  <a:pt x="17338" y="4812"/>
                </a:cubicBezTo>
                <a:cubicBezTo>
                  <a:pt x="17355" y="4779"/>
                  <a:pt x="17371" y="4746"/>
                  <a:pt x="17388" y="4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48240" y="2062080"/>
            <a:ext cx="36720" cy="73080"/>
          </a:xfrm>
          <a:custGeom>
            <a:avLst/>
            <a:gdLst/>
            <a:ahLst/>
            <a:rect l="l" t="t" r="r" b="b"/>
            <a:pathLst>
              <a:path w="100" h="199">
                <a:moveTo>
                  <a:pt x="17636" y="5928"/>
                </a:moveTo>
                <a:cubicBezTo>
                  <a:pt x="17636" y="5828"/>
                  <a:pt x="17642" y="5878"/>
                  <a:pt x="17735" y="57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34080" y="1741320"/>
            <a:ext cx="216000" cy="115920"/>
          </a:xfrm>
          <a:custGeom>
            <a:avLst/>
            <a:gdLst/>
            <a:ahLst/>
            <a:rect l="l" t="t" r="r" b="b"/>
            <a:pathLst>
              <a:path w="596" h="323">
                <a:moveTo>
                  <a:pt x="18430" y="5159"/>
                </a:moveTo>
                <a:cubicBezTo>
                  <a:pt x="18598" y="5085"/>
                  <a:pt x="18785" y="4980"/>
                  <a:pt x="18951" y="4887"/>
                </a:cubicBezTo>
                <a:cubicBezTo>
                  <a:pt x="18976" y="4870"/>
                  <a:pt x="19000" y="4854"/>
                  <a:pt x="19025" y="4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03720" y="1544760"/>
            <a:ext cx="3581280" cy="2376360"/>
          </a:xfrm>
          <a:custGeom>
            <a:avLst/>
            <a:gdLst/>
            <a:ahLst/>
            <a:rect l="l" t="t" r="r" b="b"/>
            <a:pathLst>
              <a:path w="9947" h="6599">
                <a:moveTo>
                  <a:pt x="9475" y="4589"/>
                </a:moveTo>
                <a:cubicBezTo>
                  <a:pt x="9562" y="4690"/>
                  <a:pt x="9636" y="4782"/>
                  <a:pt x="9674" y="4911"/>
                </a:cubicBezTo>
              </a:path>
              <a:path w="9947" h="6599">
                <a:moveTo>
                  <a:pt x="9178" y="4688"/>
                </a:moveTo>
                <a:cubicBezTo>
                  <a:pt x="9324" y="4548"/>
                  <a:pt x="9504" y="4310"/>
                  <a:pt x="9723" y="4291"/>
                </a:cubicBezTo>
                <a:cubicBezTo>
                  <a:pt x="9731" y="4299"/>
                  <a:pt x="9740" y="4308"/>
                  <a:pt x="9748" y="4316"/>
                </a:cubicBezTo>
              </a:path>
              <a:path w="9947" h="6599">
                <a:moveTo>
                  <a:pt x="18678" y="9426"/>
                </a:moveTo>
                <a:cubicBezTo>
                  <a:pt x="18678" y="9495"/>
                  <a:pt x="18692" y="9545"/>
                  <a:pt x="18728" y="9599"/>
                </a:cubicBezTo>
              </a:path>
              <a:path w="9947" h="6599">
                <a:moveTo>
                  <a:pt x="18802" y="9971"/>
                </a:moveTo>
                <a:cubicBezTo>
                  <a:pt x="18810" y="9971"/>
                  <a:pt x="18819" y="9971"/>
                  <a:pt x="18827" y="9971"/>
                </a:cubicBezTo>
              </a:path>
              <a:path w="9947" h="6599">
                <a:moveTo>
                  <a:pt x="18827" y="9971"/>
                </a:moveTo>
                <a:lnTo>
                  <a:pt x="18827" y="9971"/>
                </a:lnTo>
              </a:path>
              <a:path w="9947" h="6599">
                <a:moveTo>
                  <a:pt x="18976" y="10319"/>
                </a:moveTo>
                <a:cubicBezTo>
                  <a:pt x="18928" y="10367"/>
                  <a:pt x="18932" y="10406"/>
                  <a:pt x="19000" y="10468"/>
                </a:cubicBezTo>
              </a:path>
              <a:path w="9947" h="6599">
                <a:moveTo>
                  <a:pt x="19000" y="10468"/>
                </a:moveTo>
                <a:lnTo>
                  <a:pt x="19000" y="10468"/>
                </a:lnTo>
              </a:path>
              <a:path w="9947" h="6599">
                <a:moveTo>
                  <a:pt x="19100" y="10889"/>
                </a:moveTo>
                <a:cubicBezTo>
                  <a:pt x="19108" y="10889"/>
                  <a:pt x="19116" y="10889"/>
                  <a:pt x="19124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1473120"/>
            <a:ext cx="679320" cy="652680"/>
          </a:xfrm>
          <a:custGeom>
            <a:avLst/>
            <a:gdLst/>
            <a:ahLst/>
            <a:rect l="l" t="t" r="r" b="b"/>
            <a:pathLst>
              <a:path w="1886" h="1812">
                <a:moveTo>
                  <a:pt x="9525" y="5035"/>
                </a:moveTo>
                <a:cubicBezTo>
                  <a:pt x="9706" y="4902"/>
                  <a:pt x="9838" y="4788"/>
                  <a:pt x="9947" y="4589"/>
                </a:cubicBezTo>
                <a:cubicBezTo>
                  <a:pt x="10004" y="4486"/>
                  <a:pt x="10025" y="4591"/>
                  <a:pt x="10071" y="4663"/>
                </a:cubicBezTo>
                <a:cubicBezTo>
                  <a:pt x="10108" y="4700"/>
                  <a:pt x="9996" y="4523"/>
                  <a:pt x="9996" y="4440"/>
                </a:cubicBezTo>
                <a:cubicBezTo>
                  <a:pt x="10004" y="4399"/>
                  <a:pt x="10013" y="4357"/>
                  <a:pt x="10021" y="4316"/>
                </a:cubicBezTo>
                <a:cubicBezTo>
                  <a:pt x="10205" y="4288"/>
                  <a:pt x="10270" y="4355"/>
                  <a:pt x="10368" y="4514"/>
                </a:cubicBezTo>
                <a:cubicBezTo>
                  <a:pt x="10407" y="4592"/>
                  <a:pt x="10421" y="4578"/>
                  <a:pt x="10418" y="4415"/>
                </a:cubicBezTo>
              </a:path>
              <a:path w="1886" h="1812">
                <a:moveTo>
                  <a:pt x="10567" y="4118"/>
                </a:moveTo>
                <a:cubicBezTo>
                  <a:pt x="10623" y="4090"/>
                  <a:pt x="10470" y="4074"/>
                  <a:pt x="10443" y="4142"/>
                </a:cubicBezTo>
                <a:cubicBezTo>
                  <a:pt x="10354" y="4371"/>
                  <a:pt x="10442" y="4617"/>
                  <a:pt x="10691" y="4415"/>
                </a:cubicBezTo>
                <a:cubicBezTo>
                  <a:pt x="10747" y="4340"/>
                  <a:pt x="10793" y="4327"/>
                  <a:pt x="10740" y="4291"/>
                </a:cubicBezTo>
              </a:path>
              <a:path w="1886" h="1812">
                <a:moveTo>
                  <a:pt x="9947" y="5904"/>
                </a:moveTo>
                <a:cubicBezTo>
                  <a:pt x="10143" y="5784"/>
                  <a:pt x="10313" y="5617"/>
                  <a:pt x="10517" y="5507"/>
                </a:cubicBezTo>
                <a:cubicBezTo>
                  <a:pt x="10558" y="5490"/>
                  <a:pt x="10600" y="5474"/>
                  <a:pt x="10641" y="5457"/>
                </a:cubicBezTo>
              </a:path>
              <a:path w="1886" h="1812">
                <a:moveTo>
                  <a:pt x="10964" y="5135"/>
                </a:moveTo>
                <a:cubicBezTo>
                  <a:pt x="11097" y="5188"/>
                  <a:pt x="11226" y="5294"/>
                  <a:pt x="11361" y="5333"/>
                </a:cubicBezTo>
                <a:cubicBezTo>
                  <a:pt x="11418" y="5333"/>
                  <a:pt x="11435" y="5325"/>
                  <a:pt x="11410" y="5259"/>
                </a:cubicBezTo>
              </a:path>
              <a:path w="1886" h="1812">
                <a:moveTo>
                  <a:pt x="11311" y="4911"/>
                </a:moveTo>
                <a:cubicBezTo>
                  <a:pt x="11197" y="5158"/>
                  <a:pt x="11127" y="5413"/>
                  <a:pt x="11063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75640" y="3357720"/>
            <a:ext cx="80640" cy="187200"/>
          </a:xfrm>
          <a:custGeom>
            <a:avLst/>
            <a:gdLst/>
            <a:ahLst/>
            <a:rect l="l" t="t" r="r" b="b"/>
            <a:pathLst>
              <a:path w="224" h="521">
                <a:moveTo>
                  <a:pt x="19298" y="9327"/>
                </a:moveTo>
                <a:cubicBezTo>
                  <a:pt x="19238" y="9357"/>
                  <a:pt x="19084" y="9489"/>
                  <a:pt x="19100" y="9575"/>
                </a:cubicBezTo>
                <a:cubicBezTo>
                  <a:pt x="19116" y="9662"/>
                  <a:pt x="19290" y="9725"/>
                  <a:pt x="19323" y="9823"/>
                </a:cubicBezTo>
                <a:cubicBezTo>
                  <a:pt x="19298" y="9831"/>
                  <a:pt x="19273" y="9839"/>
                  <a:pt x="19248" y="9847"/>
                </a:cubicBezTo>
                <a:cubicBezTo>
                  <a:pt x="19122" y="9693"/>
                  <a:pt x="19197" y="9568"/>
                  <a:pt x="19273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19920" y="4116240"/>
            <a:ext cx="117360" cy="206640"/>
          </a:xfrm>
          <a:custGeom>
            <a:avLst/>
            <a:gdLst/>
            <a:ahLst/>
            <a:rect l="l" t="t" r="r" b="b"/>
            <a:pathLst>
              <a:path w="323" h="571">
                <a:moveTo>
                  <a:pt x="19521" y="11435"/>
                </a:moveTo>
                <a:cubicBezTo>
                  <a:pt x="19412" y="11482"/>
                  <a:pt x="19197" y="11570"/>
                  <a:pt x="19224" y="11733"/>
                </a:cubicBezTo>
                <a:cubicBezTo>
                  <a:pt x="19238" y="11818"/>
                  <a:pt x="19494" y="11867"/>
                  <a:pt x="19546" y="11931"/>
                </a:cubicBezTo>
                <a:cubicBezTo>
                  <a:pt x="19450" y="11980"/>
                  <a:pt x="19420" y="11996"/>
                  <a:pt x="19348" y="12005"/>
                </a:cubicBezTo>
                <a:cubicBezTo>
                  <a:pt x="19347" y="11826"/>
                  <a:pt x="19511" y="11696"/>
                  <a:pt x="19546" y="11509"/>
                </a:cubicBezTo>
                <a:cubicBezTo>
                  <a:pt x="19538" y="11501"/>
                  <a:pt x="19529" y="11493"/>
                  <a:pt x="19521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0040" y="1884240"/>
            <a:ext cx="5857920" cy="490680"/>
          </a:xfrm>
          <a:custGeom>
            <a:avLst/>
            <a:gdLst/>
            <a:ahLst/>
            <a:rect l="l" t="t" r="r" b="b"/>
            <a:pathLst>
              <a:path w="16273" h="1365">
                <a:moveTo>
                  <a:pt x="10046" y="5556"/>
                </a:moveTo>
                <a:cubicBezTo>
                  <a:pt x="10131" y="5700"/>
                  <a:pt x="10237" y="5841"/>
                  <a:pt x="10269" y="6003"/>
                </a:cubicBezTo>
              </a:path>
              <a:path w="16273" h="1365">
                <a:moveTo>
                  <a:pt x="17190" y="5730"/>
                </a:moveTo>
                <a:cubicBezTo>
                  <a:pt x="17345" y="5652"/>
                  <a:pt x="17504" y="5581"/>
                  <a:pt x="17661" y="5507"/>
                </a:cubicBezTo>
              </a:path>
              <a:path w="16273" h="1365">
                <a:moveTo>
                  <a:pt x="17462" y="5234"/>
                </a:moveTo>
                <a:cubicBezTo>
                  <a:pt x="17462" y="5250"/>
                  <a:pt x="17462" y="5267"/>
                  <a:pt x="17462" y="5283"/>
                </a:cubicBezTo>
              </a:path>
              <a:path w="16273" h="1365">
                <a:moveTo>
                  <a:pt x="1389" y="5283"/>
                </a:moveTo>
                <a:cubicBezTo>
                  <a:pt x="1494" y="5528"/>
                  <a:pt x="1542" y="5608"/>
                  <a:pt x="1513" y="5854"/>
                </a:cubicBezTo>
              </a:path>
              <a:path w="16273" h="1365">
                <a:moveTo>
                  <a:pt x="1910" y="6598"/>
                </a:moveTo>
                <a:cubicBezTo>
                  <a:pt x="2074" y="6451"/>
                  <a:pt x="2085" y="6404"/>
                  <a:pt x="2282" y="6325"/>
                </a:cubicBezTo>
              </a:path>
              <a:path w="16273" h="1365">
                <a:moveTo>
                  <a:pt x="3522" y="5234"/>
                </a:moveTo>
                <a:cubicBezTo>
                  <a:pt x="3530" y="5250"/>
                  <a:pt x="3539" y="5267"/>
                  <a:pt x="3547" y="5283"/>
                </a:cubicBezTo>
              </a:path>
              <a:path w="16273" h="1365">
                <a:moveTo>
                  <a:pt x="3547" y="5283"/>
                </a:moveTo>
                <a:lnTo>
                  <a:pt x="3547" y="5283"/>
                </a:lnTo>
              </a:path>
              <a:path w="16273" h="1365">
                <a:moveTo>
                  <a:pt x="3870" y="5779"/>
                </a:moveTo>
                <a:lnTo>
                  <a:pt x="3870" y="577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04000" y="2955960"/>
            <a:ext cx="795240" cy="2517840"/>
          </a:xfrm>
          <a:custGeom>
            <a:avLst/>
            <a:gdLst/>
            <a:ahLst/>
            <a:rect l="l" t="t" r="r" b="b"/>
            <a:pathLst>
              <a:path w="2209" h="6996">
                <a:moveTo>
                  <a:pt x="20538" y="14957"/>
                </a:moveTo>
                <a:cubicBezTo>
                  <a:pt x="20726" y="14915"/>
                  <a:pt x="20918" y="14882"/>
                  <a:pt x="21109" y="14858"/>
                </a:cubicBezTo>
              </a:path>
              <a:path w="2209" h="6996">
                <a:moveTo>
                  <a:pt x="20886" y="14560"/>
                </a:moveTo>
                <a:cubicBezTo>
                  <a:pt x="20840" y="14606"/>
                  <a:pt x="20837" y="14645"/>
                  <a:pt x="20886" y="14709"/>
                </a:cubicBezTo>
              </a:path>
              <a:path w="2209" h="6996">
                <a:moveTo>
                  <a:pt x="20985" y="15180"/>
                </a:moveTo>
                <a:cubicBezTo>
                  <a:pt x="20985" y="15188"/>
                  <a:pt x="20985" y="15197"/>
                  <a:pt x="20985" y="15205"/>
                </a:cubicBezTo>
              </a:path>
              <a:path w="2209" h="6996">
                <a:moveTo>
                  <a:pt x="18901" y="8210"/>
                </a:moveTo>
                <a:cubicBezTo>
                  <a:pt x="18901" y="8227"/>
                  <a:pt x="18901" y="8243"/>
                  <a:pt x="18901" y="8260"/>
                </a:cubicBezTo>
              </a:path>
              <a:path w="2209" h="6996">
                <a:moveTo>
                  <a:pt x="18901" y="8260"/>
                </a:moveTo>
                <a:lnTo>
                  <a:pt x="18901" y="8260"/>
                </a:lnTo>
              </a:path>
              <a:path w="2209" h="6996">
                <a:moveTo>
                  <a:pt x="19000" y="8855"/>
                </a:moveTo>
                <a:cubicBezTo>
                  <a:pt x="19063" y="8855"/>
                  <a:pt x="19099" y="8828"/>
                  <a:pt x="19124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81880" y="5749920"/>
            <a:ext cx="204840" cy="376200"/>
          </a:xfrm>
          <a:custGeom>
            <a:avLst/>
            <a:gdLst/>
            <a:ahLst/>
            <a:rect l="l" t="t" r="r" b="b"/>
            <a:pathLst>
              <a:path w="572" h="1043">
                <a:moveTo>
                  <a:pt x="18281" y="15999"/>
                </a:moveTo>
                <a:cubicBezTo>
                  <a:pt x="18281" y="16100"/>
                  <a:pt x="18339" y="16223"/>
                  <a:pt x="18405" y="16297"/>
                </a:cubicBezTo>
                <a:cubicBezTo>
                  <a:pt x="18534" y="16442"/>
                  <a:pt x="18848" y="16382"/>
                  <a:pt x="18827" y="16148"/>
                </a:cubicBezTo>
                <a:cubicBezTo>
                  <a:pt x="18762" y="16040"/>
                  <a:pt x="18752" y="16009"/>
                  <a:pt x="18678" y="15974"/>
                </a:cubicBezTo>
                <a:cubicBezTo>
                  <a:pt x="18652" y="16077"/>
                  <a:pt x="18852" y="16418"/>
                  <a:pt x="18852" y="16594"/>
                </a:cubicBezTo>
                <a:cubicBezTo>
                  <a:pt x="18852" y="16814"/>
                  <a:pt x="18679" y="17139"/>
                  <a:pt x="18405" y="16991"/>
                </a:cubicBezTo>
                <a:cubicBezTo>
                  <a:pt x="18322" y="16881"/>
                  <a:pt x="18304" y="16835"/>
                  <a:pt x="18405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7120" y="1803240"/>
            <a:ext cx="554040" cy="339840"/>
          </a:xfrm>
          <a:custGeom>
            <a:avLst/>
            <a:gdLst/>
            <a:ahLst/>
            <a:rect l="l" t="t" r="r" b="b"/>
            <a:pathLst>
              <a:path w="1539" h="943">
                <a:moveTo>
                  <a:pt x="992" y="5358"/>
                </a:moveTo>
                <a:cubicBezTo>
                  <a:pt x="1174" y="5284"/>
                  <a:pt x="1816" y="4974"/>
                  <a:pt x="1786" y="5432"/>
                </a:cubicBezTo>
                <a:cubicBezTo>
                  <a:pt x="1768" y="5700"/>
                  <a:pt x="1431" y="6117"/>
                  <a:pt x="1315" y="5804"/>
                </a:cubicBezTo>
              </a:path>
              <a:path w="1539" h="943">
                <a:moveTo>
                  <a:pt x="1885" y="5308"/>
                </a:moveTo>
                <a:cubicBezTo>
                  <a:pt x="1927" y="5188"/>
                  <a:pt x="1957" y="5130"/>
                  <a:pt x="1935" y="5011"/>
                </a:cubicBezTo>
                <a:cubicBezTo>
                  <a:pt x="1794" y="5151"/>
                  <a:pt x="1784" y="5402"/>
                  <a:pt x="1910" y="5581"/>
                </a:cubicBezTo>
                <a:cubicBezTo>
                  <a:pt x="2040" y="5646"/>
                  <a:pt x="2092" y="5635"/>
                  <a:pt x="2133" y="5457"/>
                </a:cubicBezTo>
              </a:path>
              <a:path w="1539" h="943">
                <a:moveTo>
                  <a:pt x="2307" y="5035"/>
                </a:moveTo>
                <a:cubicBezTo>
                  <a:pt x="2353" y="5081"/>
                  <a:pt x="2332" y="5084"/>
                  <a:pt x="2208" y="5035"/>
                </a:cubicBezTo>
                <a:cubicBezTo>
                  <a:pt x="2164" y="5141"/>
                  <a:pt x="2177" y="5498"/>
                  <a:pt x="2406" y="5457"/>
                </a:cubicBezTo>
                <a:cubicBezTo>
                  <a:pt x="2502" y="5361"/>
                  <a:pt x="2534" y="5333"/>
                  <a:pt x="2530" y="52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4280" y="1928880"/>
            <a:ext cx="179640" cy="160200"/>
          </a:xfrm>
          <a:custGeom>
            <a:avLst/>
            <a:gdLst/>
            <a:ahLst/>
            <a:rect l="l" t="t" r="r" b="b"/>
            <a:pathLst>
              <a:path w="498" h="447">
                <a:moveTo>
                  <a:pt x="3373" y="5804"/>
                </a:moveTo>
                <a:cubicBezTo>
                  <a:pt x="3540" y="5655"/>
                  <a:pt x="3710" y="5516"/>
                  <a:pt x="3870" y="53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23160" y="2973240"/>
            <a:ext cx="222120" cy="241560"/>
          </a:xfrm>
          <a:custGeom>
            <a:avLst/>
            <a:gdLst/>
            <a:ahLst/>
            <a:rect l="l" t="t" r="r" b="b"/>
            <a:pathLst>
              <a:path w="621" h="671">
                <a:moveTo>
                  <a:pt x="21729" y="8260"/>
                </a:moveTo>
                <a:cubicBezTo>
                  <a:pt x="21746" y="8429"/>
                  <a:pt x="21735" y="8615"/>
                  <a:pt x="21779" y="8781"/>
                </a:cubicBezTo>
                <a:cubicBezTo>
                  <a:pt x="21844" y="9029"/>
                  <a:pt x="22123" y="8911"/>
                  <a:pt x="22250" y="8781"/>
                </a:cubicBezTo>
                <a:cubicBezTo>
                  <a:pt x="22382" y="8647"/>
                  <a:pt x="22371" y="8577"/>
                  <a:pt x="22299" y="8458"/>
                </a:cubicBezTo>
                <a:cubicBezTo>
                  <a:pt x="22101" y="8541"/>
                  <a:pt x="22145" y="8660"/>
                  <a:pt x="22200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00920" y="3697200"/>
            <a:ext cx="81000" cy="214560"/>
          </a:xfrm>
          <a:custGeom>
            <a:avLst/>
            <a:gdLst/>
            <a:ahLst/>
            <a:rect l="l" t="t" r="r" b="b"/>
            <a:pathLst>
              <a:path w="224" h="596">
                <a:moveTo>
                  <a:pt x="19621" y="10269"/>
                </a:moveTo>
                <a:cubicBezTo>
                  <a:pt x="19549" y="10364"/>
                  <a:pt x="19366" y="10521"/>
                  <a:pt x="19496" y="10641"/>
                </a:cubicBezTo>
                <a:cubicBezTo>
                  <a:pt x="19601" y="10737"/>
                  <a:pt x="19635" y="10698"/>
                  <a:pt x="19670" y="10840"/>
                </a:cubicBezTo>
                <a:cubicBezTo>
                  <a:pt x="19419" y="10838"/>
                  <a:pt x="19529" y="10599"/>
                  <a:pt x="19596" y="10418"/>
                </a:cubicBezTo>
                <a:cubicBezTo>
                  <a:pt x="19632" y="10345"/>
                  <a:pt x="19620" y="10312"/>
                  <a:pt x="19670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13800" y="3697200"/>
            <a:ext cx="152280" cy="2318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21704" y="10492"/>
                </a:moveTo>
                <a:cubicBezTo>
                  <a:pt x="21704" y="10586"/>
                  <a:pt x="21682" y="10693"/>
                  <a:pt x="21779" y="10740"/>
                </a:cubicBezTo>
                <a:cubicBezTo>
                  <a:pt x="22048" y="10869"/>
                  <a:pt x="22095" y="10497"/>
                  <a:pt x="22101" y="10344"/>
                </a:cubicBezTo>
              </a:path>
              <a:path w="423" h="646">
                <a:moveTo>
                  <a:pt x="22002" y="10269"/>
                </a:moveTo>
                <a:cubicBezTo>
                  <a:pt x="22008" y="10485"/>
                  <a:pt x="22027" y="10698"/>
                  <a:pt x="22027" y="10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96080" y="2973240"/>
            <a:ext cx="241200" cy="206640"/>
          </a:xfrm>
          <a:custGeom>
            <a:avLst/>
            <a:gdLst/>
            <a:ahLst/>
            <a:rect l="l" t="t" r="r" b="b"/>
            <a:pathLst>
              <a:path w="671" h="571">
                <a:moveTo>
                  <a:pt x="18876" y="8607"/>
                </a:moveTo>
                <a:cubicBezTo>
                  <a:pt x="18965" y="8585"/>
                  <a:pt x="19071" y="8553"/>
                  <a:pt x="19149" y="8508"/>
                </a:cubicBezTo>
              </a:path>
              <a:path w="671" h="571">
                <a:moveTo>
                  <a:pt x="19422" y="8260"/>
                </a:moveTo>
                <a:cubicBezTo>
                  <a:pt x="19347" y="8418"/>
                  <a:pt x="19274" y="8499"/>
                  <a:pt x="19422" y="8632"/>
                </a:cubicBezTo>
                <a:cubicBezTo>
                  <a:pt x="19535" y="8733"/>
                  <a:pt x="19563" y="8711"/>
                  <a:pt x="19496" y="8830"/>
                </a:cubicBezTo>
                <a:cubicBezTo>
                  <a:pt x="19364" y="8714"/>
                  <a:pt x="19431" y="8495"/>
                  <a:pt x="19496" y="8310"/>
                </a:cubicBezTo>
                <a:cubicBezTo>
                  <a:pt x="19504" y="8302"/>
                  <a:pt x="19513" y="8293"/>
                  <a:pt x="19521" y="82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understand and write a rule for a function tab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 is necessary to have two operations in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e is planning a pizza party this weekend.  She wants to have 3 slices of pizza for each person who attend, but thinks it would be a good idea to have 5 extra slices in case someone is really hung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n is the number of people coming to the party, Chloe can find the number of slices she will need (s) using the function:   3n + 5 =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280" y="5340240"/>
            <a:ext cx="8205840" cy="455760"/>
          </a:xfrm>
          <a:custGeom>
            <a:avLst/>
            <a:gdLst/>
            <a:ahLst/>
            <a:rect l="l" t="t" r="r" b="b"/>
            <a:pathLst>
              <a:path w="22797" h="1266">
                <a:moveTo>
                  <a:pt x="744" y="15255"/>
                </a:moveTo>
                <a:cubicBezTo>
                  <a:pt x="687" y="15245"/>
                  <a:pt x="687" y="15218"/>
                  <a:pt x="620" y="15205"/>
                </a:cubicBezTo>
                <a:cubicBezTo>
                  <a:pt x="646" y="15413"/>
                  <a:pt x="685" y="15614"/>
                  <a:pt x="695" y="15825"/>
                </a:cubicBezTo>
              </a:path>
              <a:path w="22797" h="1266">
                <a:moveTo>
                  <a:pt x="347" y="15131"/>
                </a:moveTo>
                <a:cubicBezTo>
                  <a:pt x="646" y="15121"/>
                  <a:pt x="1041" y="15132"/>
                  <a:pt x="1141" y="15503"/>
                </a:cubicBezTo>
                <a:cubicBezTo>
                  <a:pt x="1219" y="15790"/>
                  <a:pt x="836" y="16023"/>
                  <a:pt x="595" y="15974"/>
                </a:cubicBezTo>
                <a:cubicBezTo>
                  <a:pt x="554" y="15949"/>
                  <a:pt x="512" y="15925"/>
                  <a:pt x="471" y="15900"/>
                </a:cubicBezTo>
              </a:path>
              <a:path w="22797" h="1266">
                <a:moveTo>
                  <a:pt x="1191" y="15577"/>
                </a:moveTo>
                <a:cubicBezTo>
                  <a:pt x="1164" y="15792"/>
                  <a:pt x="1152" y="15804"/>
                  <a:pt x="1265" y="15974"/>
                </a:cubicBezTo>
                <a:cubicBezTo>
                  <a:pt x="1488" y="15932"/>
                  <a:pt x="1681" y="15834"/>
                  <a:pt x="1414" y="15627"/>
                </a:cubicBezTo>
                <a:cubicBezTo>
                  <a:pt x="1342" y="15571"/>
                  <a:pt x="1191" y="15524"/>
                  <a:pt x="1265" y="15577"/>
                </a:cubicBezTo>
              </a:path>
              <a:path w="22797" h="1266">
                <a:moveTo>
                  <a:pt x="1687" y="15602"/>
                </a:moveTo>
                <a:cubicBezTo>
                  <a:pt x="1687" y="15751"/>
                  <a:pt x="1687" y="15801"/>
                  <a:pt x="1687" y="15900"/>
                </a:cubicBezTo>
                <a:cubicBezTo>
                  <a:pt x="1687" y="16073"/>
                  <a:pt x="1675" y="15577"/>
                  <a:pt x="1761" y="15503"/>
                </a:cubicBezTo>
                <a:cubicBezTo>
                  <a:pt x="1931" y="15358"/>
                  <a:pt x="2002" y="15782"/>
                  <a:pt x="2059" y="15825"/>
                </a:cubicBezTo>
                <a:cubicBezTo>
                  <a:pt x="2059" y="15817"/>
                  <a:pt x="2059" y="15809"/>
                  <a:pt x="2059" y="15801"/>
                </a:cubicBezTo>
                <a:cubicBezTo>
                  <a:pt x="2016" y="15621"/>
                  <a:pt x="2006" y="15607"/>
                  <a:pt x="2108" y="15453"/>
                </a:cubicBezTo>
                <a:cubicBezTo>
                  <a:pt x="2250" y="15604"/>
                  <a:pt x="2310" y="15687"/>
                  <a:pt x="2257" y="15900"/>
                </a:cubicBezTo>
              </a:path>
              <a:path w="22797" h="1266">
                <a:moveTo>
                  <a:pt x="2679" y="15577"/>
                </a:moveTo>
                <a:cubicBezTo>
                  <a:pt x="2642" y="15468"/>
                  <a:pt x="2552" y="15391"/>
                  <a:pt x="2456" y="15528"/>
                </a:cubicBezTo>
                <a:cubicBezTo>
                  <a:pt x="2386" y="15689"/>
                  <a:pt x="2361" y="15733"/>
                  <a:pt x="2381" y="15850"/>
                </a:cubicBezTo>
                <a:cubicBezTo>
                  <a:pt x="2620" y="15851"/>
                  <a:pt x="2622" y="15752"/>
                  <a:pt x="2729" y="15553"/>
                </a:cubicBezTo>
                <a:cubicBezTo>
                  <a:pt x="2729" y="15588"/>
                  <a:pt x="2724" y="15605"/>
                  <a:pt x="2704" y="15627"/>
                </a:cubicBezTo>
                <a:cubicBezTo>
                  <a:pt x="2802" y="15838"/>
                  <a:pt x="2892" y="15851"/>
                  <a:pt x="3076" y="15652"/>
                </a:cubicBezTo>
                <a:cubicBezTo>
                  <a:pt x="3101" y="15611"/>
                  <a:pt x="3125" y="15569"/>
                  <a:pt x="3150" y="15528"/>
                </a:cubicBezTo>
                <a:cubicBezTo>
                  <a:pt x="3150" y="15419"/>
                  <a:pt x="3108" y="15643"/>
                  <a:pt x="3125" y="15751"/>
                </a:cubicBezTo>
                <a:cubicBezTo>
                  <a:pt x="3167" y="15793"/>
                  <a:pt x="3192" y="15784"/>
                  <a:pt x="3225" y="15701"/>
                </a:cubicBezTo>
              </a:path>
              <a:path w="22797" h="1266">
                <a:moveTo>
                  <a:pt x="3076" y="15156"/>
                </a:moveTo>
                <a:lnTo>
                  <a:pt x="3076" y="15156"/>
                </a:lnTo>
                <a:lnTo>
                  <a:pt x="3076" y="15156"/>
                </a:lnTo>
              </a:path>
              <a:path w="22797" h="1266">
                <a:moveTo>
                  <a:pt x="3076" y="15156"/>
                </a:moveTo>
                <a:lnTo>
                  <a:pt x="3076" y="15156"/>
                </a:lnTo>
              </a:path>
              <a:path w="22797" h="1266">
                <a:moveTo>
                  <a:pt x="3473" y="15627"/>
                </a:moveTo>
                <a:cubicBezTo>
                  <a:pt x="3473" y="15721"/>
                  <a:pt x="3494" y="15742"/>
                  <a:pt x="3448" y="15776"/>
                </a:cubicBezTo>
                <a:cubicBezTo>
                  <a:pt x="3448" y="15634"/>
                  <a:pt x="3412" y="15515"/>
                  <a:pt x="3522" y="15404"/>
                </a:cubicBezTo>
                <a:cubicBezTo>
                  <a:pt x="3720" y="15205"/>
                  <a:pt x="3841" y="15621"/>
                  <a:pt x="3845" y="15751"/>
                </a:cubicBezTo>
                <a:cubicBezTo>
                  <a:pt x="3837" y="15768"/>
                  <a:pt x="3828" y="15784"/>
                  <a:pt x="3820" y="15801"/>
                </a:cubicBezTo>
              </a:path>
              <a:path w="22797" h="1266">
                <a:moveTo>
                  <a:pt x="4291" y="15280"/>
                </a:moveTo>
                <a:cubicBezTo>
                  <a:pt x="4299" y="15280"/>
                  <a:pt x="4308" y="15280"/>
                  <a:pt x="4316" y="15280"/>
                </a:cubicBezTo>
              </a:path>
              <a:path w="22797" h="1266">
                <a:moveTo>
                  <a:pt x="4390" y="15280"/>
                </a:moveTo>
                <a:cubicBezTo>
                  <a:pt x="4400" y="15264"/>
                  <a:pt x="4476" y="15114"/>
                  <a:pt x="4440" y="15205"/>
                </a:cubicBezTo>
                <a:cubicBezTo>
                  <a:pt x="4337" y="15467"/>
                  <a:pt x="4213" y="15766"/>
                  <a:pt x="4465" y="15974"/>
                </a:cubicBezTo>
                <a:cubicBezTo>
                  <a:pt x="4479" y="15986"/>
                  <a:pt x="4647" y="16082"/>
                  <a:pt x="4688" y="16098"/>
                </a:cubicBezTo>
              </a:path>
              <a:path w="22797" h="1266">
                <a:moveTo>
                  <a:pt x="5259" y="15032"/>
                </a:moveTo>
                <a:cubicBezTo>
                  <a:pt x="5199" y="15050"/>
                  <a:pt x="5032" y="15109"/>
                  <a:pt x="5011" y="15156"/>
                </a:cubicBezTo>
                <a:cubicBezTo>
                  <a:pt x="4968" y="15252"/>
                  <a:pt x="4985" y="15381"/>
                  <a:pt x="4936" y="15478"/>
                </a:cubicBezTo>
                <a:cubicBezTo>
                  <a:pt x="5046" y="15442"/>
                  <a:pt x="5176" y="15332"/>
                  <a:pt x="5308" y="15379"/>
                </a:cubicBezTo>
                <a:cubicBezTo>
                  <a:pt x="5333" y="15404"/>
                  <a:pt x="5358" y="15428"/>
                  <a:pt x="5383" y="15453"/>
                </a:cubicBezTo>
                <a:cubicBezTo>
                  <a:pt x="5202" y="15730"/>
                  <a:pt x="5128" y="15774"/>
                  <a:pt x="4812" y="15677"/>
                </a:cubicBezTo>
              </a:path>
              <a:path w="22797" h="1266">
                <a:moveTo>
                  <a:pt x="5606" y="15801"/>
                </a:moveTo>
                <a:cubicBezTo>
                  <a:pt x="5605" y="15832"/>
                  <a:pt x="5641" y="16119"/>
                  <a:pt x="5581" y="15999"/>
                </a:cubicBezTo>
              </a:path>
              <a:path w="22797" h="1266">
                <a:moveTo>
                  <a:pt x="5978" y="15131"/>
                </a:moveTo>
                <a:cubicBezTo>
                  <a:pt x="5978" y="15291"/>
                  <a:pt x="5923" y="15684"/>
                  <a:pt x="6028" y="15701"/>
                </a:cubicBezTo>
              </a:path>
              <a:path w="22797" h="1266">
                <a:moveTo>
                  <a:pt x="6474" y="15156"/>
                </a:moveTo>
                <a:cubicBezTo>
                  <a:pt x="6288" y="15388"/>
                  <a:pt x="6230" y="15500"/>
                  <a:pt x="6325" y="15776"/>
                </a:cubicBezTo>
                <a:cubicBezTo>
                  <a:pt x="6556" y="15728"/>
                  <a:pt x="6772" y="15622"/>
                  <a:pt x="6623" y="15329"/>
                </a:cubicBezTo>
                <a:cubicBezTo>
                  <a:pt x="6538" y="15244"/>
                  <a:pt x="6525" y="15205"/>
                  <a:pt x="6449" y="15255"/>
                </a:cubicBezTo>
              </a:path>
              <a:path w="22797" h="1266">
                <a:moveTo>
                  <a:pt x="6846" y="15900"/>
                </a:moveTo>
                <a:cubicBezTo>
                  <a:pt x="6806" y="16000"/>
                  <a:pt x="6801" y="16017"/>
                  <a:pt x="6772" y="16073"/>
                </a:cubicBezTo>
              </a:path>
              <a:path w="22797" h="1266">
                <a:moveTo>
                  <a:pt x="7317" y="15131"/>
                </a:moveTo>
                <a:cubicBezTo>
                  <a:pt x="7460" y="15083"/>
                  <a:pt x="7766" y="15064"/>
                  <a:pt x="7541" y="15304"/>
                </a:cubicBezTo>
                <a:cubicBezTo>
                  <a:pt x="7429" y="15372"/>
                  <a:pt x="7401" y="15393"/>
                  <a:pt x="7317" y="15404"/>
                </a:cubicBezTo>
                <a:cubicBezTo>
                  <a:pt x="7471" y="15378"/>
                  <a:pt x="7525" y="15372"/>
                  <a:pt x="7615" y="15453"/>
                </a:cubicBezTo>
                <a:cubicBezTo>
                  <a:pt x="7598" y="15567"/>
                  <a:pt x="7226" y="15995"/>
                  <a:pt x="7119" y="15677"/>
                </a:cubicBezTo>
                <a:cubicBezTo>
                  <a:pt x="7144" y="15619"/>
                  <a:pt x="7168" y="15561"/>
                  <a:pt x="7193" y="15503"/>
                </a:cubicBezTo>
              </a:path>
              <a:path w="22797" h="1266">
                <a:moveTo>
                  <a:pt x="8086" y="15131"/>
                </a:moveTo>
                <a:cubicBezTo>
                  <a:pt x="7895" y="15306"/>
                  <a:pt x="7847" y="15402"/>
                  <a:pt x="7764" y="15652"/>
                </a:cubicBezTo>
                <a:cubicBezTo>
                  <a:pt x="7954" y="15751"/>
                  <a:pt x="8374" y="15766"/>
                  <a:pt x="8285" y="15379"/>
                </a:cubicBezTo>
                <a:cubicBezTo>
                  <a:pt x="8166" y="15212"/>
                  <a:pt x="8132" y="15157"/>
                  <a:pt x="7987" y="15131"/>
                </a:cubicBezTo>
              </a:path>
              <a:path w="22797" h="1266">
                <a:moveTo>
                  <a:pt x="8359" y="14833"/>
                </a:moveTo>
                <a:cubicBezTo>
                  <a:pt x="8520" y="15235"/>
                  <a:pt x="8750" y="15702"/>
                  <a:pt x="8235" y="15974"/>
                </a:cubicBezTo>
                <a:cubicBezTo>
                  <a:pt x="8161" y="15991"/>
                  <a:pt x="8086" y="16007"/>
                  <a:pt x="8012" y="16024"/>
                </a:cubicBezTo>
              </a:path>
              <a:path w="22797" h="1266">
                <a:moveTo>
                  <a:pt x="21654" y="15156"/>
                </a:moveTo>
                <a:cubicBezTo>
                  <a:pt x="21758" y="15136"/>
                  <a:pt x="21804" y="15126"/>
                  <a:pt x="21903" y="15156"/>
                </a:cubicBezTo>
              </a:path>
              <a:path w="22797" h="1266">
                <a:moveTo>
                  <a:pt x="22920" y="15007"/>
                </a:moveTo>
                <a:cubicBezTo>
                  <a:pt x="22845" y="15133"/>
                  <a:pt x="22829" y="15181"/>
                  <a:pt x="22820" y="15329"/>
                </a:cubicBezTo>
                <a:cubicBezTo>
                  <a:pt x="22876" y="15329"/>
                  <a:pt x="23299" y="15203"/>
                  <a:pt x="23118" y="15056"/>
                </a:cubicBezTo>
                <a:cubicBezTo>
                  <a:pt x="23060" y="15040"/>
                  <a:pt x="23002" y="15023"/>
                  <a:pt x="22944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94160" y="5214960"/>
            <a:ext cx="1884240" cy="1536840"/>
          </a:xfrm>
          <a:custGeom>
            <a:avLst/>
            <a:gdLst/>
            <a:ahLst/>
            <a:rect l="l" t="t" r="r" b="b"/>
            <a:pathLst>
              <a:path w="5235" h="4267">
                <a:moveTo>
                  <a:pt x="12204" y="14709"/>
                </a:moveTo>
                <a:cubicBezTo>
                  <a:pt x="12387" y="14684"/>
                  <a:pt x="12564" y="14660"/>
                  <a:pt x="12750" y="14660"/>
                </a:cubicBezTo>
                <a:cubicBezTo>
                  <a:pt x="12936" y="14660"/>
                  <a:pt x="13113" y="14650"/>
                  <a:pt x="13295" y="14635"/>
                </a:cubicBezTo>
                <a:cubicBezTo>
                  <a:pt x="13486" y="14619"/>
                  <a:pt x="13675" y="14575"/>
                  <a:pt x="13866" y="14560"/>
                </a:cubicBezTo>
                <a:cubicBezTo>
                  <a:pt x="14014" y="14548"/>
                  <a:pt x="14163" y="14539"/>
                  <a:pt x="14312" y="14536"/>
                </a:cubicBezTo>
                <a:cubicBezTo>
                  <a:pt x="14529" y="14532"/>
                  <a:pt x="14741" y="14515"/>
                  <a:pt x="14957" y="14511"/>
                </a:cubicBezTo>
                <a:cubicBezTo>
                  <a:pt x="15149" y="14508"/>
                  <a:pt x="15335" y="14486"/>
                  <a:pt x="15528" y="14486"/>
                </a:cubicBezTo>
                <a:cubicBezTo>
                  <a:pt x="15921" y="14486"/>
                  <a:pt x="16330" y="14525"/>
                  <a:pt x="16718" y="14511"/>
                </a:cubicBezTo>
                <a:cubicBezTo>
                  <a:pt x="16850" y="14506"/>
                  <a:pt x="16980" y="14486"/>
                  <a:pt x="17115" y="14486"/>
                </a:cubicBezTo>
              </a:path>
              <a:path w="5235" h="4267">
                <a:moveTo>
                  <a:pt x="14461" y="14610"/>
                </a:moveTo>
                <a:cubicBezTo>
                  <a:pt x="14481" y="14668"/>
                  <a:pt x="14484" y="14673"/>
                  <a:pt x="14486" y="14734"/>
                </a:cubicBezTo>
                <a:cubicBezTo>
                  <a:pt x="14490" y="14854"/>
                  <a:pt x="14507" y="14963"/>
                  <a:pt x="14511" y="15081"/>
                </a:cubicBezTo>
                <a:cubicBezTo>
                  <a:pt x="14518" y="15276"/>
                  <a:pt x="14542" y="15482"/>
                  <a:pt x="14560" y="15677"/>
                </a:cubicBezTo>
                <a:cubicBezTo>
                  <a:pt x="14579" y="15881"/>
                  <a:pt x="14605" y="16096"/>
                  <a:pt x="14635" y="16297"/>
                </a:cubicBezTo>
                <a:cubicBezTo>
                  <a:pt x="14661" y="16470"/>
                  <a:pt x="14680" y="16642"/>
                  <a:pt x="14684" y="16818"/>
                </a:cubicBezTo>
                <a:cubicBezTo>
                  <a:pt x="14687" y="16978"/>
                  <a:pt x="14698" y="17131"/>
                  <a:pt x="14709" y="17289"/>
                </a:cubicBezTo>
                <a:cubicBezTo>
                  <a:pt x="14720" y="17455"/>
                  <a:pt x="14746" y="17619"/>
                  <a:pt x="14759" y="17785"/>
                </a:cubicBezTo>
                <a:cubicBezTo>
                  <a:pt x="14770" y="17931"/>
                  <a:pt x="14765" y="18086"/>
                  <a:pt x="14784" y="18231"/>
                </a:cubicBezTo>
                <a:cubicBezTo>
                  <a:pt x="14793" y="18298"/>
                  <a:pt x="14806" y="18357"/>
                  <a:pt x="14808" y="18430"/>
                </a:cubicBezTo>
                <a:cubicBezTo>
                  <a:pt x="14810" y="18486"/>
                  <a:pt x="14836" y="18580"/>
                  <a:pt x="14833" y="18628"/>
                </a:cubicBezTo>
                <a:cubicBezTo>
                  <a:pt x="14830" y="18683"/>
                  <a:pt x="14828" y="18673"/>
                  <a:pt x="14833" y="18728"/>
                </a:cubicBezTo>
              </a:path>
              <a:path w="5235" h="4267">
                <a:moveTo>
                  <a:pt x="16222" y="14759"/>
                </a:moveTo>
                <a:cubicBezTo>
                  <a:pt x="16273" y="14665"/>
                  <a:pt x="16327" y="14595"/>
                  <a:pt x="16446" y="14585"/>
                </a:cubicBezTo>
                <a:cubicBezTo>
                  <a:pt x="16583" y="14573"/>
                  <a:pt x="16628" y="14773"/>
                  <a:pt x="16619" y="14883"/>
                </a:cubicBezTo>
                <a:cubicBezTo>
                  <a:pt x="16607" y="15031"/>
                  <a:pt x="16457" y="15133"/>
                  <a:pt x="16321" y="15156"/>
                </a:cubicBezTo>
                <a:cubicBezTo>
                  <a:pt x="16138" y="15187"/>
                  <a:pt x="16128" y="15123"/>
                  <a:pt x="16049" y="15329"/>
                </a:cubicBezTo>
                <a:cubicBezTo>
                  <a:pt x="16010" y="15430"/>
                  <a:pt x="15985" y="15522"/>
                  <a:pt x="15974" y="15627"/>
                </a:cubicBezTo>
                <a:cubicBezTo>
                  <a:pt x="16055" y="15536"/>
                  <a:pt x="16147" y="15394"/>
                  <a:pt x="16297" y="15379"/>
                </a:cubicBezTo>
                <a:cubicBezTo>
                  <a:pt x="16421" y="15366"/>
                  <a:pt x="16428" y="15484"/>
                  <a:pt x="16495" y="15503"/>
                </a:cubicBezTo>
                <a:cubicBezTo>
                  <a:pt x="16605" y="15534"/>
                  <a:pt x="16644" y="15481"/>
                  <a:pt x="16718" y="15429"/>
                </a:cubicBezTo>
              </a:path>
              <a:path w="5235" h="4267">
                <a:moveTo>
                  <a:pt x="17264" y="14833"/>
                </a:moveTo>
                <a:cubicBezTo>
                  <a:pt x="17201" y="14783"/>
                  <a:pt x="17110" y="14744"/>
                  <a:pt x="17041" y="14833"/>
                </a:cubicBezTo>
                <a:cubicBezTo>
                  <a:pt x="16933" y="14972"/>
                  <a:pt x="16886" y="15279"/>
                  <a:pt x="16991" y="15429"/>
                </a:cubicBezTo>
                <a:cubicBezTo>
                  <a:pt x="17124" y="15619"/>
                  <a:pt x="17395" y="15414"/>
                  <a:pt x="17438" y="15255"/>
                </a:cubicBezTo>
                <a:cubicBezTo>
                  <a:pt x="17474" y="15123"/>
                  <a:pt x="17378" y="14815"/>
                  <a:pt x="17214" y="14784"/>
                </a:cubicBezTo>
                <a:cubicBezTo>
                  <a:pt x="17129" y="14768"/>
                  <a:pt x="17119" y="14837"/>
                  <a:pt x="17140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23080" y="5010120"/>
            <a:ext cx="1517760" cy="588960"/>
          </a:xfrm>
          <a:custGeom>
            <a:avLst/>
            <a:gdLst/>
            <a:ahLst/>
            <a:rect l="l" t="t" r="r" b="b"/>
            <a:pathLst>
              <a:path w="4218" h="1639">
                <a:moveTo>
                  <a:pt x="19000" y="14114"/>
                </a:moveTo>
                <a:cubicBezTo>
                  <a:pt x="19085" y="14093"/>
                  <a:pt x="19150" y="14051"/>
                  <a:pt x="19248" y="14039"/>
                </a:cubicBezTo>
                <a:cubicBezTo>
                  <a:pt x="19265" y="14203"/>
                  <a:pt x="19147" y="14242"/>
                  <a:pt x="19050" y="14362"/>
                </a:cubicBezTo>
                <a:cubicBezTo>
                  <a:pt x="19050" y="14370"/>
                  <a:pt x="19050" y="14379"/>
                  <a:pt x="19050" y="14387"/>
                </a:cubicBezTo>
                <a:cubicBezTo>
                  <a:pt x="19121" y="14315"/>
                  <a:pt x="19311" y="14316"/>
                  <a:pt x="19323" y="14486"/>
                </a:cubicBezTo>
                <a:cubicBezTo>
                  <a:pt x="19338" y="14687"/>
                  <a:pt x="19104" y="14780"/>
                  <a:pt x="18951" y="14734"/>
                </a:cubicBezTo>
                <a:cubicBezTo>
                  <a:pt x="18951" y="14709"/>
                  <a:pt x="18951" y="14701"/>
                  <a:pt x="18951" y="14684"/>
                </a:cubicBezTo>
              </a:path>
              <a:path w="4218" h="1639">
                <a:moveTo>
                  <a:pt x="19645" y="13915"/>
                </a:moveTo>
                <a:cubicBezTo>
                  <a:pt x="19619" y="14050"/>
                  <a:pt x="19539" y="14168"/>
                  <a:pt x="19521" y="14312"/>
                </a:cubicBezTo>
                <a:cubicBezTo>
                  <a:pt x="19500" y="14477"/>
                  <a:pt x="19510" y="14708"/>
                  <a:pt x="19670" y="14808"/>
                </a:cubicBezTo>
                <a:cubicBezTo>
                  <a:pt x="19737" y="14830"/>
                  <a:pt x="19755" y="14835"/>
                  <a:pt x="19794" y="14858"/>
                </a:cubicBezTo>
              </a:path>
              <a:path w="4218" h="1639">
                <a:moveTo>
                  <a:pt x="20067" y="14089"/>
                </a:moveTo>
                <a:cubicBezTo>
                  <a:pt x="20032" y="14092"/>
                  <a:pt x="19803" y="14107"/>
                  <a:pt x="19794" y="14139"/>
                </a:cubicBezTo>
                <a:cubicBezTo>
                  <a:pt x="19772" y="14217"/>
                  <a:pt x="19809" y="14401"/>
                  <a:pt x="19844" y="14436"/>
                </a:cubicBezTo>
                <a:cubicBezTo>
                  <a:pt x="19944" y="14436"/>
                  <a:pt x="19973" y="14327"/>
                  <a:pt x="20067" y="14337"/>
                </a:cubicBezTo>
                <a:cubicBezTo>
                  <a:pt x="20216" y="14353"/>
                  <a:pt x="20292" y="14554"/>
                  <a:pt x="20166" y="14660"/>
                </a:cubicBezTo>
                <a:cubicBezTo>
                  <a:pt x="20141" y="14681"/>
                  <a:pt x="19828" y="14758"/>
                  <a:pt x="19819" y="14684"/>
                </a:cubicBezTo>
                <a:cubicBezTo>
                  <a:pt x="19827" y="14659"/>
                  <a:pt x="19836" y="14635"/>
                  <a:pt x="19844" y="14610"/>
                </a:cubicBezTo>
              </a:path>
              <a:path w="4218" h="1639">
                <a:moveTo>
                  <a:pt x="20191" y="13915"/>
                </a:moveTo>
                <a:cubicBezTo>
                  <a:pt x="20334" y="13936"/>
                  <a:pt x="20417" y="14034"/>
                  <a:pt x="20489" y="14163"/>
                </a:cubicBezTo>
                <a:cubicBezTo>
                  <a:pt x="20609" y="14378"/>
                  <a:pt x="20545" y="14600"/>
                  <a:pt x="20389" y="14784"/>
                </a:cubicBezTo>
                <a:cubicBezTo>
                  <a:pt x="20349" y="14804"/>
                  <a:pt x="20333" y="14802"/>
                  <a:pt x="20340" y="14833"/>
                </a:cubicBezTo>
              </a:path>
              <a:path w="4218" h="1639">
                <a:moveTo>
                  <a:pt x="20935" y="14163"/>
                </a:moveTo>
                <a:cubicBezTo>
                  <a:pt x="20935" y="14120"/>
                  <a:pt x="20961" y="14475"/>
                  <a:pt x="20960" y="14486"/>
                </a:cubicBezTo>
                <a:cubicBezTo>
                  <a:pt x="20955" y="14560"/>
                  <a:pt x="20935" y="14735"/>
                  <a:pt x="20935" y="14660"/>
                </a:cubicBezTo>
              </a:path>
              <a:path w="4218" h="1639">
                <a:moveTo>
                  <a:pt x="20762" y="14461"/>
                </a:moveTo>
                <a:cubicBezTo>
                  <a:pt x="20894" y="14438"/>
                  <a:pt x="21121" y="14377"/>
                  <a:pt x="21208" y="14412"/>
                </a:cubicBezTo>
              </a:path>
              <a:path w="4218" h="1639">
                <a:moveTo>
                  <a:pt x="21729" y="14039"/>
                </a:moveTo>
                <a:cubicBezTo>
                  <a:pt x="21660" y="14054"/>
                  <a:pt x="21500" y="14042"/>
                  <a:pt x="21481" y="14089"/>
                </a:cubicBezTo>
                <a:cubicBezTo>
                  <a:pt x="21444" y="14183"/>
                  <a:pt x="21437" y="14263"/>
                  <a:pt x="21431" y="14362"/>
                </a:cubicBezTo>
                <a:cubicBezTo>
                  <a:pt x="21536" y="14425"/>
                  <a:pt x="21600" y="14292"/>
                  <a:pt x="21729" y="14288"/>
                </a:cubicBezTo>
                <a:cubicBezTo>
                  <a:pt x="21762" y="14296"/>
                  <a:pt x="21795" y="14304"/>
                  <a:pt x="21828" y="14312"/>
                </a:cubicBezTo>
                <a:cubicBezTo>
                  <a:pt x="21870" y="14535"/>
                  <a:pt x="21841" y="14590"/>
                  <a:pt x="21605" y="14610"/>
                </a:cubicBezTo>
                <a:cubicBezTo>
                  <a:pt x="21512" y="14618"/>
                  <a:pt x="21434" y="14612"/>
                  <a:pt x="21382" y="14560"/>
                </a:cubicBezTo>
              </a:path>
              <a:path w="4218" h="1639">
                <a:moveTo>
                  <a:pt x="22076" y="14263"/>
                </a:moveTo>
                <a:cubicBezTo>
                  <a:pt x="22193" y="14263"/>
                  <a:pt x="22364" y="14248"/>
                  <a:pt x="22473" y="14288"/>
                </a:cubicBezTo>
                <a:cubicBezTo>
                  <a:pt x="22473" y="14296"/>
                  <a:pt x="22473" y="14304"/>
                  <a:pt x="22473" y="14312"/>
                </a:cubicBezTo>
              </a:path>
              <a:path w="4218" h="1639">
                <a:moveTo>
                  <a:pt x="22175" y="14511"/>
                </a:moveTo>
                <a:cubicBezTo>
                  <a:pt x="22310" y="14511"/>
                  <a:pt x="22446" y="14524"/>
                  <a:pt x="22572" y="14486"/>
                </a:cubicBezTo>
              </a:path>
              <a:path w="4218" h="1639">
                <a:moveTo>
                  <a:pt x="23093" y="14089"/>
                </a:moveTo>
                <a:cubicBezTo>
                  <a:pt x="22994" y="14106"/>
                  <a:pt x="22854" y="14132"/>
                  <a:pt x="22771" y="14188"/>
                </a:cubicBezTo>
                <a:cubicBezTo>
                  <a:pt x="22771" y="14213"/>
                  <a:pt x="22771" y="14221"/>
                  <a:pt x="22771" y="14238"/>
                </a:cubicBezTo>
                <a:cubicBezTo>
                  <a:pt x="22919" y="14307"/>
                  <a:pt x="23052" y="14306"/>
                  <a:pt x="23168" y="14412"/>
                </a:cubicBezTo>
                <a:cubicBezTo>
                  <a:pt x="23111" y="14580"/>
                  <a:pt x="22985" y="14555"/>
                  <a:pt x="22820" y="14560"/>
                </a:cubicBezTo>
                <a:cubicBezTo>
                  <a:pt x="22804" y="14560"/>
                  <a:pt x="22787" y="14560"/>
                  <a:pt x="22771" y="14560"/>
                </a:cubicBezTo>
              </a:path>
              <a:path w="4218" h="1639">
                <a:moveTo>
                  <a:pt x="19248" y="14759"/>
                </a:moveTo>
                <a:cubicBezTo>
                  <a:pt x="19248" y="14853"/>
                  <a:pt x="19227" y="14956"/>
                  <a:pt x="19273" y="15032"/>
                </a:cubicBezTo>
                <a:cubicBezTo>
                  <a:pt x="19413" y="14952"/>
                  <a:pt x="19605" y="14923"/>
                  <a:pt x="19769" y="14908"/>
                </a:cubicBezTo>
                <a:cubicBezTo>
                  <a:pt x="19820" y="14903"/>
                  <a:pt x="19927" y="14886"/>
                  <a:pt x="19943" y="14932"/>
                </a:cubicBezTo>
                <a:cubicBezTo>
                  <a:pt x="19943" y="14897"/>
                  <a:pt x="19944" y="14658"/>
                  <a:pt x="19918" y="14684"/>
                </a:cubicBezTo>
                <a:cubicBezTo>
                  <a:pt x="19918" y="14692"/>
                  <a:pt x="19918" y="14701"/>
                  <a:pt x="19918" y="14709"/>
                </a:cubicBezTo>
              </a:path>
              <a:path w="4218" h="1639">
                <a:moveTo>
                  <a:pt x="19323" y="15156"/>
                </a:moveTo>
                <a:cubicBezTo>
                  <a:pt x="19323" y="15118"/>
                  <a:pt x="19367" y="15425"/>
                  <a:pt x="19372" y="15478"/>
                </a:cubicBezTo>
                <a:cubicBezTo>
                  <a:pt x="19372" y="15540"/>
                  <a:pt x="19363" y="15574"/>
                  <a:pt x="19397" y="15528"/>
                </a:cubicBezTo>
              </a:path>
              <a:path w="4218" h="1639">
                <a:moveTo>
                  <a:pt x="19943" y="15032"/>
                </a:moveTo>
                <a:cubicBezTo>
                  <a:pt x="19873" y="15070"/>
                  <a:pt x="19750" y="15094"/>
                  <a:pt x="19695" y="15131"/>
                </a:cubicBezTo>
                <a:cubicBezTo>
                  <a:pt x="19671" y="15147"/>
                  <a:pt x="19670" y="15260"/>
                  <a:pt x="19670" y="15304"/>
                </a:cubicBezTo>
                <a:cubicBezTo>
                  <a:pt x="19820" y="15294"/>
                  <a:pt x="19940" y="15252"/>
                  <a:pt x="20067" y="15304"/>
                </a:cubicBezTo>
                <a:cubicBezTo>
                  <a:pt x="20040" y="15413"/>
                  <a:pt x="19864" y="15697"/>
                  <a:pt x="19695" y="15528"/>
                </a:cubicBezTo>
                <a:cubicBezTo>
                  <a:pt x="19695" y="15495"/>
                  <a:pt x="19695" y="15462"/>
                  <a:pt x="19695" y="15429"/>
                </a:cubicBezTo>
              </a:path>
              <a:path w="4218" h="1639">
                <a:moveTo>
                  <a:pt x="20389" y="15081"/>
                </a:moveTo>
                <a:cubicBezTo>
                  <a:pt x="20415" y="15184"/>
                  <a:pt x="20469" y="15277"/>
                  <a:pt x="20489" y="15379"/>
                </a:cubicBezTo>
              </a:path>
              <a:path w="4218" h="1639">
                <a:moveTo>
                  <a:pt x="20315" y="15230"/>
                </a:moveTo>
                <a:cubicBezTo>
                  <a:pt x="20473" y="15222"/>
                  <a:pt x="20627" y="15205"/>
                  <a:pt x="20786" y="15205"/>
                </a:cubicBezTo>
              </a:path>
              <a:path w="4218" h="1639">
                <a:moveTo>
                  <a:pt x="21134" y="14982"/>
                </a:moveTo>
                <a:cubicBezTo>
                  <a:pt x="21060" y="15016"/>
                  <a:pt x="21013" y="15043"/>
                  <a:pt x="20935" y="15056"/>
                </a:cubicBezTo>
                <a:cubicBezTo>
                  <a:pt x="20940" y="15074"/>
                  <a:pt x="20953" y="15173"/>
                  <a:pt x="20960" y="15180"/>
                </a:cubicBezTo>
                <a:cubicBezTo>
                  <a:pt x="21002" y="15221"/>
                  <a:pt x="21147" y="15155"/>
                  <a:pt x="21208" y="15205"/>
                </a:cubicBezTo>
                <a:cubicBezTo>
                  <a:pt x="21305" y="15284"/>
                  <a:pt x="21137" y="15396"/>
                  <a:pt x="21084" y="15404"/>
                </a:cubicBezTo>
                <a:cubicBezTo>
                  <a:pt x="20945" y="15425"/>
                  <a:pt x="20966" y="15399"/>
                  <a:pt x="20985" y="15304"/>
                </a:cubicBezTo>
              </a:path>
              <a:path w="4218" h="1639">
                <a:moveTo>
                  <a:pt x="21704" y="15280"/>
                </a:moveTo>
                <a:cubicBezTo>
                  <a:pt x="21855" y="15280"/>
                  <a:pt x="21980" y="15272"/>
                  <a:pt x="22126" y="15230"/>
                </a:cubicBezTo>
              </a:path>
              <a:path w="4218" h="1639">
                <a:moveTo>
                  <a:pt x="22374" y="15032"/>
                </a:moveTo>
                <a:cubicBezTo>
                  <a:pt x="22468" y="15004"/>
                  <a:pt x="22659" y="14994"/>
                  <a:pt x="22572" y="15156"/>
                </a:cubicBezTo>
                <a:cubicBezTo>
                  <a:pt x="22510" y="15270"/>
                  <a:pt x="22436" y="15312"/>
                  <a:pt x="22324" y="15354"/>
                </a:cubicBezTo>
                <a:cubicBezTo>
                  <a:pt x="22441" y="15344"/>
                  <a:pt x="22555" y="15324"/>
                  <a:pt x="22671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53080" y="5786280"/>
            <a:ext cx="517680" cy="285840"/>
          </a:xfrm>
          <a:custGeom>
            <a:avLst/>
            <a:gdLst/>
            <a:ahLst/>
            <a:rect l="l" t="t" r="r" b="b"/>
            <a:pathLst>
              <a:path w="1440" h="795">
                <a:moveTo>
                  <a:pt x="15949" y="16123"/>
                </a:moveTo>
                <a:cubicBezTo>
                  <a:pt x="16031" y="16109"/>
                  <a:pt x="16161" y="16020"/>
                  <a:pt x="16222" y="16123"/>
                </a:cubicBezTo>
                <a:cubicBezTo>
                  <a:pt x="16302" y="16257"/>
                  <a:pt x="16185" y="16389"/>
                  <a:pt x="16073" y="16446"/>
                </a:cubicBezTo>
                <a:cubicBezTo>
                  <a:pt x="16065" y="16446"/>
                  <a:pt x="16057" y="16446"/>
                  <a:pt x="16049" y="16446"/>
                </a:cubicBezTo>
                <a:cubicBezTo>
                  <a:pt x="16159" y="16461"/>
                  <a:pt x="16314" y="16491"/>
                  <a:pt x="16272" y="16644"/>
                </a:cubicBezTo>
                <a:cubicBezTo>
                  <a:pt x="16222" y="16823"/>
                  <a:pt x="15874" y="16965"/>
                  <a:pt x="15726" y="16818"/>
                </a:cubicBezTo>
                <a:cubicBezTo>
                  <a:pt x="15718" y="16777"/>
                  <a:pt x="15709" y="16735"/>
                  <a:pt x="15701" y="16694"/>
                </a:cubicBezTo>
              </a:path>
              <a:path w="1440" h="795">
                <a:moveTo>
                  <a:pt x="17016" y="16173"/>
                </a:moveTo>
                <a:cubicBezTo>
                  <a:pt x="16911" y="16203"/>
                  <a:pt x="16721" y="16224"/>
                  <a:pt x="16669" y="16321"/>
                </a:cubicBezTo>
                <a:cubicBezTo>
                  <a:pt x="16615" y="16423"/>
                  <a:pt x="16619" y="16464"/>
                  <a:pt x="16619" y="16570"/>
                </a:cubicBezTo>
                <a:cubicBezTo>
                  <a:pt x="16773" y="16548"/>
                  <a:pt x="16907" y="16457"/>
                  <a:pt x="17066" y="16520"/>
                </a:cubicBezTo>
                <a:cubicBezTo>
                  <a:pt x="17091" y="16545"/>
                  <a:pt x="17115" y="16569"/>
                  <a:pt x="17140" y="16594"/>
                </a:cubicBezTo>
                <a:cubicBezTo>
                  <a:pt x="17025" y="16840"/>
                  <a:pt x="16879" y="16801"/>
                  <a:pt x="16619" y="1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50000" y="5715000"/>
            <a:ext cx="965160" cy="214200"/>
          </a:xfrm>
          <a:custGeom>
            <a:avLst/>
            <a:gdLst/>
            <a:ahLst/>
            <a:rect l="l" t="t" r="r" b="b"/>
            <a:pathLst>
              <a:path w="2680" h="596">
                <a:moveTo>
                  <a:pt x="18777" y="16098"/>
                </a:moveTo>
                <a:cubicBezTo>
                  <a:pt x="18741" y="16170"/>
                  <a:pt x="18891" y="16024"/>
                  <a:pt x="18951" y="16024"/>
                </a:cubicBezTo>
                <a:cubicBezTo>
                  <a:pt x="19084" y="16024"/>
                  <a:pt x="19002" y="16230"/>
                  <a:pt x="18951" y="16272"/>
                </a:cubicBezTo>
                <a:cubicBezTo>
                  <a:pt x="18926" y="16280"/>
                  <a:pt x="18901" y="16289"/>
                  <a:pt x="18876" y="16297"/>
                </a:cubicBezTo>
                <a:cubicBezTo>
                  <a:pt x="18965" y="16253"/>
                  <a:pt x="18985" y="16236"/>
                  <a:pt x="19050" y="16247"/>
                </a:cubicBezTo>
                <a:cubicBezTo>
                  <a:pt x="19033" y="16349"/>
                  <a:pt x="18988" y="16470"/>
                  <a:pt x="18852" y="16470"/>
                </a:cubicBezTo>
                <a:cubicBezTo>
                  <a:pt x="18788" y="16439"/>
                  <a:pt x="18775" y="16416"/>
                  <a:pt x="18827" y="16346"/>
                </a:cubicBezTo>
              </a:path>
              <a:path w="2680" h="596">
                <a:moveTo>
                  <a:pt x="19496" y="15974"/>
                </a:moveTo>
                <a:cubicBezTo>
                  <a:pt x="19496" y="16115"/>
                  <a:pt x="19496" y="16255"/>
                  <a:pt x="19496" y="16396"/>
                </a:cubicBezTo>
              </a:path>
              <a:path w="2680" h="596">
                <a:moveTo>
                  <a:pt x="19869" y="16024"/>
                </a:moveTo>
                <a:cubicBezTo>
                  <a:pt x="19827" y="16075"/>
                  <a:pt x="19618" y="16330"/>
                  <a:pt x="19869" y="16297"/>
                </a:cubicBezTo>
                <a:cubicBezTo>
                  <a:pt x="19979" y="16282"/>
                  <a:pt x="20161" y="16064"/>
                  <a:pt x="19968" y="16024"/>
                </a:cubicBezTo>
                <a:cubicBezTo>
                  <a:pt x="19951" y="16032"/>
                  <a:pt x="19935" y="16041"/>
                  <a:pt x="19918" y="16049"/>
                </a:cubicBezTo>
              </a:path>
              <a:path w="2680" h="596">
                <a:moveTo>
                  <a:pt x="20538" y="16024"/>
                </a:moveTo>
                <a:cubicBezTo>
                  <a:pt x="20538" y="16123"/>
                  <a:pt x="20538" y="16222"/>
                  <a:pt x="20538" y="16321"/>
                </a:cubicBezTo>
              </a:path>
              <a:path w="2680" h="596">
                <a:moveTo>
                  <a:pt x="20414" y="16073"/>
                </a:moveTo>
                <a:cubicBezTo>
                  <a:pt x="20571" y="16054"/>
                  <a:pt x="20729" y="16024"/>
                  <a:pt x="20886" y="15999"/>
                </a:cubicBezTo>
              </a:path>
              <a:path w="2680" h="596">
                <a:moveTo>
                  <a:pt x="21059" y="15949"/>
                </a:moveTo>
                <a:cubicBezTo>
                  <a:pt x="21010" y="16024"/>
                  <a:pt x="20994" y="16049"/>
                  <a:pt x="20960" y="16098"/>
                </a:cubicBezTo>
                <a:cubicBezTo>
                  <a:pt x="21010" y="16067"/>
                  <a:pt x="21205" y="16006"/>
                  <a:pt x="21258" y="16049"/>
                </a:cubicBezTo>
                <a:cubicBezTo>
                  <a:pt x="21446" y="16202"/>
                  <a:pt x="20981" y="16133"/>
                  <a:pt x="20960" y="16123"/>
                </a:cubicBezTo>
              </a:path>
              <a:path w="2680" h="596">
                <a:moveTo>
                  <a:pt x="21084" y="15900"/>
                </a:moveTo>
                <a:cubicBezTo>
                  <a:pt x="21206" y="15894"/>
                  <a:pt x="21315" y="15884"/>
                  <a:pt x="21431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12000" y="5724360"/>
            <a:ext cx="1535040" cy="936720"/>
          </a:xfrm>
          <a:custGeom>
            <a:avLst/>
            <a:gdLst/>
            <a:ahLst/>
            <a:rect l="l" t="t" r="r" b="b"/>
            <a:pathLst>
              <a:path w="4267" h="2605">
                <a:moveTo>
                  <a:pt x="19298" y="15974"/>
                </a:moveTo>
                <a:cubicBezTo>
                  <a:pt x="19227" y="16124"/>
                  <a:pt x="19120" y="16281"/>
                  <a:pt x="19273" y="16421"/>
                </a:cubicBezTo>
                <a:cubicBezTo>
                  <a:pt x="19354" y="16448"/>
                  <a:pt x="19386" y="16456"/>
                  <a:pt x="19447" y="16446"/>
                </a:cubicBezTo>
              </a:path>
              <a:path w="4267" h="2605">
                <a:moveTo>
                  <a:pt x="20042" y="15900"/>
                </a:moveTo>
                <a:cubicBezTo>
                  <a:pt x="20180" y="16051"/>
                  <a:pt x="20407" y="16209"/>
                  <a:pt x="20141" y="16346"/>
                </a:cubicBezTo>
                <a:cubicBezTo>
                  <a:pt x="20092" y="16363"/>
                  <a:pt x="20042" y="16379"/>
                  <a:pt x="19993" y="16396"/>
                </a:cubicBezTo>
              </a:path>
              <a:path w="4267" h="2605">
                <a:moveTo>
                  <a:pt x="21580" y="16098"/>
                </a:moveTo>
                <a:cubicBezTo>
                  <a:pt x="21688" y="16098"/>
                  <a:pt x="21730" y="16096"/>
                  <a:pt x="21803" y="16073"/>
                </a:cubicBezTo>
              </a:path>
              <a:path w="4267" h="2605">
                <a:moveTo>
                  <a:pt x="21654" y="16049"/>
                </a:moveTo>
                <a:cubicBezTo>
                  <a:pt x="21712" y="16032"/>
                  <a:pt x="21770" y="16016"/>
                  <a:pt x="21828" y="15999"/>
                </a:cubicBezTo>
              </a:path>
              <a:path w="4267" h="2605">
                <a:moveTo>
                  <a:pt x="21828" y="15999"/>
                </a:moveTo>
                <a:lnTo>
                  <a:pt x="21828" y="15999"/>
                </a:lnTo>
              </a:path>
              <a:path w="4267" h="2605">
                <a:moveTo>
                  <a:pt x="20389" y="16743"/>
                </a:moveTo>
                <a:cubicBezTo>
                  <a:pt x="20517" y="16704"/>
                  <a:pt x="20654" y="16677"/>
                  <a:pt x="20786" y="16644"/>
                </a:cubicBezTo>
              </a:path>
              <a:path w="4267" h="2605">
                <a:moveTo>
                  <a:pt x="21828" y="16669"/>
                </a:moveTo>
                <a:cubicBezTo>
                  <a:pt x="21894" y="16644"/>
                  <a:pt x="21961" y="16619"/>
                  <a:pt x="22027" y="16594"/>
                </a:cubicBezTo>
              </a:path>
              <a:path w="4267" h="2605">
                <a:moveTo>
                  <a:pt x="22027" y="16594"/>
                </a:moveTo>
                <a:lnTo>
                  <a:pt x="22027" y="16594"/>
                </a:lnTo>
              </a:path>
              <a:path w="4267" h="2605">
                <a:moveTo>
                  <a:pt x="22944" y="16222"/>
                </a:moveTo>
                <a:cubicBezTo>
                  <a:pt x="23126" y="16154"/>
                  <a:pt x="23175" y="16136"/>
                  <a:pt x="23292" y="16098"/>
                </a:cubicBezTo>
              </a:path>
              <a:path w="4267" h="2605">
                <a:moveTo>
                  <a:pt x="23292" y="16098"/>
                </a:moveTo>
                <a:lnTo>
                  <a:pt x="23292" y="16098"/>
                </a:lnTo>
              </a:path>
              <a:path w="4267" h="2605">
                <a:moveTo>
                  <a:pt x="19745" y="17264"/>
                </a:moveTo>
                <a:cubicBezTo>
                  <a:pt x="19706" y="17419"/>
                  <a:pt x="19570" y="17744"/>
                  <a:pt x="19844" y="17785"/>
                </a:cubicBezTo>
                <a:cubicBezTo>
                  <a:pt x="19885" y="17777"/>
                  <a:pt x="19927" y="17768"/>
                  <a:pt x="19968" y="17760"/>
                </a:cubicBezTo>
              </a:path>
              <a:path w="4267" h="2605">
                <a:moveTo>
                  <a:pt x="20613" y="17190"/>
                </a:moveTo>
                <a:cubicBezTo>
                  <a:pt x="20756" y="17343"/>
                  <a:pt x="20884" y="17543"/>
                  <a:pt x="20737" y="17760"/>
                </a:cubicBezTo>
                <a:cubicBezTo>
                  <a:pt x="20664" y="17815"/>
                  <a:pt x="20664" y="17840"/>
                  <a:pt x="20613" y="17835"/>
                </a:cubicBezTo>
              </a:path>
              <a:path w="4267" h="2605">
                <a:moveTo>
                  <a:pt x="21084" y="17438"/>
                </a:moveTo>
                <a:cubicBezTo>
                  <a:pt x="21231" y="17408"/>
                  <a:pt x="21352" y="17388"/>
                  <a:pt x="21481" y="17314"/>
                </a:cubicBezTo>
              </a:path>
              <a:path w="4267" h="2605">
                <a:moveTo>
                  <a:pt x="22002" y="17363"/>
                </a:moveTo>
                <a:cubicBezTo>
                  <a:pt x="22102" y="17357"/>
                  <a:pt x="22199" y="17345"/>
                  <a:pt x="22299" y="17338"/>
                </a:cubicBezTo>
              </a:path>
              <a:path w="4267" h="2605">
                <a:moveTo>
                  <a:pt x="22250" y="17438"/>
                </a:moveTo>
                <a:cubicBezTo>
                  <a:pt x="22308" y="17413"/>
                  <a:pt x="22365" y="17388"/>
                  <a:pt x="22423" y="17363"/>
                </a:cubicBezTo>
              </a:path>
              <a:path w="4267" h="2605">
                <a:moveTo>
                  <a:pt x="22423" y="17363"/>
                </a:moveTo>
                <a:lnTo>
                  <a:pt x="22423" y="17363"/>
                </a:lnTo>
              </a:path>
              <a:path w="4267" h="2605">
                <a:moveTo>
                  <a:pt x="20811" y="18182"/>
                </a:moveTo>
                <a:cubicBezTo>
                  <a:pt x="20821" y="18291"/>
                  <a:pt x="20850" y="18396"/>
                  <a:pt x="20861" y="18504"/>
                </a:cubicBezTo>
              </a:path>
              <a:path w="4267" h="2605">
                <a:moveTo>
                  <a:pt x="20662" y="18380"/>
                </a:moveTo>
                <a:cubicBezTo>
                  <a:pt x="20812" y="18313"/>
                  <a:pt x="20953" y="18237"/>
                  <a:pt x="21109" y="18182"/>
                </a:cubicBezTo>
              </a:path>
              <a:path w="4267" h="2605">
                <a:moveTo>
                  <a:pt x="21208" y="17959"/>
                </a:moveTo>
                <a:cubicBezTo>
                  <a:pt x="21337" y="17907"/>
                  <a:pt x="21384" y="17889"/>
                  <a:pt x="21481" y="17884"/>
                </a:cubicBezTo>
              </a:path>
              <a:path w="4267" h="2605">
                <a:moveTo>
                  <a:pt x="21481" y="17884"/>
                </a:moveTo>
                <a:lnTo>
                  <a:pt x="21481" y="17884"/>
                </a:lnTo>
              </a:path>
              <a:path w="4267" h="2605">
                <a:moveTo>
                  <a:pt x="22002" y="18207"/>
                </a:moveTo>
                <a:cubicBezTo>
                  <a:pt x="22101" y="18170"/>
                  <a:pt x="22183" y="18123"/>
                  <a:pt x="22200" y="18157"/>
                </a:cubicBezTo>
              </a:path>
              <a:path w="4267" h="2605">
                <a:moveTo>
                  <a:pt x="22051" y="18331"/>
                </a:moveTo>
                <a:cubicBezTo>
                  <a:pt x="22212" y="18265"/>
                  <a:pt x="22349" y="18197"/>
                  <a:pt x="22498" y="18107"/>
                </a:cubicBezTo>
              </a:path>
              <a:path w="4267" h="2605">
                <a:moveTo>
                  <a:pt x="22498" y="18107"/>
                </a:moveTo>
                <a:lnTo>
                  <a:pt x="22498" y="18107"/>
                </a:lnTo>
              </a:path>
              <a:path w="4267" h="2605">
                <a:moveTo>
                  <a:pt x="23217" y="17611"/>
                </a:moveTo>
                <a:cubicBezTo>
                  <a:pt x="23316" y="17525"/>
                  <a:pt x="23341" y="17487"/>
                  <a:pt x="23465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6419880"/>
            <a:ext cx="303480" cy="331920"/>
          </a:xfrm>
          <a:custGeom>
            <a:avLst/>
            <a:gdLst/>
            <a:ahLst/>
            <a:rect l="l" t="t" r="r" b="b"/>
            <a:pathLst>
              <a:path w="844" h="918">
                <a:moveTo>
                  <a:pt x="19472" y="17909"/>
                </a:moveTo>
                <a:cubicBezTo>
                  <a:pt x="19482" y="17969"/>
                  <a:pt x="19496" y="18021"/>
                  <a:pt x="19496" y="18083"/>
                </a:cubicBezTo>
                <a:cubicBezTo>
                  <a:pt x="19496" y="18091"/>
                  <a:pt x="19496" y="18099"/>
                  <a:pt x="19496" y="18107"/>
                </a:cubicBezTo>
                <a:cubicBezTo>
                  <a:pt x="19671" y="18096"/>
                  <a:pt x="19845" y="18008"/>
                  <a:pt x="20017" y="18008"/>
                </a:cubicBezTo>
                <a:cubicBezTo>
                  <a:pt x="20057" y="18008"/>
                  <a:pt x="20125" y="18050"/>
                  <a:pt x="20166" y="18058"/>
                </a:cubicBezTo>
                <a:cubicBezTo>
                  <a:pt x="20166" y="18009"/>
                  <a:pt x="20124" y="17864"/>
                  <a:pt x="20141" y="17835"/>
                </a:cubicBezTo>
                <a:cubicBezTo>
                  <a:pt x="20149" y="17835"/>
                  <a:pt x="20158" y="17835"/>
                  <a:pt x="20166" y="17835"/>
                </a:cubicBezTo>
              </a:path>
              <a:path w="844" h="918">
                <a:moveTo>
                  <a:pt x="19918" y="18504"/>
                </a:moveTo>
                <a:cubicBezTo>
                  <a:pt x="19906" y="18383"/>
                  <a:pt x="19855" y="18337"/>
                  <a:pt x="19720" y="18380"/>
                </a:cubicBezTo>
                <a:cubicBezTo>
                  <a:pt x="19584" y="18423"/>
                  <a:pt x="19567" y="18488"/>
                  <a:pt x="19521" y="18604"/>
                </a:cubicBezTo>
                <a:cubicBezTo>
                  <a:pt x="19658" y="18622"/>
                  <a:pt x="19707" y="18488"/>
                  <a:pt x="19794" y="18380"/>
                </a:cubicBezTo>
                <a:cubicBezTo>
                  <a:pt x="19802" y="18372"/>
                  <a:pt x="19811" y="18363"/>
                  <a:pt x="19819" y="18355"/>
                </a:cubicBezTo>
                <a:cubicBezTo>
                  <a:pt x="19846" y="18464"/>
                  <a:pt x="19865" y="18581"/>
                  <a:pt x="19869" y="18703"/>
                </a:cubicBezTo>
                <a:cubicBezTo>
                  <a:pt x="19869" y="18719"/>
                  <a:pt x="19869" y="18736"/>
                  <a:pt x="19869" y="18752"/>
                </a:cubicBezTo>
              </a:path>
              <a:path w="844" h="918">
                <a:moveTo>
                  <a:pt x="20166" y="18231"/>
                </a:moveTo>
                <a:cubicBezTo>
                  <a:pt x="20111" y="18376"/>
                  <a:pt x="20084" y="18456"/>
                  <a:pt x="20092" y="18604"/>
                </a:cubicBezTo>
                <a:cubicBezTo>
                  <a:pt x="20224" y="18652"/>
                  <a:pt x="20356" y="18597"/>
                  <a:pt x="20315" y="18405"/>
                </a:cubicBezTo>
                <a:cubicBezTo>
                  <a:pt x="20286" y="18268"/>
                  <a:pt x="20166" y="18306"/>
                  <a:pt x="20166" y="183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81960" y="6170760"/>
            <a:ext cx="295200" cy="455400"/>
          </a:xfrm>
          <a:custGeom>
            <a:avLst/>
            <a:gdLst/>
            <a:ahLst/>
            <a:rect l="l" t="t" r="r" b="b"/>
            <a:pathLst>
              <a:path w="820" h="1266">
                <a:moveTo>
                  <a:pt x="21183" y="17239"/>
                </a:moveTo>
                <a:cubicBezTo>
                  <a:pt x="21194" y="17339"/>
                  <a:pt x="21245" y="17509"/>
                  <a:pt x="21208" y="17611"/>
                </a:cubicBezTo>
                <a:cubicBezTo>
                  <a:pt x="21200" y="17611"/>
                  <a:pt x="21191" y="17611"/>
                  <a:pt x="21183" y="17611"/>
                </a:cubicBezTo>
              </a:path>
              <a:path w="820" h="1266">
                <a:moveTo>
                  <a:pt x="21530" y="17239"/>
                </a:moveTo>
                <a:cubicBezTo>
                  <a:pt x="21430" y="17317"/>
                  <a:pt x="21515" y="17341"/>
                  <a:pt x="21605" y="17388"/>
                </a:cubicBezTo>
                <a:cubicBezTo>
                  <a:pt x="21699" y="17437"/>
                  <a:pt x="21711" y="17424"/>
                  <a:pt x="21729" y="17512"/>
                </a:cubicBezTo>
                <a:cubicBezTo>
                  <a:pt x="21610" y="17580"/>
                  <a:pt x="21616" y="17548"/>
                  <a:pt x="21481" y="17512"/>
                </a:cubicBezTo>
              </a:path>
              <a:path w="820" h="1266">
                <a:moveTo>
                  <a:pt x="21506" y="17190"/>
                </a:moveTo>
                <a:cubicBezTo>
                  <a:pt x="21628" y="17164"/>
                  <a:pt x="21752" y="17150"/>
                  <a:pt x="21878" y="17140"/>
                </a:cubicBezTo>
              </a:path>
              <a:path w="820" h="1266">
                <a:moveTo>
                  <a:pt x="21233" y="18083"/>
                </a:moveTo>
                <a:cubicBezTo>
                  <a:pt x="21225" y="18091"/>
                  <a:pt x="21216" y="18099"/>
                  <a:pt x="21208" y="18107"/>
                </a:cubicBezTo>
                <a:cubicBezTo>
                  <a:pt x="21224" y="18202"/>
                  <a:pt x="21351" y="18185"/>
                  <a:pt x="21406" y="18281"/>
                </a:cubicBezTo>
                <a:cubicBezTo>
                  <a:pt x="21489" y="18427"/>
                  <a:pt x="21200" y="18414"/>
                  <a:pt x="21134" y="18331"/>
                </a:cubicBezTo>
                <a:cubicBezTo>
                  <a:pt x="21109" y="18281"/>
                  <a:pt x="21084" y="18232"/>
                  <a:pt x="21059" y="181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18640" y="5857920"/>
            <a:ext cx="393480" cy="714240"/>
          </a:xfrm>
          <a:custGeom>
            <a:avLst/>
            <a:gdLst/>
            <a:ahLst/>
            <a:rect l="l" t="t" r="r" b="b"/>
            <a:pathLst>
              <a:path w="1092" h="1985">
                <a:moveTo>
                  <a:pt x="22324" y="16346"/>
                </a:moveTo>
                <a:cubicBezTo>
                  <a:pt x="22324" y="16346"/>
                  <a:pt x="22596" y="16293"/>
                  <a:pt x="22547" y="16371"/>
                </a:cubicBezTo>
                <a:cubicBezTo>
                  <a:pt x="22472" y="16447"/>
                  <a:pt x="22446" y="16473"/>
                  <a:pt x="22374" y="16495"/>
                </a:cubicBezTo>
                <a:cubicBezTo>
                  <a:pt x="22422" y="16508"/>
                  <a:pt x="22772" y="16543"/>
                  <a:pt x="22647" y="16644"/>
                </a:cubicBezTo>
                <a:cubicBezTo>
                  <a:pt x="22506" y="16757"/>
                  <a:pt x="22402" y="16700"/>
                  <a:pt x="22275" y="16644"/>
                </a:cubicBezTo>
              </a:path>
              <a:path w="1092" h="1985">
                <a:moveTo>
                  <a:pt x="22796" y="16272"/>
                </a:moveTo>
                <a:cubicBezTo>
                  <a:pt x="22795" y="16434"/>
                  <a:pt x="22955" y="16369"/>
                  <a:pt x="23068" y="16495"/>
                </a:cubicBezTo>
                <a:cubicBezTo>
                  <a:pt x="23154" y="16591"/>
                  <a:pt x="22911" y="16577"/>
                  <a:pt x="22796" y="16520"/>
                </a:cubicBezTo>
              </a:path>
              <a:path w="1092" h="1985">
                <a:moveTo>
                  <a:pt x="22895" y="17735"/>
                </a:moveTo>
                <a:cubicBezTo>
                  <a:pt x="22740" y="17736"/>
                  <a:pt x="22635" y="17883"/>
                  <a:pt x="22622" y="18058"/>
                </a:cubicBezTo>
                <a:cubicBezTo>
                  <a:pt x="22630" y="18066"/>
                  <a:pt x="22639" y="18075"/>
                  <a:pt x="22647" y="18083"/>
                </a:cubicBezTo>
                <a:cubicBezTo>
                  <a:pt x="22763" y="18005"/>
                  <a:pt x="22785" y="17945"/>
                  <a:pt x="22845" y="17810"/>
                </a:cubicBezTo>
                <a:cubicBezTo>
                  <a:pt x="22845" y="17929"/>
                  <a:pt x="22883" y="18040"/>
                  <a:pt x="22895" y="18157"/>
                </a:cubicBezTo>
                <a:cubicBezTo>
                  <a:pt x="22895" y="18231"/>
                  <a:pt x="22870" y="18264"/>
                  <a:pt x="22920" y="18256"/>
                </a:cubicBezTo>
              </a:path>
              <a:path w="1092" h="1985">
                <a:moveTo>
                  <a:pt x="23143" y="17661"/>
                </a:moveTo>
                <a:cubicBezTo>
                  <a:pt x="23093" y="17827"/>
                  <a:pt x="23190" y="17799"/>
                  <a:pt x="23316" y="17884"/>
                </a:cubicBezTo>
                <a:cubicBezTo>
                  <a:pt x="23465" y="17985"/>
                  <a:pt x="23292" y="18034"/>
                  <a:pt x="23217" y="180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92920" y="5902200"/>
            <a:ext cx="304920" cy="492120"/>
          </a:xfrm>
          <a:custGeom>
            <a:avLst/>
            <a:gdLst/>
            <a:ahLst/>
            <a:rect l="l" t="t" r="r" b="b"/>
            <a:pathLst>
              <a:path w="845" h="1365">
                <a:moveTo>
                  <a:pt x="19149" y="16694"/>
                </a:moveTo>
                <a:cubicBezTo>
                  <a:pt x="19188" y="16694"/>
                  <a:pt x="19394" y="16681"/>
                  <a:pt x="19372" y="16718"/>
                </a:cubicBezTo>
                <a:cubicBezTo>
                  <a:pt x="19326" y="16765"/>
                  <a:pt x="19314" y="16779"/>
                  <a:pt x="19273" y="16793"/>
                </a:cubicBezTo>
                <a:cubicBezTo>
                  <a:pt x="19377" y="16793"/>
                  <a:pt x="19436" y="16796"/>
                  <a:pt x="19521" y="16842"/>
                </a:cubicBezTo>
                <a:cubicBezTo>
                  <a:pt x="19493" y="16870"/>
                  <a:pt x="19167" y="17129"/>
                  <a:pt x="19149" y="16942"/>
                </a:cubicBezTo>
                <a:cubicBezTo>
                  <a:pt x="19166" y="16901"/>
                  <a:pt x="19182" y="16859"/>
                  <a:pt x="19199" y="16818"/>
                </a:cubicBezTo>
              </a:path>
              <a:path w="845" h="1365">
                <a:moveTo>
                  <a:pt x="19720" y="16644"/>
                </a:moveTo>
                <a:cubicBezTo>
                  <a:pt x="19680" y="16782"/>
                  <a:pt x="19583" y="17059"/>
                  <a:pt x="19844" y="16966"/>
                </a:cubicBezTo>
                <a:cubicBezTo>
                  <a:pt x="19963" y="16895"/>
                  <a:pt x="20003" y="16876"/>
                  <a:pt x="19993" y="16768"/>
                </a:cubicBezTo>
                <a:cubicBezTo>
                  <a:pt x="19867" y="16679"/>
                  <a:pt x="19850" y="16676"/>
                  <a:pt x="19695" y="16694"/>
                </a:cubicBezTo>
              </a:path>
              <a:path w="845" h="1365">
                <a:moveTo>
                  <a:pt x="19273" y="16446"/>
                </a:moveTo>
                <a:cubicBezTo>
                  <a:pt x="19252" y="16508"/>
                  <a:pt x="19248" y="16551"/>
                  <a:pt x="19248" y="16619"/>
                </a:cubicBezTo>
                <a:cubicBezTo>
                  <a:pt x="19397" y="16592"/>
                  <a:pt x="19563" y="16516"/>
                  <a:pt x="19720" y="16520"/>
                </a:cubicBezTo>
                <a:cubicBezTo>
                  <a:pt x="19777" y="16539"/>
                  <a:pt x="19784" y="16548"/>
                  <a:pt x="19819" y="16545"/>
                </a:cubicBezTo>
                <a:cubicBezTo>
                  <a:pt x="19791" y="16443"/>
                  <a:pt x="19772" y="16456"/>
                  <a:pt x="19844" y="16396"/>
                </a:cubicBezTo>
              </a:path>
              <a:path w="845" h="1365">
                <a:moveTo>
                  <a:pt x="19224" y="17462"/>
                </a:moveTo>
                <a:cubicBezTo>
                  <a:pt x="19271" y="17443"/>
                  <a:pt x="19296" y="17426"/>
                  <a:pt x="19348" y="17413"/>
                </a:cubicBezTo>
                <a:cubicBezTo>
                  <a:pt x="19353" y="17465"/>
                  <a:pt x="19296" y="17582"/>
                  <a:pt x="19323" y="17587"/>
                </a:cubicBezTo>
                <a:cubicBezTo>
                  <a:pt x="19374" y="17587"/>
                  <a:pt x="19392" y="17588"/>
                  <a:pt x="19422" y="17611"/>
                </a:cubicBezTo>
                <a:cubicBezTo>
                  <a:pt x="19414" y="17629"/>
                  <a:pt x="19272" y="17833"/>
                  <a:pt x="19224" y="17760"/>
                </a:cubicBezTo>
                <a:cubicBezTo>
                  <a:pt x="19224" y="17744"/>
                  <a:pt x="19224" y="17727"/>
                  <a:pt x="19224" y="177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48680" y="5946840"/>
            <a:ext cx="287280" cy="125280"/>
          </a:xfrm>
          <a:custGeom>
            <a:avLst/>
            <a:gdLst/>
            <a:ahLst/>
            <a:rect l="l" t="t" r="r" b="b"/>
            <a:pathLst>
              <a:path w="795" h="348">
                <a:moveTo>
                  <a:pt x="20414" y="16594"/>
                </a:moveTo>
                <a:cubicBezTo>
                  <a:pt x="20453" y="16683"/>
                  <a:pt x="20495" y="16773"/>
                  <a:pt x="20513" y="16867"/>
                </a:cubicBezTo>
              </a:path>
              <a:path w="795" h="348">
                <a:moveTo>
                  <a:pt x="20886" y="16570"/>
                </a:moveTo>
                <a:cubicBezTo>
                  <a:pt x="20866" y="16708"/>
                  <a:pt x="20917" y="16648"/>
                  <a:pt x="21034" y="16718"/>
                </a:cubicBezTo>
                <a:cubicBezTo>
                  <a:pt x="21093" y="16753"/>
                  <a:pt x="21084" y="16768"/>
                  <a:pt x="21084" y="16818"/>
                </a:cubicBezTo>
                <a:cubicBezTo>
                  <a:pt x="20975" y="16872"/>
                  <a:pt x="20932" y="16883"/>
                  <a:pt x="20861" y="16793"/>
                </a:cubicBezTo>
              </a:path>
              <a:path w="795" h="348">
                <a:moveTo>
                  <a:pt x="20985" y="16520"/>
                </a:moveTo>
                <a:cubicBezTo>
                  <a:pt x="21101" y="16520"/>
                  <a:pt x="21134" y="16520"/>
                  <a:pt x="21208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5697360"/>
            <a:ext cx="277560" cy="249480"/>
          </a:xfrm>
          <a:custGeom>
            <a:avLst/>
            <a:gdLst/>
            <a:ahLst/>
            <a:rect l="l" t="t" r="r" b="b"/>
            <a:pathLst>
              <a:path w="770" h="696">
                <a:moveTo>
                  <a:pt x="22399" y="15825"/>
                </a:moveTo>
                <a:cubicBezTo>
                  <a:pt x="22309" y="15870"/>
                  <a:pt x="22279" y="15876"/>
                  <a:pt x="22275" y="15949"/>
                </a:cubicBezTo>
                <a:cubicBezTo>
                  <a:pt x="22374" y="16002"/>
                  <a:pt x="22473" y="16045"/>
                  <a:pt x="22572" y="16098"/>
                </a:cubicBezTo>
                <a:cubicBezTo>
                  <a:pt x="22417" y="16098"/>
                  <a:pt x="22320" y="16076"/>
                  <a:pt x="22151" y="16049"/>
                </a:cubicBezTo>
              </a:path>
              <a:path w="770" h="696">
                <a:moveTo>
                  <a:pt x="21803" y="16520"/>
                </a:moveTo>
                <a:cubicBezTo>
                  <a:pt x="21894" y="16520"/>
                  <a:pt x="21902" y="16520"/>
                  <a:pt x="21952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80200" y="6242040"/>
            <a:ext cx="222480" cy="152280"/>
          </a:xfrm>
          <a:custGeom>
            <a:avLst/>
            <a:gdLst/>
            <a:ahLst/>
            <a:rect l="l" t="t" r="r" b="b"/>
            <a:pathLst>
              <a:path w="621" h="423">
                <a:moveTo>
                  <a:pt x="19943" y="17363"/>
                </a:moveTo>
                <a:cubicBezTo>
                  <a:pt x="19991" y="17363"/>
                  <a:pt x="20143" y="17333"/>
                  <a:pt x="20141" y="17388"/>
                </a:cubicBezTo>
                <a:cubicBezTo>
                  <a:pt x="20116" y="17490"/>
                  <a:pt x="20105" y="17525"/>
                  <a:pt x="20017" y="17537"/>
                </a:cubicBezTo>
                <a:cubicBezTo>
                  <a:pt x="20074" y="17537"/>
                  <a:pt x="20201" y="17558"/>
                  <a:pt x="20191" y="17636"/>
                </a:cubicBezTo>
                <a:cubicBezTo>
                  <a:pt x="20169" y="17803"/>
                  <a:pt x="19983" y="17775"/>
                  <a:pt x="19943" y="17686"/>
                </a:cubicBezTo>
              </a:path>
              <a:path w="621" h="423">
                <a:moveTo>
                  <a:pt x="20389" y="17338"/>
                </a:moveTo>
                <a:cubicBezTo>
                  <a:pt x="20344" y="17446"/>
                  <a:pt x="20310" y="17524"/>
                  <a:pt x="20290" y="17636"/>
                </a:cubicBezTo>
                <a:cubicBezTo>
                  <a:pt x="20377" y="17676"/>
                  <a:pt x="20585" y="17697"/>
                  <a:pt x="20563" y="17512"/>
                </a:cubicBezTo>
                <a:cubicBezTo>
                  <a:pt x="20545" y="17365"/>
                  <a:pt x="20418" y="17395"/>
                  <a:pt x="20315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43920" y="6161040"/>
            <a:ext cx="115920" cy="12564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22820" y="17115"/>
                </a:moveTo>
                <a:cubicBezTo>
                  <a:pt x="22785" y="17133"/>
                  <a:pt x="22755" y="17176"/>
                  <a:pt x="22721" y="17214"/>
                </a:cubicBezTo>
                <a:cubicBezTo>
                  <a:pt x="22765" y="17288"/>
                  <a:pt x="22860" y="17321"/>
                  <a:pt x="22944" y="17363"/>
                </a:cubicBezTo>
                <a:cubicBezTo>
                  <a:pt x="22884" y="17517"/>
                  <a:pt x="22745" y="17440"/>
                  <a:pt x="22622" y="17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5688000"/>
            <a:ext cx="1946520" cy="500040"/>
          </a:xfrm>
          <a:custGeom>
            <a:avLst/>
            <a:gdLst/>
            <a:ahLst/>
            <a:rect l="l" t="t" r="r" b="b"/>
            <a:pathLst>
              <a:path w="5408" h="1390">
                <a:moveTo>
                  <a:pt x="13146" y="15900"/>
                </a:moveTo>
                <a:cubicBezTo>
                  <a:pt x="13462" y="15900"/>
                  <a:pt x="13774" y="15878"/>
                  <a:pt x="14089" y="15875"/>
                </a:cubicBezTo>
                <a:cubicBezTo>
                  <a:pt x="14487" y="15871"/>
                  <a:pt x="14882" y="15829"/>
                  <a:pt x="15280" y="15825"/>
                </a:cubicBezTo>
                <a:cubicBezTo>
                  <a:pt x="15636" y="15821"/>
                  <a:pt x="15989" y="15801"/>
                  <a:pt x="16346" y="15801"/>
                </a:cubicBezTo>
                <a:cubicBezTo>
                  <a:pt x="16786" y="15801"/>
                  <a:pt x="17222" y="15809"/>
                  <a:pt x="17661" y="15825"/>
                </a:cubicBezTo>
                <a:cubicBezTo>
                  <a:pt x="17798" y="15830"/>
                  <a:pt x="17866" y="15847"/>
                  <a:pt x="17983" y="15875"/>
                </a:cubicBezTo>
              </a:path>
              <a:path w="5408" h="1390">
                <a:moveTo>
                  <a:pt x="13122" y="17016"/>
                </a:moveTo>
                <a:cubicBezTo>
                  <a:pt x="13156" y="17027"/>
                  <a:pt x="13276" y="17055"/>
                  <a:pt x="13345" y="17066"/>
                </a:cubicBezTo>
                <a:cubicBezTo>
                  <a:pt x="13547" y="17099"/>
                  <a:pt x="13760" y="17111"/>
                  <a:pt x="13965" y="17115"/>
                </a:cubicBezTo>
                <a:cubicBezTo>
                  <a:pt x="14157" y="17119"/>
                  <a:pt x="14342" y="17140"/>
                  <a:pt x="14536" y="17140"/>
                </a:cubicBezTo>
                <a:cubicBezTo>
                  <a:pt x="14713" y="17140"/>
                  <a:pt x="14880" y="17179"/>
                  <a:pt x="15056" y="17190"/>
                </a:cubicBezTo>
                <a:cubicBezTo>
                  <a:pt x="15249" y="17202"/>
                  <a:pt x="15437" y="17175"/>
                  <a:pt x="15627" y="17165"/>
                </a:cubicBezTo>
                <a:cubicBezTo>
                  <a:pt x="15826" y="17154"/>
                  <a:pt x="16024" y="17126"/>
                  <a:pt x="16222" y="17115"/>
                </a:cubicBezTo>
                <a:cubicBezTo>
                  <a:pt x="16404" y="17105"/>
                  <a:pt x="16586" y="17104"/>
                  <a:pt x="16768" y="17090"/>
                </a:cubicBezTo>
                <a:cubicBezTo>
                  <a:pt x="17017" y="17071"/>
                  <a:pt x="17263" y="17029"/>
                  <a:pt x="17512" y="17016"/>
                </a:cubicBezTo>
                <a:cubicBezTo>
                  <a:pt x="17739" y="17004"/>
                  <a:pt x="17959" y="17024"/>
                  <a:pt x="18182" y="17041"/>
                </a:cubicBezTo>
                <a:cubicBezTo>
                  <a:pt x="18302" y="17050"/>
                  <a:pt x="18416" y="17068"/>
                  <a:pt x="18529" y="170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97320" y="5170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436" y="14362"/>
                </a:moveTo>
                <a:lnTo>
                  <a:pt x="14436" y="1436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95920" y="5330880"/>
            <a:ext cx="160200" cy="277920"/>
          </a:xfrm>
          <a:custGeom>
            <a:avLst/>
            <a:gdLst/>
            <a:ahLst/>
            <a:rect l="l" t="t" r="r" b="b"/>
            <a:pathLst>
              <a:path w="448" h="770">
                <a:moveTo>
                  <a:pt x="13717" y="14808"/>
                </a:moveTo>
                <a:cubicBezTo>
                  <a:pt x="13805" y="14808"/>
                  <a:pt x="13606" y="14870"/>
                  <a:pt x="13519" y="14883"/>
                </a:cubicBezTo>
                <a:cubicBezTo>
                  <a:pt x="13339" y="14910"/>
                  <a:pt x="13296" y="14870"/>
                  <a:pt x="13320" y="15106"/>
                </a:cubicBezTo>
                <a:cubicBezTo>
                  <a:pt x="13341" y="15190"/>
                  <a:pt x="13343" y="15209"/>
                  <a:pt x="13370" y="15255"/>
                </a:cubicBezTo>
                <a:cubicBezTo>
                  <a:pt x="13370" y="15263"/>
                  <a:pt x="13370" y="15272"/>
                  <a:pt x="13370" y="15280"/>
                </a:cubicBezTo>
                <a:cubicBezTo>
                  <a:pt x="13432" y="15249"/>
                  <a:pt x="13550" y="15069"/>
                  <a:pt x="13643" y="15106"/>
                </a:cubicBezTo>
                <a:cubicBezTo>
                  <a:pt x="13905" y="15210"/>
                  <a:pt x="13715" y="15513"/>
                  <a:pt x="13543" y="15577"/>
                </a:cubicBezTo>
                <a:cubicBezTo>
                  <a:pt x="13483" y="15599"/>
                  <a:pt x="13393" y="15586"/>
                  <a:pt x="13370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97280" y="5823000"/>
            <a:ext cx="366840" cy="650880"/>
          </a:xfrm>
          <a:custGeom>
            <a:avLst/>
            <a:gdLst/>
            <a:ahLst/>
            <a:rect l="l" t="t" r="r" b="b"/>
            <a:pathLst>
              <a:path w="1018" h="1811">
                <a:moveTo>
                  <a:pt x="13122" y="16222"/>
                </a:moveTo>
                <a:cubicBezTo>
                  <a:pt x="13072" y="16272"/>
                  <a:pt x="13101" y="16592"/>
                  <a:pt x="13097" y="16694"/>
                </a:cubicBezTo>
                <a:cubicBezTo>
                  <a:pt x="13095" y="16735"/>
                  <a:pt x="13097" y="16809"/>
                  <a:pt x="13097" y="16768"/>
                </a:cubicBezTo>
              </a:path>
              <a:path w="1018" h="1811">
                <a:moveTo>
                  <a:pt x="13593" y="16173"/>
                </a:moveTo>
                <a:cubicBezTo>
                  <a:pt x="13470" y="16336"/>
                  <a:pt x="13417" y="16507"/>
                  <a:pt x="13444" y="16718"/>
                </a:cubicBezTo>
                <a:cubicBezTo>
                  <a:pt x="13484" y="16758"/>
                  <a:pt x="13514" y="16766"/>
                  <a:pt x="13568" y="16743"/>
                </a:cubicBezTo>
                <a:cubicBezTo>
                  <a:pt x="13696" y="16553"/>
                  <a:pt x="13798" y="16434"/>
                  <a:pt x="13618" y="16247"/>
                </a:cubicBezTo>
                <a:cubicBezTo>
                  <a:pt x="13593" y="16230"/>
                  <a:pt x="13568" y="16214"/>
                  <a:pt x="13543" y="16197"/>
                </a:cubicBezTo>
              </a:path>
              <a:path w="1018" h="1811">
                <a:moveTo>
                  <a:pt x="13196" y="17338"/>
                </a:moveTo>
                <a:cubicBezTo>
                  <a:pt x="13217" y="17237"/>
                  <a:pt x="13326" y="17204"/>
                  <a:pt x="13419" y="17264"/>
                </a:cubicBezTo>
                <a:cubicBezTo>
                  <a:pt x="13592" y="17376"/>
                  <a:pt x="13368" y="17560"/>
                  <a:pt x="13295" y="17636"/>
                </a:cubicBezTo>
                <a:cubicBezTo>
                  <a:pt x="13279" y="17653"/>
                  <a:pt x="13262" y="17669"/>
                  <a:pt x="13246" y="17686"/>
                </a:cubicBezTo>
                <a:cubicBezTo>
                  <a:pt x="13321" y="17534"/>
                  <a:pt x="13370" y="17602"/>
                  <a:pt x="13469" y="17711"/>
                </a:cubicBezTo>
                <a:cubicBezTo>
                  <a:pt x="13397" y="17875"/>
                  <a:pt x="13304" y="17997"/>
                  <a:pt x="13097" y="17983"/>
                </a:cubicBezTo>
                <a:cubicBezTo>
                  <a:pt x="13037" y="17954"/>
                  <a:pt x="13026" y="17936"/>
                  <a:pt x="13097" y="17884"/>
                </a:cubicBezTo>
              </a:path>
              <a:path w="1018" h="1811">
                <a:moveTo>
                  <a:pt x="13767" y="17537"/>
                </a:moveTo>
                <a:cubicBezTo>
                  <a:pt x="13774" y="17727"/>
                  <a:pt x="13763" y="17765"/>
                  <a:pt x="13866" y="17909"/>
                </a:cubicBezTo>
                <a:cubicBezTo>
                  <a:pt x="14064" y="17859"/>
                  <a:pt x="14160" y="17712"/>
                  <a:pt x="13990" y="17512"/>
                </a:cubicBezTo>
                <a:cubicBezTo>
                  <a:pt x="13937" y="17449"/>
                  <a:pt x="13792" y="17436"/>
                  <a:pt x="13717" y="17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99080" y="6286680"/>
            <a:ext cx="411120" cy="285480"/>
          </a:xfrm>
          <a:custGeom>
            <a:avLst/>
            <a:gdLst/>
            <a:ahLst/>
            <a:rect l="l" t="t" r="r" b="b"/>
            <a:pathLst>
              <a:path w="1142" h="795">
                <a:moveTo>
                  <a:pt x="16024" y="17810"/>
                </a:moveTo>
                <a:cubicBezTo>
                  <a:pt x="16024" y="17708"/>
                  <a:pt x="15975" y="17601"/>
                  <a:pt x="15850" y="17611"/>
                </a:cubicBezTo>
                <a:cubicBezTo>
                  <a:pt x="15614" y="17629"/>
                  <a:pt x="15553" y="17821"/>
                  <a:pt x="15577" y="18008"/>
                </a:cubicBezTo>
                <a:cubicBezTo>
                  <a:pt x="15787" y="17921"/>
                  <a:pt x="15859" y="17866"/>
                  <a:pt x="15999" y="17686"/>
                </a:cubicBezTo>
                <a:cubicBezTo>
                  <a:pt x="15999" y="17790"/>
                  <a:pt x="15947" y="18230"/>
                  <a:pt x="16024" y="18256"/>
                </a:cubicBezTo>
              </a:path>
              <a:path w="1142" h="795">
                <a:moveTo>
                  <a:pt x="16520" y="17462"/>
                </a:moveTo>
                <a:cubicBezTo>
                  <a:pt x="16442" y="17499"/>
                  <a:pt x="16276" y="17564"/>
                  <a:pt x="16247" y="17636"/>
                </a:cubicBezTo>
                <a:cubicBezTo>
                  <a:pt x="16218" y="17710"/>
                  <a:pt x="16257" y="17789"/>
                  <a:pt x="16272" y="17859"/>
                </a:cubicBezTo>
                <a:cubicBezTo>
                  <a:pt x="16398" y="17814"/>
                  <a:pt x="16597" y="17715"/>
                  <a:pt x="16694" y="17884"/>
                </a:cubicBezTo>
                <a:cubicBezTo>
                  <a:pt x="16797" y="18064"/>
                  <a:pt x="16513" y="18165"/>
                  <a:pt x="16396" y="18157"/>
                </a:cubicBezTo>
                <a:cubicBezTo>
                  <a:pt x="16379" y="18149"/>
                  <a:pt x="16363" y="18140"/>
                  <a:pt x="16346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fbeec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understand and write a rule for a function table.</a:t>
            </a:r>
            <a:r>
              <a:rPr b="1" lang="en-US" sz="2600" spc="-1" strike="noStrike">
                <a:solidFill>
                  <a:srgbClr val="fbeecd"/>
                </a:solidFill>
                <a:latin typeface="Arial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fbeecd"/>
                </a:solidFill>
                <a:latin typeface="Arial"/>
              </a:rPr>
              <a:t>Skill Practice: 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Use the rules below to accurately complete each function table.</a:t>
            </a:r>
            <a:br>
              <a:rPr sz="2600"/>
            </a:br>
            <a:endParaRPr b="0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85800" y="1828800"/>
          <a:ext cx="2133720" cy="2727360"/>
        </p:xfrm>
        <a:graphic>
          <a:graphicData uri="http://schemas.openxmlformats.org/drawingml/2006/table">
            <a:tbl>
              <a:tblPr/>
              <a:tblGrid>
                <a:gridCol w="961920"/>
                <a:gridCol w="117180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le: (IN + 8) x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657600" y="2286000"/>
          <a:ext cx="2057400" cy="2733840"/>
        </p:xfrm>
        <a:graphic>
          <a:graphicData uri="http://schemas.openxmlformats.org/drawingml/2006/table">
            <a:tbl>
              <a:tblPr/>
              <a:tblGrid>
                <a:gridCol w="992160"/>
                <a:gridCol w="106524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= 2c -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6553080" y="1828800"/>
          <a:ext cx="1904760" cy="2822400"/>
        </p:xfrm>
        <a:graphic>
          <a:graphicData uri="http://schemas.openxmlformats.org/drawingml/2006/table">
            <a:tbl>
              <a:tblPr/>
              <a:tblGrid>
                <a:gridCol w="919080"/>
                <a:gridCol w="9856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8 + x 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3946680" y="2232000"/>
            <a:ext cx="1608120" cy="563760"/>
          </a:xfrm>
          <a:custGeom>
            <a:avLst/>
            <a:gdLst/>
            <a:ahLst/>
            <a:rect l="l" t="t" r="r" b="b"/>
            <a:pathLst>
              <a:path w="4466" h="1564">
                <a:moveTo>
                  <a:pt x="14784" y="6548"/>
                </a:moveTo>
                <a:cubicBezTo>
                  <a:pt x="14755" y="6527"/>
                  <a:pt x="14839" y="6555"/>
                  <a:pt x="14734" y="6499"/>
                </a:cubicBezTo>
                <a:cubicBezTo>
                  <a:pt x="14637" y="6448"/>
                  <a:pt x="14564" y="6428"/>
                  <a:pt x="14461" y="6400"/>
                </a:cubicBezTo>
                <a:cubicBezTo>
                  <a:pt x="14337" y="6367"/>
                  <a:pt x="14215" y="6327"/>
                  <a:pt x="14089" y="6300"/>
                </a:cubicBezTo>
                <a:cubicBezTo>
                  <a:pt x="13952" y="6270"/>
                  <a:pt x="13804" y="6238"/>
                  <a:pt x="13667" y="6226"/>
                </a:cubicBezTo>
                <a:cubicBezTo>
                  <a:pt x="13535" y="6214"/>
                  <a:pt x="13403" y="6204"/>
                  <a:pt x="13271" y="6201"/>
                </a:cubicBezTo>
                <a:cubicBezTo>
                  <a:pt x="13060" y="6196"/>
                  <a:pt x="12835" y="6246"/>
                  <a:pt x="12626" y="6276"/>
                </a:cubicBezTo>
                <a:cubicBezTo>
                  <a:pt x="12447" y="6302"/>
                  <a:pt x="12277" y="6349"/>
                  <a:pt x="12105" y="6400"/>
                </a:cubicBezTo>
                <a:cubicBezTo>
                  <a:pt x="11909" y="6458"/>
                  <a:pt x="11742" y="6563"/>
                  <a:pt x="11559" y="6648"/>
                </a:cubicBezTo>
                <a:cubicBezTo>
                  <a:pt x="11404" y="6720"/>
                  <a:pt x="11286" y="6825"/>
                  <a:pt x="11162" y="6945"/>
                </a:cubicBezTo>
                <a:cubicBezTo>
                  <a:pt x="11105" y="7000"/>
                  <a:pt x="11015" y="7092"/>
                  <a:pt x="10988" y="7169"/>
                </a:cubicBezTo>
                <a:cubicBezTo>
                  <a:pt x="10959" y="7252"/>
                  <a:pt x="10952" y="7319"/>
                  <a:pt x="10988" y="7392"/>
                </a:cubicBezTo>
                <a:cubicBezTo>
                  <a:pt x="11034" y="7484"/>
                  <a:pt x="11166" y="7622"/>
                  <a:pt x="11261" y="7665"/>
                </a:cubicBezTo>
                <a:cubicBezTo>
                  <a:pt x="11448" y="7749"/>
                  <a:pt x="11704" y="7775"/>
                  <a:pt x="11906" y="7764"/>
                </a:cubicBezTo>
                <a:cubicBezTo>
                  <a:pt x="12118" y="7752"/>
                  <a:pt x="12341" y="7740"/>
                  <a:pt x="12551" y="7714"/>
                </a:cubicBezTo>
                <a:cubicBezTo>
                  <a:pt x="12763" y="7688"/>
                  <a:pt x="12982" y="7670"/>
                  <a:pt x="13196" y="7665"/>
                </a:cubicBezTo>
                <a:cubicBezTo>
                  <a:pt x="13413" y="7660"/>
                  <a:pt x="13625" y="7654"/>
                  <a:pt x="13841" y="7640"/>
                </a:cubicBezTo>
                <a:cubicBezTo>
                  <a:pt x="14015" y="7629"/>
                  <a:pt x="14190" y="7627"/>
                  <a:pt x="14362" y="7615"/>
                </a:cubicBezTo>
                <a:cubicBezTo>
                  <a:pt x="14524" y="7604"/>
                  <a:pt x="14701" y="7587"/>
                  <a:pt x="14858" y="7541"/>
                </a:cubicBezTo>
                <a:cubicBezTo>
                  <a:pt x="15020" y="7494"/>
                  <a:pt x="15202" y="7426"/>
                  <a:pt x="15304" y="7293"/>
                </a:cubicBezTo>
                <a:cubicBezTo>
                  <a:pt x="15384" y="7188"/>
                  <a:pt x="15415" y="6975"/>
                  <a:pt x="15429" y="6846"/>
                </a:cubicBezTo>
                <a:cubicBezTo>
                  <a:pt x="15441" y="6739"/>
                  <a:pt x="15437" y="6658"/>
                  <a:pt x="15379" y="6573"/>
                </a:cubicBezTo>
                <a:cubicBezTo>
                  <a:pt x="15318" y="6484"/>
                  <a:pt x="15243" y="6413"/>
                  <a:pt x="15156" y="6350"/>
                </a:cubicBezTo>
                <a:cubicBezTo>
                  <a:pt x="15044" y="6269"/>
                  <a:pt x="14967" y="6261"/>
                  <a:pt x="14833" y="6251"/>
                </a:cubicBezTo>
                <a:cubicBezTo>
                  <a:pt x="14650" y="6238"/>
                  <a:pt x="14470" y="6272"/>
                  <a:pt x="14288" y="6276"/>
                </a:cubicBezTo>
                <a:cubicBezTo>
                  <a:pt x="14213" y="6278"/>
                  <a:pt x="14139" y="6276"/>
                  <a:pt x="14064" y="62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26160" y="1776240"/>
            <a:ext cx="1741680" cy="635040"/>
          </a:xfrm>
          <a:custGeom>
            <a:avLst/>
            <a:gdLst/>
            <a:ahLst/>
            <a:rect l="l" t="t" r="r" b="b"/>
            <a:pathLst>
              <a:path w="4838" h="1762">
                <a:moveTo>
                  <a:pt x="18901" y="6400"/>
                </a:moveTo>
                <a:cubicBezTo>
                  <a:pt x="19002" y="6383"/>
                  <a:pt x="19046" y="6375"/>
                  <a:pt x="19149" y="6375"/>
                </a:cubicBezTo>
                <a:cubicBezTo>
                  <a:pt x="19399" y="6375"/>
                  <a:pt x="19644" y="6355"/>
                  <a:pt x="19893" y="6350"/>
                </a:cubicBezTo>
                <a:cubicBezTo>
                  <a:pt x="20061" y="6347"/>
                  <a:pt x="20222" y="6329"/>
                  <a:pt x="20389" y="6325"/>
                </a:cubicBezTo>
                <a:cubicBezTo>
                  <a:pt x="20566" y="6321"/>
                  <a:pt x="20737" y="6338"/>
                  <a:pt x="20910" y="6350"/>
                </a:cubicBezTo>
                <a:cubicBezTo>
                  <a:pt x="21208" y="6371"/>
                  <a:pt x="21508" y="6342"/>
                  <a:pt x="21803" y="6325"/>
                </a:cubicBezTo>
                <a:cubicBezTo>
                  <a:pt x="22037" y="6311"/>
                  <a:pt x="22266" y="6338"/>
                  <a:pt x="22498" y="6300"/>
                </a:cubicBezTo>
                <a:cubicBezTo>
                  <a:pt x="22740" y="6260"/>
                  <a:pt x="22887" y="6183"/>
                  <a:pt x="23044" y="6003"/>
                </a:cubicBezTo>
                <a:cubicBezTo>
                  <a:pt x="23155" y="5876"/>
                  <a:pt x="23173" y="5815"/>
                  <a:pt x="23217" y="5655"/>
                </a:cubicBezTo>
                <a:cubicBezTo>
                  <a:pt x="23257" y="5509"/>
                  <a:pt x="23225" y="5552"/>
                  <a:pt x="23217" y="5407"/>
                </a:cubicBezTo>
                <a:cubicBezTo>
                  <a:pt x="23209" y="5248"/>
                  <a:pt x="23225" y="5231"/>
                  <a:pt x="23118" y="5110"/>
                </a:cubicBezTo>
                <a:cubicBezTo>
                  <a:pt x="22980" y="4954"/>
                  <a:pt x="22826" y="4924"/>
                  <a:pt x="22622" y="4936"/>
                </a:cubicBezTo>
                <a:cubicBezTo>
                  <a:pt x="22208" y="4960"/>
                  <a:pt x="21796" y="4968"/>
                  <a:pt x="21382" y="5011"/>
                </a:cubicBezTo>
                <a:cubicBezTo>
                  <a:pt x="21059" y="5044"/>
                  <a:pt x="20736" y="5037"/>
                  <a:pt x="20414" y="5085"/>
                </a:cubicBezTo>
                <a:cubicBezTo>
                  <a:pt x="20106" y="5131"/>
                  <a:pt x="19804" y="5212"/>
                  <a:pt x="19496" y="5259"/>
                </a:cubicBezTo>
                <a:cubicBezTo>
                  <a:pt x="19307" y="5288"/>
                  <a:pt x="19106" y="5320"/>
                  <a:pt x="18926" y="5383"/>
                </a:cubicBezTo>
                <a:cubicBezTo>
                  <a:pt x="18688" y="5466"/>
                  <a:pt x="18566" y="5621"/>
                  <a:pt x="18479" y="5854"/>
                </a:cubicBezTo>
                <a:cubicBezTo>
                  <a:pt x="18435" y="5973"/>
                  <a:pt x="18344" y="6269"/>
                  <a:pt x="18405" y="6400"/>
                </a:cubicBezTo>
                <a:cubicBezTo>
                  <a:pt x="18512" y="6629"/>
                  <a:pt x="18948" y="6648"/>
                  <a:pt x="19149" y="6672"/>
                </a:cubicBezTo>
                <a:cubicBezTo>
                  <a:pt x="19439" y="6694"/>
                  <a:pt x="19514" y="6706"/>
                  <a:pt x="19695" y="6672"/>
                </a:cubicBezTo>
              </a:path>
              <a:path w="4838" h="1762">
                <a:moveTo>
                  <a:pt x="19645" y="6672"/>
                </a:moveTo>
                <a:cubicBezTo>
                  <a:pt x="19660" y="6668"/>
                  <a:pt x="19637" y="6663"/>
                  <a:pt x="19819" y="6672"/>
                </a:cubicBezTo>
                <a:cubicBezTo>
                  <a:pt x="20227" y="6692"/>
                  <a:pt x="20626" y="6701"/>
                  <a:pt x="21034" y="6672"/>
                </a:cubicBezTo>
                <a:cubicBezTo>
                  <a:pt x="21299" y="6653"/>
                  <a:pt x="21563" y="6604"/>
                  <a:pt x="21828" y="6598"/>
                </a:cubicBezTo>
                <a:cubicBezTo>
                  <a:pt x="21926" y="6596"/>
                  <a:pt x="22001" y="6623"/>
                  <a:pt x="22101" y="6623"/>
                </a:cubicBezTo>
                <a:cubicBezTo>
                  <a:pt x="22206" y="6623"/>
                  <a:pt x="22321" y="6618"/>
                  <a:pt x="22423" y="6598"/>
                </a:cubicBezTo>
                <a:cubicBezTo>
                  <a:pt x="22479" y="6587"/>
                  <a:pt x="22527" y="6566"/>
                  <a:pt x="22572" y="6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19760" y="2724120"/>
            <a:ext cx="63360" cy="7920"/>
          </a:xfrm>
          <a:custGeom>
            <a:avLst/>
            <a:gdLst/>
            <a:ahLst/>
            <a:rect l="l" t="t" r="r" b="b"/>
            <a:pathLst>
              <a:path w="175" h="26">
                <a:moveTo>
                  <a:pt x="13667" y="7565"/>
                </a:moveTo>
                <a:cubicBezTo>
                  <a:pt x="13725" y="7573"/>
                  <a:pt x="13783" y="7582"/>
                  <a:pt x="13841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76840" y="2768760"/>
            <a:ext cx="3430440" cy="2170080"/>
          </a:xfrm>
          <a:custGeom>
            <a:avLst/>
            <a:gdLst/>
            <a:ahLst/>
            <a:rect l="l" t="t" r="r" b="b"/>
            <a:pathLst>
              <a:path w="9526" h="6029">
                <a:moveTo>
                  <a:pt x="13767" y="11534"/>
                </a:moveTo>
                <a:cubicBezTo>
                  <a:pt x="13712" y="11644"/>
                  <a:pt x="13664" y="11771"/>
                  <a:pt x="13692" y="11881"/>
                </a:cubicBezTo>
              </a:path>
              <a:path w="9526" h="6029">
                <a:moveTo>
                  <a:pt x="14312" y="11658"/>
                </a:moveTo>
                <a:cubicBezTo>
                  <a:pt x="14397" y="11630"/>
                  <a:pt x="14431" y="11617"/>
                  <a:pt x="14486" y="11584"/>
                </a:cubicBezTo>
              </a:path>
              <a:path w="9526" h="6029">
                <a:moveTo>
                  <a:pt x="13469" y="12750"/>
                </a:moveTo>
                <a:cubicBezTo>
                  <a:pt x="13391" y="12749"/>
                  <a:pt x="13256" y="12898"/>
                  <a:pt x="13271" y="13022"/>
                </a:cubicBezTo>
                <a:cubicBezTo>
                  <a:pt x="13318" y="13094"/>
                  <a:pt x="13331" y="13118"/>
                  <a:pt x="13395" y="13122"/>
                </a:cubicBezTo>
              </a:path>
              <a:path w="9526" h="6029">
                <a:moveTo>
                  <a:pt x="14387" y="12948"/>
                </a:moveTo>
                <a:cubicBezTo>
                  <a:pt x="14461" y="12923"/>
                  <a:pt x="14486" y="12914"/>
                  <a:pt x="14536" y="12898"/>
                </a:cubicBezTo>
              </a:path>
              <a:path w="9526" h="6029">
                <a:moveTo>
                  <a:pt x="14039" y="13494"/>
                </a:moveTo>
                <a:cubicBezTo>
                  <a:pt x="14019" y="13619"/>
                  <a:pt x="14003" y="13645"/>
                  <a:pt x="14039" y="13717"/>
                </a:cubicBezTo>
                <a:cubicBezTo>
                  <a:pt x="14159" y="13702"/>
                  <a:pt x="14377" y="13653"/>
                  <a:pt x="14263" y="13469"/>
                </a:cubicBezTo>
                <a:cubicBezTo>
                  <a:pt x="14238" y="13452"/>
                  <a:pt x="14213" y="13436"/>
                  <a:pt x="14188" y="13419"/>
                </a:cubicBezTo>
              </a:path>
              <a:path w="9526" h="6029">
                <a:moveTo>
                  <a:pt x="15106" y="13519"/>
                </a:moveTo>
                <a:cubicBezTo>
                  <a:pt x="15191" y="13490"/>
                  <a:pt x="15225" y="13477"/>
                  <a:pt x="15280" y="13444"/>
                </a:cubicBezTo>
              </a:path>
              <a:path w="9526" h="6029">
                <a:moveTo>
                  <a:pt x="15280" y="13444"/>
                </a:moveTo>
                <a:lnTo>
                  <a:pt x="15280" y="13444"/>
                </a:lnTo>
              </a:path>
              <a:path w="9526" h="6029">
                <a:moveTo>
                  <a:pt x="16346" y="12973"/>
                </a:moveTo>
                <a:cubicBezTo>
                  <a:pt x="16258" y="13137"/>
                  <a:pt x="16255" y="13325"/>
                  <a:pt x="16247" y="13519"/>
                </a:cubicBezTo>
              </a:path>
              <a:path w="9526" h="6029">
                <a:moveTo>
                  <a:pt x="21282" y="7863"/>
                </a:moveTo>
                <a:cubicBezTo>
                  <a:pt x="21306" y="7910"/>
                  <a:pt x="21314" y="7957"/>
                  <a:pt x="21332" y="8012"/>
                </a:cubicBezTo>
              </a:path>
              <a:path w="9526" h="6029">
                <a:moveTo>
                  <a:pt x="21183" y="8012"/>
                </a:moveTo>
                <a:cubicBezTo>
                  <a:pt x="21274" y="7975"/>
                  <a:pt x="21359" y="7958"/>
                  <a:pt x="21456" y="7938"/>
                </a:cubicBezTo>
              </a:path>
              <a:path w="9526" h="6029">
                <a:moveTo>
                  <a:pt x="22647" y="7689"/>
                </a:moveTo>
                <a:cubicBezTo>
                  <a:pt x="22615" y="7815"/>
                  <a:pt x="22676" y="7805"/>
                  <a:pt x="22796" y="7813"/>
                </a:cubicBezTo>
              </a:path>
              <a:path w="9526" h="6029">
                <a:moveTo>
                  <a:pt x="21878" y="8409"/>
                </a:moveTo>
                <a:cubicBezTo>
                  <a:pt x="21941" y="8400"/>
                  <a:pt x="21993" y="8383"/>
                  <a:pt x="22051" y="8359"/>
                </a:cubicBezTo>
              </a:path>
              <a:path w="9526" h="6029">
                <a:moveTo>
                  <a:pt x="21307" y="9153"/>
                </a:moveTo>
                <a:cubicBezTo>
                  <a:pt x="21326" y="9237"/>
                  <a:pt x="21348" y="9317"/>
                  <a:pt x="21357" y="9401"/>
                </a:cubicBezTo>
              </a:path>
              <a:path w="9526" h="6029">
                <a:moveTo>
                  <a:pt x="21282" y="9302"/>
                </a:moveTo>
                <a:cubicBezTo>
                  <a:pt x="21352" y="9283"/>
                  <a:pt x="21411" y="9271"/>
                  <a:pt x="21481" y="9252"/>
                </a:cubicBezTo>
              </a:path>
              <a:path w="9526" h="6029">
                <a:moveTo>
                  <a:pt x="21878" y="9922"/>
                </a:moveTo>
                <a:cubicBezTo>
                  <a:pt x="21936" y="9910"/>
                  <a:pt x="21991" y="9882"/>
                  <a:pt x="22051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0000" y="4116240"/>
            <a:ext cx="1330200" cy="884520"/>
          </a:xfrm>
          <a:custGeom>
            <a:avLst/>
            <a:gdLst/>
            <a:ahLst/>
            <a:rect l="l" t="t" r="r" b="b"/>
            <a:pathLst>
              <a:path w="3697" h="2457">
                <a:moveTo>
                  <a:pt x="13146" y="11658"/>
                </a:moveTo>
                <a:cubicBezTo>
                  <a:pt x="13138" y="11658"/>
                  <a:pt x="13130" y="11658"/>
                  <a:pt x="13122" y="11658"/>
                </a:cubicBezTo>
                <a:cubicBezTo>
                  <a:pt x="13269" y="11594"/>
                  <a:pt x="13163" y="11740"/>
                  <a:pt x="13122" y="11807"/>
                </a:cubicBezTo>
                <a:cubicBezTo>
                  <a:pt x="13105" y="11832"/>
                  <a:pt x="13089" y="11856"/>
                  <a:pt x="13072" y="11881"/>
                </a:cubicBezTo>
                <a:cubicBezTo>
                  <a:pt x="13154" y="11881"/>
                  <a:pt x="13219" y="11862"/>
                  <a:pt x="13295" y="11832"/>
                </a:cubicBezTo>
              </a:path>
              <a:path w="3697" h="2457">
                <a:moveTo>
                  <a:pt x="13519" y="11435"/>
                </a:moveTo>
                <a:cubicBezTo>
                  <a:pt x="13442" y="11588"/>
                  <a:pt x="13354" y="11729"/>
                  <a:pt x="13419" y="11906"/>
                </a:cubicBezTo>
                <a:cubicBezTo>
                  <a:pt x="13461" y="11906"/>
                  <a:pt x="13486" y="11906"/>
                  <a:pt x="13519" y="11906"/>
                </a:cubicBezTo>
              </a:path>
              <a:path w="3697" h="2457">
                <a:moveTo>
                  <a:pt x="13568" y="11584"/>
                </a:moveTo>
                <a:cubicBezTo>
                  <a:pt x="13534" y="11640"/>
                  <a:pt x="13506" y="11733"/>
                  <a:pt x="13618" y="11733"/>
                </a:cubicBezTo>
                <a:cubicBezTo>
                  <a:pt x="13718" y="11708"/>
                  <a:pt x="13752" y="11699"/>
                  <a:pt x="13791" y="11633"/>
                </a:cubicBezTo>
              </a:path>
              <a:path w="3697" h="2457">
                <a:moveTo>
                  <a:pt x="13940" y="11609"/>
                </a:moveTo>
                <a:cubicBezTo>
                  <a:pt x="13879" y="11723"/>
                  <a:pt x="13863" y="11725"/>
                  <a:pt x="13915" y="11832"/>
                </a:cubicBezTo>
                <a:cubicBezTo>
                  <a:pt x="14010" y="11775"/>
                  <a:pt x="14072" y="11713"/>
                  <a:pt x="13990" y="11609"/>
                </a:cubicBezTo>
                <a:cubicBezTo>
                  <a:pt x="13973" y="11592"/>
                  <a:pt x="13957" y="11576"/>
                  <a:pt x="13940" y="11559"/>
                </a:cubicBezTo>
              </a:path>
              <a:path w="3697" h="2457">
                <a:moveTo>
                  <a:pt x="14114" y="11559"/>
                </a:moveTo>
                <a:cubicBezTo>
                  <a:pt x="14133" y="11719"/>
                  <a:pt x="14184" y="11788"/>
                  <a:pt x="14064" y="11881"/>
                </a:cubicBezTo>
              </a:path>
              <a:path w="3697" h="2457">
                <a:moveTo>
                  <a:pt x="14486" y="11485"/>
                </a:moveTo>
                <a:cubicBezTo>
                  <a:pt x="14503" y="11542"/>
                  <a:pt x="14442" y="11704"/>
                  <a:pt x="14511" y="11757"/>
                </a:cubicBezTo>
                <a:cubicBezTo>
                  <a:pt x="14599" y="11825"/>
                  <a:pt x="14653" y="11688"/>
                  <a:pt x="14660" y="11633"/>
                </a:cubicBezTo>
                <a:cubicBezTo>
                  <a:pt x="14601" y="11662"/>
                  <a:pt x="14573" y="11701"/>
                  <a:pt x="14536" y="11757"/>
                </a:cubicBezTo>
              </a:path>
              <a:path w="3697" h="2457">
                <a:moveTo>
                  <a:pt x="13519" y="12030"/>
                </a:moveTo>
                <a:cubicBezTo>
                  <a:pt x="13452" y="12071"/>
                  <a:pt x="13383" y="12109"/>
                  <a:pt x="13320" y="12154"/>
                </a:cubicBezTo>
                <a:cubicBezTo>
                  <a:pt x="13372" y="12186"/>
                  <a:pt x="13621" y="12247"/>
                  <a:pt x="13519" y="12353"/>
                </a:cubicBezTo>
                <a:cubicBezTo>
                  <a:pt x="13486" y="12369"/>
                  <a:pt x="13452" y="12386"/>
                  <a:pt x="13419" y="12402"/>
                </a:cubicBezTo>
                <a:cubicBezTo>
                  <a:pt x="13284" y="12357"/>
                  <a:pt x="13484" y="12136"/>
                  <a:pt x="13543" y="12055"/>
                </a:cubicBezTo>
                <a:cubicBezTo>
                  <a:pt x="13560" y="12038"/>
                  <a:pt x="13576" y="12022"/>
                  <a:pt x="13593" y="12005"/>
                </a:cubicBezTo>
              </a:path>
              <a:path w="3697" h="2457">
                <a:moveTo>
                  <a:pt x="13692" y="12030"/>
                </a:moveTo>
                <a:cubicBezTo>
                  <a:pt x="13655" y="12136"/>
                  <a:pt x="13628" y="12217"/>
                  <a:pt x="13618" y="12328"/>
                </a:cubicBezTo>
                <a:cubicBezTo>
                  <a:pt x="13775" y="12338"/>
                  <a:pt x="13901" y="12311"/>
                  <a:pt x="13866" y="12105"/>
                </a:cubicBezTo>
                <a:cubicBezTo>
                  <a:pt x="13831" y="12105"/>
                  <a:pt x="13813" y="12100"/>
                  <a:pt x="13791" y="12080"/>
                </a:cubicBezTo>
              </a:path>
              <a:path w="3697" h="2457">
                <a:moveTo>
                  <a:pt x="14064" y="12229"/>
                </a:moveTo>
                <a:cubicBezTo>
                  <a:pt x="14125" y="12229"/>
                  <a:pt x="14152" y="12221"/>
                  <a:pt x="14213" y="12204"/>
                </a:cubicBezTo>
              </a:path>
              <a:path w="3697" h="2457">
                <a:moveTo>
                  <a:pt x="14362" y="12030"/>
                </a:moveTo>
                <a:cubicBezTo>
                  <a:pt x="14362" y="12139"/>
                  <a:pt x="14309" y="12247"/>
                  <a:pt x="14312" y="12353"/>
                </a:cubicBezTo>
                <a:cubicBezTo>
                  <a:pt x="14320" y="12369"/>
                  <a:pt x="14329" y="12386"/>
                  <a:pt x="14337" y="12402"/>
                </a:cubicBezTo>
                <a:cubicBezTo>
                  <a:pt x="14431" y="12347"/>
                  <a:pt x="14501" y="12308"/>
                  <a:pt x="14536" y="12204"/>
                </a:cubicBezTo>
                <a:cubicBezTo>
                  <a:pt x="14478" y="12218"/>
                  <a:pt x="14390" y="12256"/>
                  <a:pt x="14436" y="12303"/>
                </a:cubicBezTo>
              </a:path>
              <a:path w="3697" h="2457">
                <a:moveTo>
                  <a:pt x="15081" y="11906"/>
                </a:moveTo>
                <a:cubicBezTo>
                  <a:pt x="15183" y="11891"/>
                  <a:pt x="15274" y="11881"/>
                  <a:pt x="15379" y="11881"/>
                </a:cubicBezTo>
                <a:cubicBezTo>
                  <a:pt x="15379" y="11960"/>
                  <a:pt x="15333" y="12062"/>
                  <a:pt x="15304" y="12129"/>
                </a:cubicBezTo>
                <a:cubicBezTo>
                  <a:pt x="15278" y="12188"/>
                  <a:pt x="15098" y="12454"/>
                  <a:pt x="15280" y="12229"/>
                </a:cubicBezTo>
              </a:path>
              <a:path w="3697" h="2457">
                <a:moveTo>
                  <a:pt x="15453" y="11881"/>
                </a:moveTo>
                <a:cubicBezTo>
                  <a:pt x="15435" y="11950"/>
                  <a:pt x="15398" y="12025"/>
                  <a:pt x="15478" y="12055"/>
                </a:cubicBezTo>
                <a:cubicBezTo>
                  <a:pt x="15589" y="12096"/>
                  <a:pt x="15663" y="12069"/>
                  <a:pt x="15726" y="11981"/>
                </a:cubicBezTo>
              </a:path>
              <a:path w="3697" h="2457">
                <a:moveTo>
                  <a:pt x="15677" y="11733"/>
                </a:moveTo>
                <a:cubicBezTo>
                  <a:pt x="15648" y="11897"/>
                  <a:pt x="15652" y="12061"/>
                  <a:pt x="15652" y="12229"/>
                </a:cubicBezTo>
                <a:cubicBezTo>
                  <a:pt x="15652" y="12237"/>
                  <a:pt x="15652" y="12246"/>
                  <a:pt x="15652" y="12254"/>
                </a:cubicBezTo>
              </a:path>
              <a:path w="3697" h="2457">
                <a:moveTo>
                  <a:pt x="15056" y="12402"/>
                </a:moveTo>
                <a:cubicBezTo>
                  <a:pt x="15255" y="12527"/>
                  <a:pt x="15467" y="12521"/>
                  <a:pt x="15701" y="12427"/>
                </a:cubicBezTo>
                <a:cubicBezTo>
                  <a:pt x="15941" y="12330"/>
                  <a:pt x="16145" y="12106"/>
                  <a:pt x="16049" y="11832"/>
                </a:cubicBezTo>
                <a:cubicBezTo>
                  <a:pt x="15949" y="11546"/>
                  <a:pt x="15538" y="11330"/>
                  <a:pt x="15255" y="11509"/>
                </a:cubicBezTo>
                <a:cubicBezTo>
                  <a:pt x="15029" y="11652"/>
                  <a:pt x="14835" y="12161"/>
                  <a:pt x="15007" y="12402"/>
                </a:cubicBezTo>
                <a:cubicBezTo>
                  <a:pt x="15048" y="12419"/>
                  <a:pt x="15090" y="12435"/>
                  <a:pt x="15131" y="12452"/>
                </a:cubicBezTo>
              </a:path>
              <a:path w="3697" h="2457">
                <a:moveTo>
                  <a:pt x="12998" y="12898"/>
                </a:moveTo>
                <a:cubicBezTo>
                  <a:pt x="13011" y="12859"/>
                  <a:pt x="13068" y="12854"/>
                  <a:pt x="13122" y="12849"/>
                </a:cubicBezTo>
                <a:cubicBezTo>
                  <a:pt x="13130" y="12849"/>
                  <a:pt x="13138" y="12849"/>
                  <a:pt x="13146" y="12849"/>
                </a:cubicBezTo>
                <a:cubicBezTo>
                  <a:pt x="13119" y="12938"/>
                  <a:pt x="13052" y="13009"/>
                  <a:pt x="13022" y="13097"/>
                </a:cubicBezTo>
                <a:cubicBezTo>
                  <a:pt x="13098" y="13097"/>
                  <a:pt x="13199" y="13089"/>
                  <a:pt x="13271" y="13072"/>
                </a:cubicBezTo>
                <a:cubicBezTo>
                  <a:pt x="13287" y="13064"/>
                  <a:pt x="13304" y="13055"/>
                  <a:pt x="13320" y="13047"/>
                </a:cubicBezTo>
              </a:path>
              <a:path w="3697" h="2457">
                <a:moveTo>
                  <a:pt x="13568" y="12750"/>
                </a:moveTo>
                <a:cubicBezTo>
                  <a:pt x="13562" y="12792"/>
                  <a:pt x="13484" y="13052"/>
                  <a:pt x="13568" y="12998"/>
                </a:cubicBezTo>
              </a:path>
              <a:path w="3697" h="2457">
                <a:moveTo>
                  <a:pt x="13643" y="12799"/>
                </a:moveTo>
                <a:cubicBezTo>
                  <a:pt x="13580" y="12903"/>
                  <a:pt x="13555" y="12921"/>
                  <a:pt x="13568" y="12998"/>
                </a:cubicBezTo>
                <a:cubicBezTo>
                  <a:pt x="13596" y="12994"/>
                  <a:pt x="13876" y="12968"/>
                  <a:pt x="13767" y="12874"/>
                </a:cubicBezTo>
                <a:cubicBezTo>
                  <a:pt x="13699" y="12851"/>
                  <a:pt x="13678" y="12850"/>
                  <a:pt x="13667" y="12799"/>
                </a:cubicBezTo>
              </a:path>
              <a:path w="3697" h="2457">
                <a:moveTo>
                  <a:pt x="13891" y="12725"/>
                </a:moveTo>
                <a:cubicBezTo>
                  <a:pt x="13873" y="12813"/>
                  <a:pt x="13852" y="12882"/>
                  <a:pt x="13841" y="12973"/>
                </a:cubicBezTo>
                <a:cubicBezTo>
                  <a:pt x="13921" y="12973"/>
                  <a:pt x="14169" y="12987"/>
                  <a:pt x="14114" y="12824"/>
                </a:cubicBezTo>
                <a:cubicBezTo>
                  <a:pt x="14039" y="12774"/>
                  <a:pt x="14015" y="12758"/>
                  <a:pt x="13990" y="12700"/>
                </a:cubicBezTo>
              </a:path>
              <a:path w="3697" h="2457">
                <a:moveTo>
                  <a:pt x="14139" y="12750"/>
                </a:moveTo>
                <a:cubicBezTo>
                  <a:pt x="14189" y="12934"/>
                  <a:pt x="14220" y="12966"/>
                  <a:pt x="14089" y="13097"/>
                </a:cubicBezTo>
              </a:path>
              <a:path w="3697" h="2457">
                <a:moveTo>
                  <a:pt x="14536" y="12774"/>
                </a:moveTo>
                <a:cubicBezTo>
                  <a:pt x="14534" y="12777"/>
                  <a:pt x="14459" y="12999"/>
                  <a:pt x="14536" y="13022"/>
                </a:cubicBezTo>
                <a:cubicBezTo>
                  <a:pt x="14634" y="13052"/>
                  <a:pt x="14653" y="13004"/>
                  <a:pt x="14709" y="12948"/>
                </a:cubicBezTo>
                <a:cubicBezTo>
                  <a:pt x="14709" y="12940"/>
                  <a:pt x="14709" y="12931"/>
                  <a:pt x="14709" y="12923"/>
                </a:cubicBezTo>
                <a:cubicBezTo>
                  <a:pt x="14670" y="12944"/>
                  <a:pt x="14492" y="13070"/>
                  <a:pt x="14635" y="13022"/>
                </a:cubicBezTo>
              </a:path>
              <a:path w="3697" h="2457">
                <a:moveTo>
                  <a:pt x="13395" y="13519"/>
                </a:moveTo>
                <a:cubicBezTo>
                  <a:pt x="13455" y="13519"/>
                  <a:pt x="13483" y="13527"/>
                  <a:pt x="13543" y="13543"/>
                </a:cubicBezTo>
                <a:cubicBezTo>
                  <a:pt x="13504" y="13728"/>
                  <a:pt x="13470" y="13786"/>
                  <a:pt x="13271" y="13816"/>
                </a:cubicBezTo>
                <a:cubicBezTo>
                  <a:pt x="13284" y="13671"/>
                  <a:pt x="13324" y="13670"/>
                  <a:pt x="13469" y="13717"/>
                </a:cubicBezTo>
                <a:cubicBezTo>
                  <a:pt x="13526" y="13745"/>
                  <a:pt x="13549" y="13751"/>
                  <a:pt x="13593" y="13717"/>
                </a:cubicBezTo>
              </a:path>
              <a:path w="3697" h="2457">
                <a:moveTo>
                  <a:pt x="13717" y="13519"/>
                </a:moveTo>
                <a:cubicBezTo>
                  <a:pt x="13648" y="13611"/>
                  <a:pt x="13623" y="13636"/>
                  <a:pt x="13643" y="13717"/>
                </a:cubicBezTo>
                <a:cubicBezTo>
                  <a:pt x="13736" y="13724"/>
                  <a:pt x="14004" y="13691"/>
                  <a:pt x="13891" y="13519"/>
                </a:cubicBezTo>
                <a:cubicBezTo>
                  <a:pt x="13831" y="13479"/>
                  <a:pt x="13819" y="13475"/>
                  <a:pt x="13791" y="13444"/>
                </a:cubicBezTo>
              </a:path>
              <a:path w="3697" h="2457">
                <a:moveTo>
                  <a:pt x="14461" y="13494"/>
                </a:moveTo>
                <a:cubicBezTo>
                  <a:pt x="14543" y="13494"/>
                  <a:pt x="14575" y="13505"/>
                  <a:pt x="14635" y="13469"/>
                </a:cubicBezTo>
              </a:path>
              <a:path w="3697" h="2457">
                <a:moveTo>
                  <a:pt x="14734" y="13320"/>
                </a:moveTo>
                <a:cubicBezTo>
                  <a:pt x="14692" y="13383"/>
                  <a:pt x="14540" y="13619"/>
                  <a:pt x="14660" y="13692"/>
                </a:cubicBezTo>
                <a:cubicBezTo>
                  <a:pt x="14763" y="13755"/>
                  <a:pt x="14826" y="13593"/>
                  <a:pt x="14858" y="13543"/>
                </a:cubicBezTo>
                <a:cubicBezTo>
                  <a:pt x="14761" y="13544"/>
                  <a:pt x="14685" y="13587"/>
                  <a:pt x="14784" y="13667"/>
                </a:cubicBezTo>
              </a:path>
              <a:path w="3697" h="2457">
                <a:moveTo>
                  <a:pt x="14982" y="13370"/>
                </a:moveTo>
                <a:cubicBezTo>
                  <a:pt x="15096" y="13354"/>
                  <a:pt x="15155" y="13296"/>
                  <a:pt x="15156" y="13395"/>
                </a:cubicBezTo>
              </a:path>
              <a:path w="3697" h="2457">
                <a:moveTo>
                  <a:pt x="15478" y="13122"/>
                </a:moveTo>
                <a:cubicBezTo>
                  <a:pt x="15478" y="13204"/>
                  <a:pt x="15427" y="13605"/>
                  <a:pt x="15453" y="13643"/>
                </a:cubicBezTo>
                <a:cubicBezTo>
                  <a:pt x="15461" y="13635"/>
                  <a:pt x="15470" y="13626"/>
                  <a:pt x="15478" y="13618"/>
                </a:cubicBezTo>
              </a:path>
              <a:path w="3697" h="2457">
                <a:moveTo>
                  <a:pt x="15825" y="13196"/>
                </a:moveTo>
                <a:cubicBezTo>
                  <a:pt x="15833" y="13196"/>
                  <a:pt x="15842" y="13196"/>
                  <a:pt x="15850" y="13196"/>
                </a:cubicBezTo>
                <a:cubicBezTo>
                  <a:pt x="15841" y="13124"/>
                  <a:pt x="15815" y="13036"/>
                  <a:pt x="15701" y="13097"/>
                </a:cubicBezTo>
                <a:cubicBezTo>
                  <a:pt x="15586" y="13158"/>
                  <a:pt x="15503" y="13338"/>
                  <a:pt x="15701" y="13320"/>
                </a:cubicBezTo>
                <a:cubicBezTo>
                  <a:pt x="15831" y="13308"/>
                  <a:pt x="15833" y="13248"/>
                  <a:pt x="15875" y="13146"/>
                </a:cubicBezTo>
                <a:cubicBezTo>
                  <a:pt x="15875" y="13298"/>
                  <a:pt x="15849" y="13443"/>
                  <a:pt x="15825" y="13593"/>
                </a:cubicBezTo>
                <a:cubicBezTo>
                  <a:pt x="15825" y="13662"/>
                  <a:pt x="15854" y="13510"/>
                  <a:pt x="15875" y="13444"/>
                </a:cubicBezTo>
              </a:path>
              <a:path w="3697" h="2457">
                <a:moveTo>
                  <a:pt x="16049" y="13146"/>
                </a:moveTo>
                <a:cubicBezTo>
                  <a:pt x="16063" y="13212"/>
                  <a:pt x="16057" y="13249"/>
                  <a:pt x="16049" y="13320"/>
                </a:cubicBezTo>
                <a:cubicBezTo>
                  <a:pt x="16170" y="13382"/>
                  <a:pt x="16245" y="13318"/>
                  <a:pt x="16346" y="13246"/>
                </a:cubicBezTo>
              </a:path>
              <a:path w="3697" h="2457">
                <a:moveTo>
                  <a:pt x="15280" y="13816"/>
                </a:moveTo>
                <a:cubicBezTo>
                  <a:pt x="15520" y="13905"/>
                  <a:pt x="15795" y="13907"/>
                  <a:pt x="16049" y="13841"/>
                </a:cubicBezTo>
                <a:cubicBezTo>
                  <a:pt x="16300" y="13775"/>
                  <a:pt x="16733" y="13518"/>
                  <a:pt x="16694" y="13196"/>
                </a:cubicBezTo>
                <a:cubicBezTo>
                  <a:pt x="16660" y="12912"/>
                  <a:pt x="16238" y="12748"/>
                  <a:pt x="15999" y="12750"/>
                </a:cubicBezTo>
                <a:cubicBezTo>
                  <a:pt x="15594" y="12754"/>
                  <a:pt x="15114" y="13085"/>
                  <a:pt x="15230" y="13543"/>
                </a:cubicBezTo>
                <a:cubicBezTo>
                  <a:pt x="15334" y="13955"/>
                  <a:pt x="15774" y="13762"/>
                  <a:pt x="16024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27960" y="2741760"/>
            <a:ext cx="1098360" cy="919080"/>
          </a:xfrm>
          <a:custGeom>
            <a:avLst/>
            <a:gdLst/>
            <a:ahLst/>
            <a:rect l="l" t="t" r="r" b="b"/>
            <a:pathLst>
              <a:path w="3052" h="2556">
                <a:moveTo>
                  <a:pt x="21134" y="7714"/>
                </a:moveTo>
                <a:cubicBezTo>
                  <a:pt x="21038" y="7690"/>
                  <a:pt x="20980" y="7719"/>
                  <a:pt x="20910" y="7789"/>
                </a:cubicBezTo>
                <a:cubicBezTo>
                  <a:pt x="21007" y="7816"/>
                  <a:pt x="21099" y="7846"/>
                  <a:pt x="21034" y="7962"/>
                </a:cubicBezTo>
                <a:cubicBezTo>
                  <a:pt x="21001" y="8021"/>
                  <a:pt x="20984" y="8012"/>
                  <a:pt x="20935" y="8012"/>
                </a:cubicBezTo>
                <a:cubicBezTo>
                  <a:pt x="20955" y="7911"/>
                  <a:pt x="21021" y="7909"/>
                  <a:pt x="21084" y="7838"/>
                </a:cubicBezTo>
                <a:cubicBezTo>
                  <a:pt x="21114" y="7804"/>
                  <a:pt x="21109" y="7778"/>
                  <a:pt x="21109" y="7739"/>
                </a:cubicBezTo>
              </a:path>
              <a:path w="3052" h="2556">
                <a:moveTo>
                  <a:pt x="21605" y="7764"/>
                </a:moveTo>
                <a:cubicBezTo>
                  <a:pt x="21663" y="7745"/>
                  <a:pt x="21684" y="7731"/>
                  <a:pt x="21729" y="7739"/>
                </a:cubicBezTo>
                <a:cubicBezTo>
                  <a:pt x="21704" y="7789"/>
                  <a:pt x="21696" y="7805"/>
                  <a:pt x="21654" y="7813"/>
                </a:cubicBezTo>
                <a:cubicBezTo>
                  <a:pt x="21685" y="7825"/>
                  <a:pt x="21803" y="7906"/>
                  <a:pt x="21754" y="7962"/>
                </a:cubicBezTo>
                <a:cubicBezTo>
                  <a:pt x="21689" y="8036"/>
                  <a:pt x="21631" y="8029"/>
                  <a:pt x="21555" y="8012"/>
                </a:cubicBezTo>
              </a:path>
              <a:path w="3052" h="2556">
                <a:moveTo>
                  <a:pt x="21903" y="7764"/>
                </a:moveTo>
                <a:cubicBezTo>
                  <a:pt x="21890" y="7817"/>
                  <a:pt x="21878" y="7849"/>
                  <a:pt x="21878" y="7913"/>
                </a:cubicBezTo>
                <a:cubicBezTo>
                  <a:pt x="21974" y="7913"/>
                  <a:pt x="22064" y="7923"/>
                  <a:pt x="22101" y="7813"/>
                </a:cubicBezTo>
                <a:cubicBezTo>
                  <a:pt x="22101" y="7797"/>
                  <a:pt x="22101" y="7780"/>
                  <a:pt x="22101" y="7764"/>
                </a:cubicBezTo>
                <a:cubicBezTo>
                  <a:pt x="22040" y="7784"/>
                  <a:pt x="22076" y="7918"/>
                  <a:pt x="22076" y="7987"/>
                </a:cubicBezTo>
              </a:path>
              <a:path w="3052" h="2556">
                <a:moveTo>
                  <a:pt x="22299" y="7888"/>
                </a:moveTo>
                <a:cubicBezTo>
                  <a:pt x="22363" y="7888"/>
                  <a:pt x="22389" y="7885"/>
                  <a:pt x="22448" y="7863"/>
                </a:cubicBezTo>
              </a:path>
              <a:path w="3052" h="2556">
                <a:moveTo>
                  <a:pt x="22820" y="7640"/>
                </a:moveTo>
                <a:cubicBezTo>
                  <a:pt x="22783" y="7745"/>
                  <a:pt x="22757" y="7851"/>
                  <a:pt x="22746" y="7962"/>
                </a:cubicBezTo>
              </a:path>
              <a:path w="3052" h="2556">
                <a:moveTo>
                  <a:pt x="21208" y="8359"/>
                </a:moveTo>
                <a:cubicBezTo>
                  <a:pt x="21187" y="8317"/>
                  <a:pt x="21181" y="8368"/>
                  <a:pt x="21158" y="8409"/>
                </a:cubicBezTo>
                <a:cubicBezTo>
                  <a:pt x="21248" y="8443"/>
                  <a:pt x="21343" y="8448"/>
                  <a:pt x="21406" y="8384"/>
                </a:cubicBezTo>
              </a:path>
              <a:path w="3052" h="2556">
                <a:moveTo>
                  <a:pt x="21382" y="8285"/>
                </a:moveTo>
                <a:cubicBezTo>
                  <a:pt x="21377" y="8385"/>
                  <a:pt x="21357" y="8483"/>
                  <a:pt x="21357" y="8582"/>
                </a:cubicBezTo>
              </a:path>
              <a:path w="3052" h="2556">
                <a:moveTo>
                  <a:pt x="22151" y="8310"/>
                </a:moveTo>
                <a:cubicBezTo>
                  <a:pt x="22127" y="8358"/>
                  <a:pt x="22118" y="8372"/>
                  <a:pt x="22126" y="8409"/>
                </a:cubicBezTo>
                <a:cubicBezTo>
                  <a:pt x="22202" y="8409"/>
                  <a:pt x="22248" y="8399"/>
                  <a:pt x="22324" y="8384"/>
                </a:cubicBezTo>
              </a:path>
              <a:path w="3052" h="2556">
                <a:moveTo>
                  <a:pt x="22324" y="8186"/>
                </a:moveTo>
                <a:cubicBezTo>
                  <a:pt x="22316" y="8280"/>
                  <a:pt x="22271" y="8406"/>
                  <a:pt x="22324" y="8458"/>
                </a:cubicBezTo>
              </a:path>
              <a:path w="3052" h="2556">
                <a:moveTo>
                  <a:pt x="23118" y="8086"/>
                </a:moveTo>
                <a:cubicBezTo>
                  <a:pt x="23046" y="8086"/>
                  <a:pt x="23216" y="8062"/>
                  <a:pt x="23217" y="8062"/>
                </a:cubicBezTo>
                <a:cubicBezTo>
                  <a:pt x="23186" y="8138"/>
                  <a:pt x="23114" y="8188"/>
                  <a:pt x="23044" y="8235"/>
                </a:cubicBezTo>
                <a:cubicBezTo>
                  <a:pt x="23123" y="8241"/>
                  <a:pt x="23174" y="8246"/>
                  <a:pt x="23242" y="8285"/>
                </a:cubicBezTo>
                <a:cubicBezTo>
                  <a:pt x="23175" y="8419"/>
                  <a:pt x="23129" y="8465"/>
                  <a:pt x="22969" y="8434"/>
                </a:cubicBezTo>
              </a:path>
              <a:path w="3052" h="2556">
                <a:moveTo>
                  <a:pt x="22796" y="8508"/>
                </a:moveTo>
                <a:cubicBezTo>
                  <a:pt x="23004" y="8620"/>
                  <a:pt x="23254" y="8656"/>
                  <a:pt x="23490" y="8582"/>
                </a:cubicBezTo>
                <a:cubicBezTo>
                  <a:pt x="23705" y="8514"/>
                  <a:pt x="23836" y="8399"/>
                  <a:pt x="23961" y="8235"/>
                </a:cubicBezTo>
                <a:cubicBezTo>
                  <a:pt x="23825" y="8035"/>
                  <a:pt x="23660" y="7798"/>
                  <a:pt x="23391" y="7764"/>
                </a:cubicBezTo>
                <a:cubicBezTo>
                  <a:pt x="23129" y="7731"/>
                  <a:pt x="22844" y="8106"/>
                  <a:pt x="22796" y="8334"/>
                </a:cubicBezTo>
                <a:cubicBezTo>
                  <a:pt x="22821" y="8488"/>
                  <a:pt x="22834" y="8540"/>
                  <a:pt x="22969" y="8558"/>
                </a:cubicBezTo>
              </a:path>
              <a:path w="3052" h="2556">
                <a:moveTo>
                  <a:pt x="21134" y="9128"/>
                </a:moveTo>
                <a:cubicBezTo>
                  <a:pt x="21119" y="9082"/>
                  <a:pt x="21068" y="9103"/>
                  <a:pt x="21010" y="9103"/>
                </a:cubicBezTo>
                <a:cubicBezTo>
                  <a:pt x="20985" y="9205"/>
                  <a:pt x="21068" y="9211"/>
                  <a:pt x="21109" y="9302"/>
                </a:cubicBezTo>
                <a:cubicBezTo>
                  <a:pt x="21139" y="9368"/>
                  <a:pt x="21049" y="9393"/>
                  <a:pt x="21010" y="9426"/>
                </a:cubicBezTo>
                <a:cubicBezTo>
                  <a:pt x="21033" y="9309"/>
                  <a:pt x="21097" y="9231"/>
                  <a:pt x="21158" y="9128"/>
                </a:cubicBezTo>
              </a:path>
              <a:path w="3052" h="2556">
                <a:moveTo>
                  <a:pt x="21605" y="9178"/>
                </a:moveTo>
                <a:cubicBezTo>
                  <a:pt x="21630" y="9178"/>
                  <a:pt x="21654" y="9178"/>
                  <a:pt x="21679" y="9178"/>
                </a:cubicBezTo>
                <a:cubicBezTo>
                  <a:pt x="21642" y="9258"/>
                  <a:pt x="21619" y="9288"/>
                  <a:pt x="21555" y="9351"/>
                </a:cubicBezTo>
                <a:cubicBezTo>
                  <a:pt x="21636" y="9351"/>
                  <a:pt x="21761" y="9368"/>
                  <a:pt x="21803" y="9327"/>
                </a:cubicBezTo>
              </a:path>
              <a:path w="3052" h="2556">
                <a:moveTo>
                  <a:pt x="21927" y="9128"/>
                </a:moveTo>
                <a:cubicBezTo>
                  <a:pt x="21936" y="9122"/>
                  <a:pt x="22119" y="9037"/>
                  <a:pt x="22101" y="9103"/>
                </a:cubicBezTo>
                <a:cubicBezTo>
                  <a:pt x="22080" y="9177"/>
                  <a:pt x="22037" y="9191"/>
                  <a:pt x="21977" y="9203"/>
                </a:cubicBezTo>
                <a:cubicBezTo>
                  <a:pt x="22035" y="9203"/>
                  <a:pt x="22077" y="9203"/>
                  <a:pt x="22126" y="9227"/>
                </a:cubicBezTo>
                <a:cubicBezTo>
                  <a:pt x="22097" y="9343"/>
                  <a:pt x="22043" y="9342"/>
                  <a:pt x="21927" y="9351"/>
                </a:cubicBezTo>
              </a:path>
              <a:path w="3052" h="2556">
                <a:moveTo>
                  <a:pt x="21952" y="7640"/>
                </a:moveTo>
                <a:cubicBezTo>
                  <a:pt x="21952" y="7582"/>
                  <a:pt x="21933" y="7690"/>
                  <a:pt x="21927" y="7714"/>
                </a:cubicBezTo>
                <a:cubicBezTo>
                  <a:pt x="21915" y="7764"/>
                  <a:pt x="21871" y="7888"/>
                  <a:pt x="21927" y="7938"/>
                </a:cubicBezTo>
                <a:cubicBezTo>
                  <a:pt x="21962" y="7969"/>
                  <a:pt x="22054" y="7962"/>
                  <a:pt x="22101" y="7962"/>
                </a:cubicBezTo>
                <a:cubicBezTo>
                  <a:pt x="22172" y="7962"/>
                  <a:pt x="22135" y="7949"/>
                  <a:pt x="22175" y="7888"/>
                </a:cubicBezTo>
                <a:cubicBezTo>
                  <a:pt x="22197" y="7854"/>
                  <a:pt x="22212" y="7798"/>
                  <a:pt x="22175" y="7764"/>
                </a:cubicBezTo>
                <a:cubicBezTo>
                  <a:pt x="22159" y="7756"/>
                  <a:pt x="22142" y="7747"/>
                  <a:pt x="22126" y="7739"/>
                </a:cubicBezTo>
                <a:cubicBezTo>
                  <a:pt x="22058" y="7758"/>
                  <a:pt x="21994" y="7802"/>
                  <a:pt x="21977" y="7888"/>
                </a:cubicBezTo>
                <a:cubicBezTo>
                  <a:pt x="21977" y="7946"/>
                  <a:pt x="21977" y="7954"/>
                  <a:pt x="21977" y="7987"/>
                </a:cubicBezTo>
              </a:path>
              <a:path w="3052" h="2556">
                <a:moveTo>
                  <a:pt x="21555" y="8161"/>
                </a:moveTo>
                <a:cubicBezTo>
                  <a:pt x="21595" y="8181"/>
                  <a:pt x="21517" y="8224"/>
                  <a:pt x="21555" y="8285"/>
                </a:cubicBezTo>
                <a:cubicBezTo>
                  <a:pt x="21571" y="8311"/>
                  <a:pt x="21672" y="8310"/>
                  <a:pt x="21704" y="8310"/>
                </a:cubicBezTo>
              </a:path>
              <a:path w="3052" h="2556">
                <a:moveTo>
                  <a:pt x="21754" y="8161"/>
                </a:moveTo>
                <a:cubicBezTo>
                  <a:pt x="21754" y="8280"/>
                  <a:pt x="21719" y="8392"/>
                  <a:pt x="21704" y="8508"/>
                </a:cubicBezTo>
                <a:cubicBezTo>
                  <a:pt x="21704" y="8525"/>
                  <a:pt x="21704" y="8541"/>
                  <a:pt x="21704" y="8558"/>
                </a:cubicBezTo>
              </a:path>
              <a:path w="3052" h="2556">
                <a:moveTo>
                  <a:pt x="23118" y="7888"/>
                </a:moveTo>
                <a:cubicBezTo>
                  <a:pt x="23059" y="7908"/>
                  <a:pt x="23071" y="8047"/>
                  <a:pt x="23044" y="8111"/>
                </a:cubicBezTo>
                <a:cubicBezTo>
                  <a:pt x="23021" y="8134"/>
                  <a:pt x="23013" y="8138"/>
                  <a:pt x="23019" y="8161"/>
                </a:cubicBezTo>
                <a:cubicBezTo>
                  <a:pt x="23101" y="8178"/>
                  <a:pt x="23178" y="8186"/>
                  <a:pt x="23267" y="8186"/>
                </a:cubicBezTo>
                <a:cubicBezTo>
                  <a:pt x="23299" y="8186"/>
                  <a:pt x="23311" y="8169"/>
                  <a:pt x="23341" y="8161"/>
                </a:cubicBezTo>
              </a:path>
              <a:path w="3052" h="2556">
                <a:moveTo>
                  <a:pt x="23366" y="7913"/>
                </a:moveTo>
                <a:cubicBezTo>
                  <a:pt x="23336" y="8032"/>
                  <a:pt x="23296" y="8180"/>
                  <a:pt x="23267" y="8310"/>
                </a:cubicBezTo>
                <a:cubicBezTo>
                  <a:pt x="23248" y="8404"/>
                  <a:pt x="23262" y="8424"/>
                  <a:pt x="23217" y="8458"/>
                </a:cubicBezTo>
              </a:path>
              <a:path w="3052" h="2556">
                <a:moveTo>
                  <a:pt x="23688" y="8012"/>
                </a:moveTo>
                <a:cubicBezTo>
                  <a:pt x="23615" y="8042"/>
                  <a:pt x="23523" y="8174"/>
                  <a:pt x="23515" y="8260"/>
                </a:cubicBezTo>
                <a:cubicBezTo>
                  <a:pt x="23504" y="8379"/>
                  <a:pt x="23632" y="8415"/>
                  <a:pt x="23713" y="8384"/>
                </a:cubicBezTo>
                <a:cubicBezTo>
                  <a:pt x="23859" y="8328"/>
                  <a:pt x="23819" y="8194"/>
                  <a:pt x="23763" y="8086"/>
                </a:cubicBezTo>
                <a:cubicBezTo>
                  <a:pt x="23724" y="8012"/>
                  <a:pt x="23674" y="8000"/>
                  <a:pt x="23614" y="8037"/>
                </a:cubicBezTo>
              </a:path>
              <a:path w="3052" h="2556">
                <a:moveTo>
                  <a:pt x="22374" y="9203"/>
                </a:moveTo>
                <a:cubicBezTo>
                  <a:pt x="22432" y="9203"/>
                  <a:pt x="22489" y="9203"/>
                  <a:pt x="22547" y="9203"/>
                </a:cubicBezTo>
              </a:path>
              <a:path w="3052" h="2556">
                <a:moveTo>
                  <a:pt x="22696" y="9029"/>
                </a:moveTo>
                <a:cubicBezTo>
                  <a:pt x="22696" y="9057"/>
                  <a:pt x="22680" y="9146"/>
                  <a:pt x="22721" y="9153"/>
                </a:cubicBezTo>
                <a:cubicBezTo>
                  <a:pt x="22754" y="9153"/>
                  <a:pt x="22787" y="9153"/>
                  <a:pt x="22820" y="9153"/>
                </a:cubicBezTo>
              </a:path>
              <a:path w="3052" h="2556">
                <a:moveTo>
                  <a:pt x="22944" y="8979"/>
                </a:moveTo>
                <a:cubicBezTo>
                  <a:pt x="22865" y="9040"/>
                  <a:pt x="22854" y="9198"/>
                  <a:pt x="22820" y="9302"/>
                </a:cubicBezTo>
                <a:cubicBezTo>
                  <a:pt x="22812" y="9318"/>
                  <a:pt x="22804" y="9335"/>
                  <a:pt x="22796" y="9351"/>
                </a:cubicBezTo>
              </a:path>
              <a:path w="3052" h="2556">
                <a:moveTo>
                  <a:pt x="21109" y="9426"/>
                </a:moveTo>
                <a:cubicBezTo>
                  <a:pt x="21124" y="9518"/>
                  <a:pt x="21118" y="9580"/>
                  <a:pt x="21109" y="9674"/>
                </a:cubicBezTo>
                <a:cubicBezTo>
                  <a:pt x="21218" y="9674"/>
                  <a:pt x="21347" y="9618"/>
                  <a:pt x="21456" y="9599"/>
                </a:cubicBezTo>
                <a:cubicBezTo>
                  <a:pt x="21538" y="9585"/>
                  <a:pt x="21652" y="9640"/>
                  <a:pt x="21704" y="9575"/>
                </a:cubicBezTo>
                <a:cubicBezTo>
                  <a:pt x="21718" y="9557"/>
                  <a:pt x="21724" y="9501"/>
                  <a:pt x="21729" y="9475"/>
                </a:cubicBezTo>
              </a:path>
              <a:path w="3052" h="2556">
                <a:moveTo>
                  <a:pt x="21233" y="9847"/>
                </a:moveTo>
                <a:cubicBezTo>
                  <a:pt x="21283" y="9837"/>
                  <a:pt x="21413" y="9760"/>
                  <a:pt x="21456" y="9798"/>
                </a:cubicBezTo>
                <a:cubicBezTo>
                  <a:pt x="21505" y="9841"/>
                  <a:pt x="21379" y="9946"/>
                  <a:pt x="21357" y="9971"/>
                </a:cubicBezTo>
                <a:cubicBezTo>
                  <a:pt x="21398" y="9971"/>
                  <a:pt x="21490" y="9972"/>
                  <a:pt x="21456" y="10046"/>
                </a:cubicBezTo>
                <a:cubicBezTo>
                  <a:pt x="21456" y="10047"/>
                  <a:pt x="21302" y="10225"/>
                  <a:pt x="21282" y="10170"/>
                </a:cubicBezTo>
                <a:cubicBezTo>
                  <a:pt x="21282" y="10145"/>
                  <a:pt x="21282" y="10121"/>
                  <a:pt x="21282" y="10096"/>
                </a:cubicBezTo>
              </a:path>
              <a:path w="3052" h="2556">
                <a:moveTo>
                  <a:pt x="21630" y="9773"/>
                </a:moveTo>
                <a:cubicBezTo>
                  <a:pt x="21682" y="9879"/>
                  <a:pt x="21679" y="9976"/>
                  <a:pt x="21679" y="10096"/>
                </a:cubicBezTo>
                <a:cubicBezTo>
                  <a:pt x="21679" y="10104"/>
                  <a:pt x="21679" y="10112"/>
                  <a:pt x="21679" y="10120"/>
                </a:cubicBezTo>
              </a:path>
              <a:path w="3052" h="2556">
                <a:moveTo>
                  <a:pt x="22151" y="9649"/>
                </a:moveTo>
                <a:cubicBezTo>
                  <a:pt x="22189" y="9701"/>
                  <a:pt x="22159" y="9733"/>
                  <a:pt x="22151" y="9798"/>
                </a:cubicBezTo>
                <a:cubicBezTo>
                  <a:pt x="22253" y="9798"/>
                  <a:pt x="22326" y="9821"/>
                  <a:pt x="22399" y="9748"/>
                </a:cubicBezTo>
              </a:path>
              <a:path w="3052" h="2556">
                <a:moveTo>
                  <a:pt x="22399" y="9575"/>
                </a:moveTo>
                <a:cubicBezTo>
                  <a:pt x="22369" y="9717"/>
                  <a:pt x="22349" y="9850"/>
                  <a:pt x="22349" y="9996"/>
                </a:cubicBezTo>
              </a:path>
              <a:path w="3052" h="2556">
                <a:moveTo>
                  <a:pt x="22920" y="9649"/>
                </a:moveTo>
                <a:cubicBezTo>
                  <a:pt x="22992" y="9612"/>
                  <a:pt x="23048" y="9744"/>
                  <a:pt x="23019" y="9823"/>
                </a:cubicBezTo>
                <a:cubicBezTo>
                  <a:pt x="22934" y="10050"/>
                  <a:pt x="22918" y="9907"/>
                  <a:pt x="22870" y="9847"/>
                </a:cubicBezTo>
                <a:cubicBezTo>
                  <a:pt x="22862" y="9847"/>
                  <a:pt x="22853" y="9847"/>
                  <a:pt x="22845" y="9847"/>
                </a:cubicBezTo>
                <a:cubicBezTo>
                  <a:pt x="22982" y="9847"/>
                  <a:pt x="23075" y="9861"/>
                  <a:pt x="23192" y="9798"/>
                </a:cubicBezTo>
              </a:path>
              <a:path w="3052" h="2556">
                <a:moveTo>
                  <a:pt x="23118" y="9575"/>
                </a:moveTo>
                <a:cubicBezTo>
                  <a:pt x="23131" y="9569"/>
                  <a:pt x="23310" y="9460"/>
                  <a:pt x="23341" y="9500"/>
                </a:cubicBezTo>
                <a:cubicBezTo>
                  <a:pt x="23357" y="9520"/>
                  <a:pt x="23397" y="9593"/>
                  <a:pt x="23391" y="9624"/>
                </a:cubicBezTo>
                <a:cubicBezTo>
                  <a:pt x="23373" y="9714"/>
                  <a:pt x="23366" y="9838"/>
                  <a:pt x="23341" y="9922"/>
                </a:cubicBezTo>
                <a:cubicBezTo>
                  <a:pt x="23333" y="9938"/>
                  <a:pt x="23324" y="9955"/>
                  <a:pt x="23316" y="9971"/>
                </a:cubicBezTo>
              </a:path>
              <a:path w="3052" h="2556">
                <a:moveTo>
                  <a:pt x="22771" y="9947"/>
                </a:moveTo>
                <a:cubicBezTo>
                  <a:pt x="22980" y="10032"/>
                  <a:pt x="23189" y="10050"/>
                  <a:pt x="23416" y="9996"/>
                </a:cubicBezTo>
                <a:cubicBezTo>
                  <a:pt x="23719" y="9924"/>
                  <a:pt x="23890" y="9691"/>
                  <a:pt x="23713" y="9401"/>
                </a:cubicBezTo>
                <a:cubicBezTo>
                  <a:pt x="23582" y="9186"/>
                  <a:pt x="23253" y="9173"/>
                  <a:pt x="23044" y="9252"/>
                </a:cubicBezTo>
                <a:cubicBezTo>
                  <a:pt x="22746" y="9365"/>
                  <a:pt x="22639" y="9623"/>
                  <a:pt x="22771" y="9922"/>
                </a:cubicBezTo>
                <a:cubicBezTo>
                  <a:pt x="22886" y="10060"/>
                  <a:pt x="22913" y="10107"/>
                  <a:pt x="23044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87680" y="2670120"/>
            <a:ext cx="6537240" cy="1741680"/>
          </a:xfrm>
          <a:custGeom>
            <a:avLst/>
            <a:gdLst/>
            <a:ahLst/>
            <a:rect l="l" t="t" r="r" b="b"/>
            <a:pathLst>
              <a:path w="18158" h="4838">
                <a:moveTo>
                  <a:pt x="5705" y="7417"/>
                </a:moveTo>
                <a:cubicBezTo>
                  <a:pt x="5787" y="7628"/>
                  <a:pt x="5789" y="7717"/>
                  <a:pt x="5680" y="7913"/>
                </a:cubicBezTo>
              </a:path>
              <a:path w="18158" h="4838">
                <a:moveTo>
                  <a:pt x="6077" y="7689"/>
                </a:moveTo>
                <a:cubicBezTo>
                  <a:pt x="6069" y="7689"/>
                  <a:pt x="6060" y="7689"/>
                  <a:pt x="6052" y="7689"/>
                </a:cubicBezTo>
              </a:path>
              <a:path w="18158" h="4838">
                <a:moveTo>
                  <a:pt x="5755" y="8210"/>
                </a:moveTo>
                <a:lnTo>
                  <a:pt x="5755" y="8210"/>
                </a:lnTo>
                <a:lnTo>
                  <a:pt x="5755" y="8210"/>
                </a:lnTo>
              </a:path>
              <a:path w="18158" h="4838">
                <a:moveTo>
                  <a:pt x="4961" y="8756"/>
                </a:moveTo>
                <a:cubicBezTo>
                  <a:pt x="4874" y="8843"/>
                  <a:pt x="4835" y="9017"/>
                  <a:pt x="4887" y="9153"/>
                </a:cubicBezTo>
                <a:cubicBezTo>
                  <a:pt x="4933" y="9200"/>
                  <a:pt x="4945" y="9214"/>
                  <a:pt x="4986" y="9227"/>
                </a:cubicBezTo>
              </a:path>
              <a:path w="18158" h="4838">
                <a:moveTo>
                  <a:pt x="5333" y="9029"/>
                </a:moveTo>
                <a:cubicBezTo>
                  <a:pt x="5411" y="9019"/>
                  <a:pt x="5481" y="9001"/>
                  <a:pt x="5556" y="8979"/>
                </a:cubicBezTo>
              </a:path>
              <a:path w="18158" h="4838">
                <a:moveTo>
                  <a:pt x="6226" y="8954"/>
                </a:moveTo>
                <a:lnTo>
                  <a:pt x="6226" y="8954"/>
                </a:lnTo>
                <a:lnTo>
                  <a:pt x="6226" y="8954"/>
                </a:lnTo>
              </a:path>
              <a:path w="18158" h="4838">
                <a:moveTo>
                  <a:pt x="5953" y="9475"/>
                </a:moveTo>
                <a:lnTo>
                  <a:pt x="5953" y="9475"/>
                </a:lnTo>
              </a:path>
              <a:path w="18158" h="4838">
                <a:moveTo>
                  <a:pt x="4787" y="10120"/>
                </a:moveTo>
                <a:cubicBezTo>
                  <a:pt x="4711" y="10234"/>
                  <a:pt x="4632" y="10354"/>
                  <a:pt x="4713" y="10492"/>
                </a:cubicBezTo>
                <a:cubicBezTo>
                  <a:pt x="4790" y="10624"/>
                  <a:pt x="4854" y="10500"/>
                  <a:pt x="4911" y="10443"/>
                </a:cubicBezTo>
              </a:path>
              <a:path w="18158" h="4838">
                <a:moveTo>
                  <a:pt x="5184" y="10368"/>
                </a:moveTo>
                <a:cubicBezTo>
                  <a:pt x="5285" y="10354"/>
                  <a:pt x="5383" y="10342"/>
                  <a:pt x="5482" y="10319"/>
                </a:cubicBezTo>
              </a:path>
              <a:path w="18158" h="4838">
                <a:moveTo>
                  <a:pt x="5978" y="10368"/>
                </a:moveTo>
                <a:cubicBezTo>
                  <a:pt x="5978" y="10360"/>
                  <a:pt x="5978" y="10352"/>
                  <a:pt x="5978" y="10344"/>
                </a:cubicBezTo>
              </a:path>
              <a:path w="18158" h="4838">
                <a:moveTo>
                  <a:pt x="5655" y="10914"/>
                </a:moveTo>
                <a:cubicBezTo>
                  <a:pt x="5672" y="10914"/>
                  <a:pt x="5688" y="10914"/>
                  <a:pt x="5705" y="10914"/>
                </a:cubicBezTo>
              </a:path>
              <a:path w="18158" h="4838">
                <a:moveTo>
                  <a:pt x="4812" y="11311"/>
                </a:moveTo>
                <a:cubicBezTo>
                  <a:pt x="4692" y="11540"/>
                  <a:pt x="4674" y="11783"/>
                  <a:pt x="4862" y="12005"/>
                </a:cubicBezTo>
                <a:cubicBezTo>
                  <a:pt x="4903" y="12030"/>
                  <a:pt x="4945" y="12055"/>
                  <a:pt x="4986" y="12080"/>
                </a:cubicBezTo>
              </a:path>
              <a:path w="18158" h="4838">
                <a:moveTo>
                  <a:pt x="5854" y="11137"/>
                </a:moveTo>
                <a:cubicBezTo>
                  <a:pt x="5991" y="11389"/>
                  <a:pt x="6073" y="11539"/>
                  <a:pt x="5904" y="11807"/>
                </a:cubicBezTo>
                <a:cubicBezTo>
                  <a:pt x="5871" y="11840"/>
                  <a:pt x="5837" y="11873"/>
                  <a:pt x="5804" y="11906"/>
                </a:cubicBezTo>
              </a:path>
              <a:path w="18158" h="4838">
                <a:moveTo>
                  <a:pt x="6276" y="11633"/>
                </a:moveTo>
                <a:lnTo>
                  <a:pt x="6276" y="11633"/>
                </a:lnTo>
                <a:lnTo>
                  <a:pt x="6276" y="11633"/>
                </a:lnTo>
              </a:path>
              <a:path w="18158" h="4838">
                <a:moveTo>
                  <a:pt x="5829" y="12254"/>
                </a:moveTo>
                <a:lnTo>
                  <a:pt x="5829" y="12254"/>
                </a:lnTo>
              </a:path>
              <a:path w="18158" h="4838">
                <a:moveTo>
                  <a:pt x="7094" y="11832"/>
                </a:moveTo>
                <a:cubicBezTo>
                  <a:pt x="7065" y="11956"/>
                  <a:pt x="6980" y="12142"/>
                  <a:pt x="7094" y="12229"/>
                </a:cubicBezTo>
              </a:path>
              <a:path w="18158" h="4838">
                <a:moveTo>
                  <a:pt x="7317" y="11832"/>
                </a:moveTo>
                <a:cubicBezTo>
                  <a:pt x="7298" y="11972"/>
                  <a:pt x="7283" y="12035"/>
                  <a:pt x="7342" y="12154"/>
                </a:cubicBezTo>
                <a:cubicBezTo>
                  <a:pt x="7471" y="12094"/>
                  <a:pt x="7648" y="11936"/>
                  <a:pt x="7441" y="11807"/>
                </a:cubicBezTo>
                <a:cubicBezTo>
                  <a:pt x="7416" y="11807"/>
                  <a:pt x="7392" y="11807"/>
                  <a:pt x="7367" y="11807"/>
                </a:cubicBezTo>
              </a:path>
              <a:path w="18158" h="4838">
                <a:moveTo>
                  <a:pt x="14759" y="9575"/>
                </a:moveTo>
                <a:cubicBezTo>
                  <a:pt x="14813" y="9566"/>
                  <a:pt x="14857" y="9548"/>
                  <a:pt x="14908" y="9525"/>
                </a:cubicBezTo>
              </a:path>
              <a:path w="18158" h="4838">
                <a:moveTo>
                  <a:pt x="13891" y="10244"/>
                </a:moveTo>
                <a:cubicBezTo>
                  <a:pt x="14000" y="10368"/>
                  <a:pt x="14175" y="10520"/>
                  <a:pt x="13990" y="10666"/>
                </a:cubicBezTo>
                <a:cubicBezTo>
                  <a:pt x="13932" y="10685"/>
                  <a:pt x="13926" y="10694"/>
                  <a:pt x="13891" y="10691"/>
                </a:cubicBezTo>
              </a:path>
              <a:path w="18158" h="4838">
                <a:moveTo>
                  <a:pt x="21158" y="10641"/>
                </a:moveTo>
                <a:cubicBezTo>
                  <a:pt x="21266" y="10616"/>
                  <a:pt x="21373" y="10592"/>
                  <a:pt x="21481" y="10567"/>
                </a:cubicBezTo>
              </a:path>
              <a:path w="18158" h="4838">
                <a:moveTo>
                  <a:pt x="22721" y="10344"/>
                </a:moveTo>
                <a:cubicBezTo>
                  <a:pt x="22673" y="10459"/>
                  <a:pt x="22638" y="10567"/>
                  <a:pt x="22622" y="10691"/>
                </a:cubicBezTo>
              </a:path>
              <a:path w="18158" h="4838">
                <a:moveTo>
                  <a:pt x="21282" y="11038"/>
                </a:moveTo>
                <a:cubicBezTo>
                  <a:pt x="21254" y="11123"/>
                  <a:pt x="21220" y="11187"/>
                  <a:pt x="21208" y="11286"/>
                </a:cubicBezTo>
              </a:path>
              <a:path w="18158" h="4838">
                <a:moveTo>
                  <a:pt x="22721" y="10964"/>
                </a:moveTo>
                <a:cubicBezTo>
                  <a:pt x="22775" y="10971"/>
                  <a:pt x="22791" y="10980"/>
                  <a:pt x="22845" y="10988"/>
                </a:cubicBezTo>
              </a:path>
              <a:path w="18158" h="4838">
                <a:moveTo>
                  <a:pt x="22671" y="11112"/>
                </a:moveTo>
                <a:cubicBezTo>
                  <a:pt x="22758" y="11112"/>
                  <a:pt x="22793" y="11107"/>
                  <a:pt x="22845" y="11063"/>
                </a:cubicBezTo>
              </a:path>
              <a:path w="18158" h="4838">
                <a:moveTo>
                  <a:pt x="22845" y="11063"/>
                </a:moveTo>
                <a:lnTo>
                  <a:pt x="22845" y="11063"/>
                </a:lnTo>
              </a:path>
              <a:path w="18158" h="4838">
                <a:moveTo>
                  <a:pt x="21456" y="11782"/>
                </a:moveTo>
                <a:cubicBezTo>
                  <a:pt x="21448" y="11865"/>
                  <a:pt x="21437" y="11947"/>
                  <a:pt x="21431" y="12030"/>
                </a:cubicBezTo>
              </a:path>
              <a:path w="18158" h="4838">
                <a:moveTo>
                  <a:pt x="21406" y="11906"/>
                </a:moveTo>
                <a:cubicBezTo>
                  <a:pt x="21565" y="11879"/>
                  <a:pt x="21624" y="11868"/>
                  <a:pt x="21729" y="11832"/>
                </a:cubicBezTo>
              </a:path>
              <a:path w="18158" h="4838">
                <a:moveTo>
                  <a:pt x="21729" y="11832"/>
                </a:moveTo>
                <a:lnTo>
                  <a:pt x="21729" y="1183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14680" y="2652840"/>
            <a:ext cx="1134720" cy="1830240"/>
          </a:xfrm>
          <a:custGeom>
            <a:avLst/>
            <a:gdLst/>
            <a:ahLst/>
            <a:rect l="l" t="t" r="r" b="b"/>
            <a:pathLst>
              <a:path w="3152" h="5086">
                <a:moveTo>
                  <a:pt x="4887" y="7516"/>
                </a:moveTo>
                <a:cubicBezTo>
                  <a:pt x="4850" y="7491"/>
                  <a:pt x="4826" y="7552"/>
                  <a:pt x="4812" y="7615"/>
                </a:cubicBezTo>
                <a:cubicBezTo>
                  <a:pt x="4812" y="7632"/>
                  <a:pt x="4812" y="7648"/>
                  <a:pt x="4812" y="7665"/>
                </a:cubicBezTo>
                <a:cubicBezTo>
                  <a:pt x="4871" y="7665"/>
                  <a:pt x="4917" y="7646"/>
                  <a:pt x="4936" y="7665"/>
                </a:cubicBezTo>
              </a:path>
              <a:path w="3152" h="5086">
                <a:moveTo>
                  <a:pt x="4986" y="7541"/>
                </a:moveTo>
                <a:cubicBezTo>
                  <a:pt x="4986" y="7648"/>
                  <a:pt x="4986" y="7756"/>
                  <a:pt x="4986" y="7863"/>
                </a:cubicBezTo>
              </a:path>
              <a:path w="3152" h="5086">
                <a:moveTo>
                  <a:pt x="5110" y="7541"/>
                </a:moveTo>
                <a:cubicBezTo>
                  <a:pt x="5118" y="7613"/>
                  <a:pt x="5137" y="7697"/>
                  <a:pt x="5159" y="7764"/>
                </a:cubicBezTo>
                <a:cubicBezTo>
                  <a:pt x="5167" y="7780"/>
                  <a:pt x="5176" y="7797"/>
                  <a:pt x="5184" y="7813"/>
                </a:cubicBezTo>
              </a:path>
              <a:path w="3152" h="5086">
                <a:moveTo>
                  <a:pt x="5085" y="7689"/>
                </a:moveTo>
                <a:cubicBezTo>
                  <a:pt x="5149" y="7652"/>
                  <a:pt x="5229" y="7645"/>
                  <a:pt x="5308" y="7640"/>
                </a:cubicBezTo>
                <a:cubicBezTo>
                  <a:pt x="5316" y="7640"/>
                  <a:pt x="5325" y="7640"/>
                  <a:pt x="5333" y="7640"/>
                </a:cubicBezTo>
              </a:path>
              <a:path w="3152" h="5086">
                <a:moveTo>
                  <a:pt x="5581" y="7541"/>
                </a:moveTo>
                <a:cubicBezTo>
                  <a:pt x="5511" y="7552"/>
                  <a:pt x="5462" y="7571"/>
                  <a:pt x="5407" y="7615"/>
                </a:cubicBezTo>
                <a:cubicBezTo>
                  <a:pt x="5467" y="7639"/>
                  <a:pt x="5530" y="7696"/>
                  <a:pt x="5556" y="7764"/>
                </a:cubicBezTo>
                <a:cubicBezTo>
                  <a:pt x="5575" y="7813"/>
                  <a:pt x="5511" y="7827"/>
                  <a:pt x="5482" y="7838"/>
                </a:cubicBezTo>
                <a:cubicBezTo>
                  <a:pt x="5489" y="7737"/>
                  <a:pt x="5536" y="7675"/>
                  <a:pt x="5556" y="7615"/>
                </a:cubicBezTo>
                <a:cubicBezTo>
                  <a:pt x="5556" y="7598"/>
                  <a:pt x="5556" y="7582"/>
                  <a:pt x="5556" y="7565"/>
                </a:cubicBezTo>
              </a:path>
              <a:path w="3152" h="5086">
                <a:moveTo>
                  <a:pt x="4936" y="7367"/>
                </a:moveTo>
                <a:cubicBezTo>
                  <a:pt x="4753" y="7408"/>
                  <a:pt x="4768" y="7515"/>
                  <a:pt x="4762" y="7689"/>
                </a:cubicBezTo>
                <a:cubicBezTo>
                  <a:pt x="4757" y="7836"/>
                  <a:pt x="4756" y="7998"/>
                  <a:pt x="4911" y="8037"/>
                </a:cubicBezTo>
              </a:path>
              <a:path w="3152" h="5086">
                <a:moveTo>
                  <a:pt x="6300" y="7541"/>
                </a:moveTo>
                <a:cubicBezTo>
                  <a:pt x="6240" y="7541"/>
                  <a:pt x="6360" y="7517"/>
                  <a:pt x="6375" y="7516"/>
                </a:cubicBezTo>
                <a:cubicBezTo>
                  <a:pt x="6383" y="7516"/>
                  <a:pt x="6392" y="7516"/>
                  <a:pt x="6400" y="7516"/>
                </a:cubicBezTo>
                <a:cubicBezTo>
                  <a:pt x="6391" y="7625"/>
                  <a:pt x="6378" y="7661"/>
                  <a:pt x="6300" y="7739"/>
                </a:cubicBezTo>
                <a:cubicBezTo>
                  <a:pt x="6385" y="7739"/>
                  <a:pt x="6454" y="7744"/>
                  <a:pt x="6524" y="7764"/>
                </a:cubicBezTo>
                <a:cubicBezTo>
                  <a:pt x="6532" y="7764"/>
                  <a:pt x="6540" y="7764"/>
                  <a:pt x="6548" y="7764"/>
                </a:cubicBezTo>
              </a:path>
              <a:path w="3152" h="5086">
                <a:moveTo>
                  <a:pt x="5085" y="8136"/>
                </a:moveTo>
                <a:cubicBezTo>
                  <a:pt x="5085" y="8219"/>
                  <a:pt x="5085" y="8301"/>
                  <a:pt x="5085" y="8384"/>
                </a:cubicBezTo>
              </a:path>
              <a:path w="3152" h="5086">
                <a:moveTo>
                  <a:pt x="5234" y="8186"/>
                </a:moveTo>
                <a:cubicBezTo>
                  <a:pt x="5285" y="8167"/>
                  <a:pt x="5304" y="8161"/>
                  <a:pt x="5358" y="8161"/>
                </a:cubicBezTo>
                <a:cubicBezTo>
                  <a:pt x="5358" y="8264"/>
                  <a:pt x="5337" y="8273"/>
                  <a:pt x="5283" y="8359"/>
                </a:cubicBezTo>
                <a:cubicBezTo>
                  <a:pt x="5344" y="8359"/>
                  <a:pt x="5396" y="8338"/>
                  <a:pt x="5457" y="8334"/>
                </a:cubicBezTo>
                <a:cubicBezTo>
                  <a:pt x="5482" y="8334"/>
                  <a:pt x="5490" y="8334"/>
                  <a:pt x="5507" y="8334"/>
                </a:cubicBezTo>
              </a:path>
              <a:path w="3152" h="5086">
                <a:moveTo>
                  <a:pt x="5978" y="8111"/>
                </a:moveTo>
                <a:cubicBezTo>
                  <a:pt x="6019" y="8111"/>
                  <a:pt x="6061" y="8111"/>
                  <a:pt x="6102" y="8111"/>
                </a:cubicBezTo>
                <a:cubicBezTo>
                  <a:pt x="6083" y="8226"/>
                  <a:pt x="6035" y="8199"/>
                  <a:pt x="5978" y="8285"/>
                </a:cubicBezTo>
                <a:cubicBezTo>
                  <a:pt x="5978" y="8293"/>
                  <a:pt x="5978" y="8302"/>
                  <a:pt x="5978" y="8310"/>
                </a:cubicBezTo>
                <a:cubicBezTo>
                  <a:pt x="6069" y="8310"/>
                  <a:pt x="6139" y="8300"/>
                  <a:pt x="6226" y="8285"/>
                </a:cubicBezTo>
                <a:cubicBezTo>
                  <a:pt x="6234" y="8285"/>
                  <a:pt x="6243" y="8285"/>
                  <a:pt x="6251" y="8285"/>
                </a:cubicBezTo>
              </a:path>
              <a:path w="3152" h="5086">
                <a:moveTo>
                  <a:pt x="6896" y="7863"/>
                </a:moveTo>
                <a:cubicBezTo>
                  <a:pt x="7037" y="7863"/>
                  <a:pt x="7154" y="8005"/>
                  <a:pt x="7020" y="8161"/>
                </a:cubicBezTo>
                <a:cubicBezTo>
                  <a:pt x="6930" y="8215"/>
                  <a:pt x="6929" y="8239"/>
                  <a:pt x="6871" y="8235"/>
                </a:cubicBezTo>
                <a:cubicBezTo>
                  <a:pt x="6889" y="8125"/>
                  <a:pt x="6893" y="8072"/>
                  <a:pt x="7020" y="8086"/>
                </a:cubicBezTo>
                <a:cubicBezTo>
                  <a:pt x="7111" y="8096"/>
                  <a:pt x="7109" y="8118"/>
                  <a:pt x="7119" y="8186"/>
                </a:cubicBezTo>
              </a:path>
              <a:path w="3152" h="5086">
                <a:moveTo>
                  <a:pt x="7193" y="7838"/>
                </a:moveTo>
                <a:cubicBezTo>
                  <a:pt x="7193" y="7914"/>
                  <a:pt x="7156" y="8012"/>
                  <a:pt x="7268" y="8012"/>
                </a:cubicBezTo>
                <a:cubicBezTo>
                  <a:pt x="7352" y="7991"/>
                  <a:pt x="7371" y="7989"/>
                  <a:pt x="7417" y="7962"/>
                </a:cubicBezTo>
              </a:path>
              <a:path w="3152" h="5086">
                <a:moveTo>
                  <a:pt x="7392" y="7714"/>
                </a:moveTo>
                <a:cubicBezTo>
                  <a:pt x="7392" y="7844"/>
                  <a:pt x="7454" y="8223"/>
                  <a:pt x="7342" y="8260"/>
                </a:cubicBezTo>
              </a:path>
              <a:path w="3152" h="5086">
                <a:moveTo>
                  <a:pt x="6871" y="8384"/>
                </a:moveTo>
                <a:cubicBezTo>
                  <a:pt x="7006" y="8529"/>
                  <a:pt x="7108" y="8579"/>
                  <a:pt x="7317" y="8508"/>
                </a:cubicBezTo>
                <a:cubicBezTo>
                  <a:pt x="7510" y="8443"/>
                  <a:pt x="7718" y="8284"/>
                  <a:pt x="7789" y="8086"/>
                </a:cubicBezTo>
                <a:cubicBezTo>
                  <a:pt x="7853" y="7908"/>
                  <a:pt x="7803" y="7777"/>
                  <a:pt x="7689" y="7640"/>
                </a:cubicBezTo>
                <a:cubicBezTo>
                  <a:pt x="7588" y="7519"/>
                  <a:pt x="7468" y="7497"/>
                  <a:pt x="7317" y="7516"/>
                </a:cubicBezTo>
                <a:cubicBezTo>
                  <a:pt x="7186" y="7532"/>
                  <a:pt x="7041" y="7560"/>
                  <a:pt x="6921" y="7615"/>
                </a:cubicBezTo>
                <a:cubicBezTo>
                  <a:pt x="6787" y="7676"/>
                  <a:pt x="6773" y="7887"/>
                  <a:pt x="6747" y="8012"/>
                </a:cubicBezTo>
                <a:cubicBezTo>
                  <a:pt x="6700" y="8237"/>
                  <a:pt x="6724" y="8346"/>
                  <a:pt x="6896" y="8508"/>
                </a:cubicBezTo>
                <a:cubicBezTo>
                  <a:pt x="6963" y="8571"/>
                  <a:pt x="6983" y="8570"/>
                  <a:pt x="7045" y="8533"/>
                </a:cubicBezTo>
              </a:path>
              <a:path w="3152" h="5086">
                <a:moveTo>
                  <a:pt x="5035" y="8855"/>
                </a:moveTo>
                <a:cubicBezTo>
                  <a:pt x="5013" y="8928"/>
                  <a:pt x="4939" y="9066"/>
                  <a:pt x="5011" y="9128"/>
                </a:cubicBezTo>
                <a:cubicBezTo>
                  <a:pt x="5092" y="9197"/>
                  <a:pt x="5172" y="9135"/>
                  <a:pt x="5234" y="9079"/>
                </a:cubicBezTo>
                <a:cubicBezTo>
                  <a:pt x="5262" y="9051"/>
                  <a:pt x="5271" y="9037"/>
                  <a:pt x="5259" y="9004"/>
                </a:cubicBezTo>
                <a:cubicBezTo>
                  <a:pt x="5197" y="8992"/>
                  <a:pt x="5152" y="8960"/>
                  <a:pt x="5135" y="9054"/>
                </a:cubicBezTo>
                <a:cubicBezTo>
                  <a:pt x="5118" y="9148"/>
                  <a:pt x="5140" y="9143"/>
                  <a:pt x="5209" y="9153"/>
                </a:cubicBezTo>
              </a:path>
              <a:path w="3152" h="5086">
                <a:moveTo>
                  <a:pt x="5407" y="8930"/>
                </a:moveTo>
                <a:cubicBezTo>
                  <a:pt x="5422" y="8987"/>
                  <a:pt x="5432" y="9032"/>
                  <a:pt x="5432" y="9103"/>
                </a:cubicBezTo>
                <a:cubicBezTo>
                  <a:pt x="5432" y="9111"/>
                  <a:pt x="5432" y="9120"/>
                  <a:pt x="5432" y="9128"/>
                </a:cubicBezTo>
              </a:path>
              <a:path w="3152" h="5086">
                <a:moveTo>
                  <a:pt x="5779" y="8855"/>
                </a:moveTo>
                <a:cubicBezTo>
                  <a:pt x="5746" y="8855"/>
                  <a:pt x="5713" y="8855"/>
                  <a:pt x="5680" y="8855"/>
                </a:cubicBezTo>
                <a:cubicBezTo>
                  <a:pt x="5680" y="8947"/>
                  <a:pt x="5748" y="8941"/>
                  <a:pt x="5804" y="9004"/>
                </a:cubicBezTo>
                <a:cubicBezTo>
                  <a:pt x="5840" y="9044"/>
                  <a:pt x="5885" y="9159"/>
                  <a:pt x="5779" y="9153"/>
                </a:cubicBezTo>
                <a:cubicBezTo>
                  <a:pt x="5763" y="9145"/>
                  <a:pt x="5746" y="9136"/>
                  <a:pt x="5730" y="9128"/>
                </a:cubicBezTo>
                <a:cubicBezTo>
                  <a:pt x="5741" y="9026"/>
                  <a:pt x="5789" y="9010"/>
                  <a:pt x="5829" y="8930"/>
                </a:cubicBezTo>
                <a:cubicBezTo>
                  <a:pt x="5847" y="8895"/>
                  <a:pt x="5878" y="8836"/>
                  <a:pt x="5829" y="8830"/>
                </a:cubicBezTo>
                <a:cubicBezTo>
                  <a:pt x="5821" y="8830"/>
                  <a:pt x="5812" y="8830"/>
                  <a:pt x="5804" y="8830"/>
                </a:cubicBezTo>
              </a:path>
              <a:path w="3152" h="5086">
                <a:moveTo>
                  <a:pt x="5904" y="8756"/>
                </a:moveTo>
                <a:cubicBezTo>
                  <a:pt x="5987" y="8869"/>
                  <a:pt x="6055" y="8962"/>
                  <a:pt x="6003" y="9103"/>
                </a:cubicBezTo>
                <a:cubicBezTo>
                  <a:pt x="5991" y="9135"/>
                  <a:pt x="5954" y="9147"/>
                  <a:pt x="5928" y="9153"/>
                </a:cubicBezTo>
              </a:path>
              <a:path w="3152" h="5086">
                <a:moveTo>
                  <a:pt x="6524" y="8880"/>
                </a:moveTo>
                <a:cubicBezTo>
                  <a:pt x="6542" y="8843"/>
                  <a:pt x="6552" y="8839"/>
                  <a:pt x="6598" y="8830"/>
                </a:cubicBezTo>
                <a:cubicBezTo>
                  <a:pt x="6598" y="8932"/>
                  <a:pt x="6583" y="9009"/>
                  <a:pt x="6499" y="9079"/>
                </a:cubicBezTo>
                <a:cubicBezTo>
                  <a:pt x="6482" y="9087"/>
                  <a:pt x="6466" y="9095"/>
                  <a:pt x="6449" y="9103"/>
                </a:cubicBezTo>
                <a:cubicBezTo>
                  <a:pt x="6507" y="9103"/>
                  <a:pt x="6539" y="9102"/>
                  <a:pt x="6598" y="9079"/>
                </a:cubicBezTo>
                <a:cubicBezTo>
                  <a:pt x="6651" y="9058"/>
                  <a:pt x="6667" y="9054"/>
                  <a:pt x="6722" y="9054"/>
                </a:cubicBezTo>
              </a:path>
              <a:path w="3152" h="5086">
                <a:moveTo>
                  <a:pt x="5283" y="9327"/>
                </a:moveTo>
                <a:cubicBezTo>
                  <a:pt x="5283" y="9457"/>
                  <a:pt x="5291" y="9577"/>
                  <a:pt x="5259" y="9699"/>
                </a:cubicBezTo>
              </a:path>
              <a:path w="3152" h="5086">
                <a:moveTo>
                  <a:pt x="5432" y="9376"/>
                </a:moveTo>
                <a:cubicBezTo>
                  <a:pt x="5432" y="9417"/>
                  <a:pt x="5410" y="9503"/>
                  <a:pt x="5482" y="9500"/>
                </a:cubicBezTo>
                <a:cubicBezTo>
                  <a:pt x="5543" y="9498"/>
                  <a:pt x="5589" y="9482"/>
                  <a:pt x="5631" y="9451"/>
                </a:cubicBezTo>
              </a:path>
              <a:path w="3152" h="5086">
                <a:moveTo>
                  <a:pt x="5631" y="9327"/>
                </a:moveTo>
                <a:cubicBezTo>
                  <a:pt x="5604" y="9397"/>
                  <a:pt x="5584" y="9537"/>
                  <a:pt x="5606" y="9624"/>
                </a:cubicBezTo>
                <a:cubicBezTo>
                  <a:pt x="5614" y="9641"/>
                  <a:pt x="5623" y="9657"/>
                  <a:pt x="5631" y="9674"/>
                </a:cubicBezTo>
              </a:path>
              <a:path w="3152" h="5086">
                <a:moveTo>
                  <a:pt x="6300" y="9426"/>
                </a:moveTo>
                <a:cubicBezTo>
                  <a:pt x="6333" y="9426"/>
                  <a:pt x="6367" y="9426"/>
                  <a:pt x="6400" y="9426"/>
                </a:cubicBezTo>
                <a:cubicBezTo>
                  <a:pt x="6415" y="9541"/>
                  <a:pt x="6314" y="9611"/>
                  <a:pt x="6226" y="9699"/>
                </a:cubicBezTo>
                <a:cubicBezTo>
                  <a:pt x="6319" y="9683"/>
                  <a:pt x="6402" y="9674"/>
                  <a:pt x="6499" y="9674"/>
                </a:cubicBezTo>
                <a:cubicBezTo>
                  <a:pt x="6524" y="9674"/>
                  <a:pt x="6532" y="9674"/>
                  <a:pt x="6548" y="9674"/>
                </a:cubicBezTo>
              </a:path>
              <a:path w="3152" h="5086">
                <a:moveTo>
                  <a:pt x="7045" y="9277"/>
                </a:moveTo>
                <a:cubicBezTo>
                  <a:pt x="7096" y="9260"/>
                  <a:pt x="7139" y="9239"/>
                  <a:pt x="7193" y="9227"/>
                </a:cubicBezTo>
                <a:cubicBezTo>
                  <a:pt x="7193" y="9348"/>
                  <a:pt x="7176" y="9408"/>
                  <a:pt x="7094" y="9500"/>
                </a:cubicBezTo>
                <a:cubicBezTo>
                  <a:pt x="7078" y="9517"/>
                  <a:pt x="7061" y="9533"/>
                  <a:pt x="7045" y="9550"/>
                </a:cubicBezTo>
                <a:cubicBezTo>
                  <a:pt x="7120" y="9537"/>
                  <a:pt x="7191" y="9506"/>
                  <a:pt x="7268" y="9500"/>
                </a:cubicBezTo>
                <a:cubicBezTo>
                  <a:pt x="7326" y="9495"/>
                  <a:pt x="7362" y="9477"/>
                  <a:pt x="7417" y="9451"/>
                </a:cubicBezTo>
              </a:path>
              <a:path w="3152" h="5086">
                <a:moveTo>
                  <a:pt x="7541" y="9178"/>
                </a:moveTo>
                <a:cubicBezTo>
                  <a:pt x="7470" y="9205"/>
                  <a:pt x="7407" y="9226"/>
                  <a:pt x="7367" y="9277"/>
                </a:cubicBezTo>
                <a:cubicBezTo>
                  <a:pt x="7469" y="9340"/>
                  <a:pt x="7550" y="9352"/>
                  <a:pt x="7565" y="9475"/>
                </a:cubicBezTo>
                <a:cubicBezTo>
                  <a:pt x="7468" y="9625"/>
                  <a:pt x="7499" y="9384"/>
                  <a:pt x="7516" y="9327"/>
                </a:cubicBezTo>
                <a:cubicBezTo>
                  <a:pt x="7551" y="9209"/>
                  <a:pt x="7545" y="9288"/>
                  <a:pt x="7565" y="9227"/>
                </a:cubicBezTo>
              </a:path>
              <a:path w="3152" h="5086">
                <a:moveTo>
                  <a:pt x="7069" y="9748"/>
                </a:moveTo>
                <a:cubicBezTo>
                  <a:pt x="7296" y="9757"/>
                  <a:pt x="7528" y="9736"/>
                  <a:pt x="7714" y="9575"/>
                </a:cubicBezTo>
                <a:cubicBezTo>
                  <a:pt x="7834" y="9471"/>
                  <a:pt x="7893" y="9284"/>
                  <a:pt x="7789" y="9153"/>
                </a:cubicBezTo>
                <a:cubicBezTo>
                  <a:pt x="7683" y="9019"/>
                  <a:pt x="7535" y="8964"/>
                  <a:pt x="7367" y="8979"/>
                </a:cubicBezTo>
                <a:cubicBezTo>
                  <a:pt x="7178" y="8996"/>
                  <a:pt x="6996" y="9094"/>
                  <a:pt x="6921" y="9277"/>
                </a:cubicBezTo>
                <a:cubicBezTo>
                  <a:pt x="6858" y="9431"/>
                  <a:pt x="6895" y="9768"/>
                  <a:pt x="7119" y="9773"/>
                </a:cubicBezTo>
                <a:cubicBezTo>
                  <a:pt x="7169" y="9756"/>
                  <a:pt x="7218" y="9740"/>
                  <a:pt x="7268" y="9723"/>
                </a:cubicBezTo>
              </a:path>
              <a:path w="3152" h="5086">
                <a:moveTo>
                  <a:pt x="5011" y="10145"/>
                </a:moveTo>
                <a:cubicBezTo>
                  <a:pt x="4965" y="10163"/>
                  <a:pt x="4862" y="10223"/>
                  <a:pt x="4887" y="10294"/>
                </a:cubicBezTo>
                <a:cubicBezTo>
                  <a:pt x="4914" y="10372"/>
                  <a:pt x="5067" y="10414"/>
                  <a:pt x="4986" y="10468"/>
                </a:cubicBezTo>
                <a:cubicBezTo>
                  <a:pt x="4900" y="10417"/>
                  <a:pt x="4990" y="10366"/>
                  <a:pt x="5035" y="10269"/>
                </a:cubicBezTo>
                <a:cubicBezTo>
                  <a:pt x="5055" y="10209"/>
                  <a:pt x="5074" y="10194"/>
                  <a:pt x="5035" y="10170"/>
                </a:cubicBezTo>
              </a:path>
              <a:path w="3152" h="5086">
                <a:moveTo>
                  <a:pt x="5259" y="10269"/>
                </a:moveTo>
                <a:cubicBezTo>
                  <a:pt x="5259" y="10319"/>
                  <a:pt x="5259" y="10368"/>
                  <a:pt x="5259" y="10418"/>
                </a:cubicBezTo>
              </a:path>
              <a:path w="3152" h="5086">
                <a:moveTo>
                  <a:pt x="5606" y="10195"/>
                </a:moveTo>
                <a:cubicBezTo>
                  <a:pt x="5544" y="10195"/>
                  <a:pt x="5529" y="10185"/>
                  <a:pt x="5507" y="10220"/>
                </a:cubicBezTo>
                <a:cubicBezTo>
                  <a:pt x="5507" y="10276"/>
                  <a:pt x="5592" y="10303"/>
                  <a:pt x="5606" y="10393"/>
                </a:cubicBezTo>
                <a:cubicBezTo>
                  <a:pt x="5611" y="10423"/>
                  <a:pt x="5581" y="10424"/>
                  <a:pt x="5556" y="10443"/>
                </a:cubicBezTo>
                <a:cubicBezTo>
                  <a:pt x="5537" y="10368"/>
                  <a:pt x="5549" y="10313"/>
                  <a:pt x="5606" y="10244"/>
                </a:cubicBezTo>
                <a:cubicBezTo>
                  <a:pt x="5639" y="10204"/>
                  <a:pt x="5631" y="10203"/>
                  <a:pt x="5631" y="10145"/>
                </a:cubicBezTo>
              </a:path>
              <a:path w="3152" h="5086">
                <a:moveTo>
                  <a:pt x="5705" y="10071"/>
                </a:moveTo>
                <a:cubicBezTo>
                  <a:pt x="5767" y="10176"/>
                  <a:pt x="5887" y="10228"/>
                  <a:pt x="5854" y="10393"/>
                </a:cubicBezTo>
                <a:cubicBezTo>
                  <a:pt x="5840" y="10463"/>
                  <a:pt x="5778" y="10471"/>
                  <a:pt x="5755" y="10517"/>
                </a:cubicBezTo>
              </a:path>
              <a:path w="3152" h="5086">
                <a:moveTo>
                  <a:pt x="6251" y="10170"/>
                </a:moveTo>
                <a:cubicBezTo>
                  <a:pt x="6265" y="10129"/>
                  <a:pt x="6285" y="10140"/>
                  <a:pt x="6350" y="10120"/>
                </a:cubicBezTo>
                <a:cubicBezTo>
                  <a:pt x="6338" y="10231"/>
                  <a:pt x="6300" y="10285"/>
                  <a:pt x="6226" y="10368"/>
                </a:cubicBezTo>
                <a:cubicBezTo>
                  <a:pt x="6311" y="10368"/>
                  <a:pt x="6389" y="10349"/>
                  <a:pt x="6474" y="10344"/>
                </a:cubicBezTo>
                <a:cubicBezTo>
                  <a:pt x="6482" y="10344"/>
                  <a:pt x="6491" y="10344"/>
                  <a:pt x="6499" y="10344"/>
                </a:cubicBezTo>
              </a:path>
              <a:path w="3152" h="5086">
                <a:moveTo>
                  <a:pt x="4986" y="10765"/>
                </a:moveTo>
                <a:cubicBezTo>
                  <a:pt x="4986" y="10867"/>
                  <a:pt x="4970" y="10962"/>
                  <a:pt x="4961" y="11063"/>
                </a:cubicBezTo>
              </a:path>
              <a:path w="3152" h="5086">
                <a:moveTo>
                  <a:pt x="5159" y="10765"/>
                </a:moveTo>
                <a:cubicBezTo>
                  <a:pt x="5192" y="10841"/>
                  <a:pt x="5200" y="10947"/>
                  <a:pt x="5209" y="11038"/>
                </a:cubicBezTo>
                <a:cubicBezTo>
                  <a:pt x="5271" y="11028"/>
                  <a:pt x="5457" y="10987"/>
                  <a:pt x="5457" y="10914"/>
                </a:cubicBezTo>
                <a:cubicBezTo>
                  <a:pt x="5449" y="10906"/>
                  <a:pt x="5440" y="10897"/>
                  <a:pt x="5432" y="10889"/>
                </a:cubicBezTo>
                <a:cubicBezTo>
                  <a:pt x="5329" y="10863"/>
                  <a:pt x="5315" y="10890"/>
                  <a:pt x="5308" y="11013"/>
                </a:cubicBezTo>
                <a:cubicBezTo>
                  <a:pt x="5308" y="11065"/>
                  <a:pt x="5310" y="11081"/>
                  <a:pt x="5358" y="11038"/>
                </a:cubicBezTo>
              </a:path>
              <a:path w="3152" h="5086">
                <a:moveTo>
                  <a:pt x="5928" y="10790"/>
                </a:moveTo>
                <a:cubicBezTo>
                  <a:pt x="5941" y="10752"/>
                  <a:pt x="5958" y="10765"/>
                  <a:pt x="6003" y="10765"/>
                </a:cubicBezTo>
                <a:cubicBezTo>
                  <a:pt x="5993" y="10895"/>
                  <a:pt x="5983" y="10959"/>
                  <a:pt x="5879" y="11038"/>
                </a:cubicBezTo>
                <a:cubicBezTo>
                  <a:pt x="5964" y="11038"/>
                  <a:pt x="6042" y="11018"/>
                  <a:pt x="6127" y="11013"/>
                </a:cubicBezTo>
                <a:cubicBezTo>
                  <a:pt x="6135" y="11013"/>
                  <a:pt x="6144" y="11013"/>
                  <a:pt x="6152" y="11013"/>
                </a:cubicBezTo>
              </a:path>
              <a:path w="3152" h="5086">
                <a:moveTo>
                  <a:pt x="6921" y="10567"/>
                </a:moveTo>
                <a:cubicBezTo>
                  <a:pt x="7010" y="10549"/>
                  <a:pt x="7058" y="10508"/>
                  <a:pt x="7144" y="10517"/>
                </a:cubicBezTo>
                <a:cubicBezTo>
                  <a:pt x="7161" y="10630"/>
                  <a:pt x="6941" y="10708"/>
                  <a:pt x="7020" y="10790"/>
                </a:cubicBezTo>
                <a:cubicBezTo>
                  <a:pt x="7055" y="10826"/>
                  <a:pt x="7228" y="10691"/>
                  <a:pt x="7193" y="10889"/>
                </a:cubicBezTo>
                <a:cubicBezTo>
                  <a:pt x="7179" y="10967"/>
                  <a:pt x="7001" y="11092"/>
                  <a:pt x="6995" y="11013"/>
                </a:cubicBezTo>
                <a:cubicBezTo>
                  <a:pt x="7003" y="10988"/>
                  <a:pt x="7012" y="10964"/>
                  <a:pt x="7020" y="10939"/>
                </a:cubicBezTo>
              </a:path>
              <a:path w="3152" h="5086">
                <a:moveTo>
                  <a:pt x="7317" y="10592"/>
                </a:moveTo>
                <a:cubicBezTo>
                  <a:pt x="7338" y="10551"/>
                  <a:pt x="7394" y="10511"/>
                  <a:pt x="7441" y="10492"/>
                </a:cubicBezTo>
                <a:cubicBezTo>
                  <a:pt x="7423" y="10610"/>
                  <a:pt x="7382" y="10711"/>
                  <a:pt x="7317" y="10815"/>
                </a:cubicBezTo>
                <a:cubicBezTo>
                  <a:pt x="7418" y="10815"/>
                  <a:pt x="7514" y="10760"/>
                  <a:pt x="7615" y="10740"/>
                </a:cubicBezTo>
                <a:cubicBezTo>
                  <a:pt x="7623" y="10740"/>
                  <a:pt x="7632" y="10740"/>
                  <a:pt x="7640" y="10740"/>
                </a:cubicBezTo>
              </a:path>
              <a:path w="3152" h="5086">
                <a:moveTo>
                  <a:pt x="6896" y="11112"/>
                </a:moveTo>
                <a:cubicBezTo>
                  <a:pt x="7110" y="11155"/>
                  <a:pt x="7313" y="11136"/>
                  <a:pt x="7516" y="11038"/>
                </a:cubicBezTo>
                <a:cubicBezTo>
                  <a:pt x="7683" y="10957"/>
                  <a:pt x="7945" y="10730"/>
                  <a:pt x="7913" y="10517"/>
                </a:cubicBezTo>
                <a:cubicBezTo>
                  <a:pt x="7872" y="10242"/>
                  <a:pt x="7505" y="10291"/>
                  <a:pt x="7317" y="10319"/>
                </a:cubicBezTo>
                <a:cubicBezTo>
                  <a:pt x="7065" y="10357"/>
                  <a:pt x="6742" y="10542"/>
                  <a:pt x="6722" y="10840"/>
                </a:cubicBezTo>
                <a:cubicBezTo>
                  <a:pt x="6703" y="11124"/>
                  <a:pt x="7073" y="11017"/>
                  <a:pt x="7218" y="11013"/>
                </a:cubicBezTo>
              </a:path>
              <a:path w="3152" h="5086">
                <a:moveTo>
                  <a:pt x="4936" y="11534"/>
                </a:moveTo>
                <a:cubicBezTo>
                  <a:pt x="4900" y="11552"/>
                  <a:pt x="4932" y="11680"/>
                  <a:pt x="4936" y="11757"/>
                </a:cubicBezTo>
                <a:cubicBezTo>
                  <a:pt x="4936" y="11815"/>
                  <a:pt x="4936" y="11824"/>
                  <a:pt x="4936" y="11857"/>
                </a:cubicBezTo>
              </a:path>
              <a:path w="3152" h="5086">
                <a:moveTo>
                  <a:pt x="5011" y="11559"/>
                </a:moveTo>
                <a:cubicBezTo>
                  <a:pt x="5085" y="11534"/>
                  <a:pt x="5110" y="11526"/>
                  <a:pt x="5159" y="11509"/>
                </a:cubicBezTo>
                <a:cubicBezTo>
                  <a:pt x="5180" y="11636"/>
                  <a:pt x="5154" y="11670"/>
                  <a:pt x="5085" y="11782"/>
                </a:cubicBezTo>
                <a:cubicBezTo>
                  <a:pt x="5151" y="11782"/>
                  <a:pt x="5217" y="11782"/>
                  <a:pt x="5283" y="11782"/>
                </a:cubicBezTo>
              </a:path>
              <a:path w="3152" h="5086">
                <a:moveTo>
                  <a:pt x="5407" y="11509"/>
                </a:moveTo>
                <a:cubicBezTo>
                  <a:pt x="5436" y="11582"/>
                  <a:pt x="5467" y="11658"/>
                  <a:pt x="5482" y="11733"/>
                </a:cubicBezTo>
              </a:path>
              <a:path w="3152" h="5086">
                <a:moveTo>
                  <a:pt x="5383" y="11683"/>
                </a:moveTo>
                <a:cubicBezTo>
                  <a:pt x="5436" y="11683"/>
                  <a:pt x="5446" y="11676"/>
                  <a:pt x="5507" y="11658"/>
                </a:cubicBezTo>
              </a:path>
              <a:path w="3152" h="5086">
                <a:moveTo>
                  <a:pt x="5779" y="11485"/>
                </a:moveTo>
                <a:cubicBezTo>
                  <a:pt x="5725" y="11509"/>
                  <a:pt x="5679" y="11539"/>
                  <a:pt x="5631" y="11559"/>
                </a:cubicBezTo>
                <a:cubicBezTo>
                  <a:pt x="5730" y="11658"/>
                  <a:pt x="5779" y="11673"/>
                  <a:pt x="5755" y="11807"/>
                </a:cubicBezTo>
                <a:cubicBezTo>
                  <a:pt x="5635" y="11788"/>
                  <a:pt x="5736" y="11699"/>
                  <a:pt x="5779" y="11584"/>
                </a:cubicBezTo>
                <a:cubicBezTo>
                  <a:pt x="5779" y="11559"/>
                  <a:pt x="5779" y="11551"/>
                  <a:pt x="5779" y="11534"/>
                </a:cubicBezTo>
              </a:path>
              <a:path w="3152" h="5086">
                <a:moveTo>
                  <a:pt x="6499" y="11460"/>
                </a:moveTo>
                <a:cubicBezTo>
                  <a:pt x="6556" y="11441"/>
                  <a:pt x="6563" y="11432"/>
                  <a:pt x="6598" y="11435"/>
                </a:cubicBezTo>
                <a:cubicBezTo>
                  <a:pt x="6598" y="11572"/>
                  <a:pt x="6568" y="11589"/>
                  <a:pt x="6474" y="11683"/>
                </a:cubicBezTo>
                <a:cubicBezTo>
                  <a:pt x="6569" y="11683"/>
                  <a:pt x="6654" y="11664"/>
                  <a:pt x="6747" y="11658"/>
                </a:cubicBezTo>
                <a:cubicBezTo>
                  <a:pt x="6755" y="11658"/>
                  <a:pt x="6764" y="11658"/>
                  <a:pt x="6772" y="11658"/>
                </a:cubicBezTo>
              </a:path>
              <a:path w="3152" h="5086">
                <a:moveTo>
                  <a:pt x="5110" y="12179"/>
                </a:moveTo>
                <a:cubicBezTo>
                  <a:pt x="5185" y="12162"/>
                  <a:pt x="5213" y="12146"/>
                  <a:pt x="5283" y="12154"/>
                </a:cubicBezTo>
                <a:cubicBezTo>
                  <a:pt x="5219" y="12295"/>
                  <a:pt x="5159" y="12334"/>
                  <a:pt x="5035" y="12427"/>
                </a:cubicBezTo>
                <a:cubicBezTo>
                  <a:pt x="5146" y="12413"/>
                  <a:pt x="5253" y="12391"/>
                  <a:pt x="5358" y="12353"/>
                </a:cubicBezTo>
              </a:path>
              <a:path w="3152" h="5086">
                <a:moveTo>
                  <a:pt x="5556" y="12179"/>
                </a:moveTo>
                <a:cubicBezTo>
                  <a:pt x="5478" y="12251"/>
                  <a:pt x="5453" y="12271"/>
                  <a:pt x="5432" y="12378"/>
                </a:cubicBezTo>
                <a:cubicBezTo>
                  <a:pt x="5463" y="12396"/>
                  <a:pt x="5640" y="12416"/>
                  <a:pt x="5631" y="12303"/>
                </a:cubicBezTo>
                <a:cubicBezTo>
                  <a:pt x="5622" y="12189"/>
                  <a:pt x="5609" y="12212"/>
                  <a:pt x="5531" y="12179"/>
                </a:cubicBezTo>
              </a:path>
              <a:path w="3152" h="5086">
                <a:moveTo>
                  <a:pt x="6077" y="12179"/>
                </a:moveTo>
                <a:cubicBezTo>
                  <a:pt x="6122" y="12134"/>
                  <a:pt x="6175" y="12135"/>
                  <a:pt x="6251" y="12129"/>
                </a:cubicBezTo>
                <a:cubicBezTo>
                  <a:pt x="6219" y="12225"/>
                  <a:pt x="6137" y="12288"/>
                  <a:pt x="6077" y="12378"/>
                </a:cubicBezTo>
                <a:cubicBezTo>
                  <a:pt x="6173" y="12368"/>
                  <a:pt x="6312" y="12361"/>
                  <a:pt x="6400" y="12328"/>
                </a:cubicBezTo>
                <a:cubicBezTo>
                  <a:pt x="6408" y="12320"/>
                  <a:pt x="6416" y="12311"/>
                  <a:pt x="6424" y="12303"/>
                </a:cubicBezTo>
              </a:path>
              <a:path w="3152" h="5086">
                <a:moveTo>
                  <a:pt x="6921" y="11931"/>
                </a:moveTo>
                <a:cubicBezTo>
                  <a:pt x="6904" y="11983"/>
                  <a:pt x="6883" y="12025"/>
                  <a:pt x="6871" y="12080"/>
                </a:cubicBezTo>
                <a:cubicBezTo>
                  <a:pt x="6956" y="12080"/>
                  <a:pt x="7071" y="12081"/>
                  <a:pt x="7144" y="12030"/>
                </a:cubicBezTo>
                <a:cubicBezTo>
                  <a:pt x="7144" y="12022"/>
                  <a:pt x="7144" y="12013"/>
                  <a:pt x="7144" y="12005"/>
                </a:cubicBezTo>
              </a:path>
              <a:path w="3152" h="5086">
                <a:moveTo>
                  <a:pt x="6945" y="12402"/>
                </a:moveTo>
                <a:cubicBezTo>
                  <a:pt x="7208" y="12465"/>
                  <a:pt x="7386" y="12456"/>
                  <a:pt x="7615" y="12278"/>
                </a:cubicBezTo>
                <a:cubicBezTo>
                  <a:pt x="7827" y="12113"/>
                  <a:pt x="7971" y="11767"/>
                  <a:pt x="7665" y="11609"/>
                </a:cubicBezTo>
                <a:cubicBezTo>
                  <a:pt x="7382" y="11463"/>
                  <a:pt x="6877" y="11605"/>
                  <a:pt x="6747" y="11906"/>
                </a:cubicBezTo>
                <a:cubicBezTo>
                  <a:pt x="6597" y="12253"/>
                  <a:pt x="6950" y="12293"/>
                  <a:pt x="7144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70280" y="3232080"/>
            <a:ext cx="1125720" cy="839880"/>
          </a:xfrm>
          <a:custGeom>
            <a:avLst/>
            <a:gdLst/>
            <a:ahLst/>
            <a:rect l="l" t="t" r="r" b="b"/>
            <a:pathLst>
              <a:path w="3126" h="2333">
                <a:moveTo>
                  <a:pt x="13246" y="9054"/>
                </a:moveTo>
                <a:cubicBezTo>
                  <a:pt x="13188" y="9035"/>
                  <a:pt x="13253" y="9015"/>
                  <a:pt x="13295" y="9004"/>
                </a:cubicBezTo>
                <a:cubicBezTo>
                  <a:pt x="13303" y="9004"/>
                  <a:pt x="13312" y="9004"/>
                  <a:pt x="13320" y="9004"/>
                </a:cubicBezTo>
                <a:cubicBezTo>
                  <a:pt x="13299" y="9172"/>
                  <a:pt x="13254" y="9242"/>
                  <a:pt x="13122" y="9351"/>
                </a:cubicBezTo>
                <a:cubicBezTo>
                  <a:pt x="13215" y="9333"/>
                  <a:pt x="13271" y="9289"/>
                  <a:pt x="13370" y="9327"/>
                </a:cubicBezTo>
                <a:cubicBezTo>
                  <a:pt x="13392" y="9349"/>
                  <a:pt x="13397" y="9357"/>
                  <a:pt x="13419" y="9351"/>
                </a:cubicBezTo>
              </a:path>
              <a:path w="3126" h="2333">
                <a:moveTo>
                  <a:pt x="13568" y="8979"/>
                </a:moveTo>
                <a:cubicBezTo>
                  <a:pt x="13478" y="9122"/>
                  <a:pt x="13461" y="9216"/>
                  <a:pt x="13568" y="9351"/>
                </a:cubicBezTo>
                <a:cubicBezTo>
                  <a:pt x="13629" y="9429"/>
                  <a:pt x="13628" y="9411"/>
                  <a:pt x="13667" y="9351"/>
                </a:cubicBezTo>
              </a:path>
              <a:path w="3126" h="2333">
                <a:moveTo>
                  <a:pt x="13667" y="9079"/>
                </a:moveTo>
                <a:cubicBezTo>
                  <a:pt x="13667" y="9153"/>
                  <a:pt x="13667" y="9228"/>
                  <a:pt x="13667" y="9302"/>
                </a:cubicBezTo>
              </a:path>
              <a:path w="3126" h="2333">
                <a:moveTo>
                  <a:pt x="13990" y="9079"/>
                </a:moveTo>
                <a:cubicBezTo>
                  <a:pt x="13954" y="9120"/>
                  <a:pt x="13806" y="9250"/>
                  <a:pt x="13940" y="9302"/>
                </a:cubicBezTo>
                <a:cubicBezTo>
                  <a:pt x="14030" y="9302"/>
                  <a:pt x="14056" y="9309"/>
                  <a:pt x="14089" y="9252"/>
                </a:cubicBezTo>
                <a:cubicBezTo>
                  <a:pt x="14070" y="9147"/>
                  <a:pt x="14052" y="9116"/>
                  <a:pt x="13940" y="9079"/>
                </a:cubicBezTo>
              </a:path>
              <a:path w="3126" h="2333">
                <a:moveTo>
                  <a:pt x="14139" y="8979"/>
                </a:moveTo>
                <a:cubicBezTo>
                  <a:pt x="14210" y="9107"/>
                  <a:pt x="14298" y="9225"/>
                  <a:pt x="14188" y="9351"/>
                </a:cubicBezTo>
                <a:cubicBezTo>
                  <a:pt x="14143" y="9403"/>
                  <a:pt x="14075" y="9431"/>
                  <a:pt x="14114" y="9451"/>
                </a:cubicBezTo>
              </a:path>
              <a:path w="3126" h="2333">
                <a:moveTo>
                  <a:pt x="14486" y="9178"/>
                </a:moveTo>
                <a:cubicBezTo>
                  <a:pt x="14546" y="9168"/>
                  <a:pt x="14597" y="9153"/>
                  <a:pt x="14660" y="9153"/>
                </a:cubicBezTo>
              </a:path>
              <a:path w="3126" h="2333">
                <a:moveTo>
                  <a:pt x="14759" y="9004"/>
                </a:moveTo>
                <a:cubicBezTo>
                  <a:pt x="14759" y="9080"/>
                  <a:pt x="14717" y="9151"/>
                  <a:pt x="14734" y="9227"/>
                </a:cubicBezTo>
                <a:cubicBezTo>
                  <a:pt x="14760" y="9344"/>
                  <a:pt x="14969" y="9226"/>
                  <a:pt x="15007" y="9203"/>
                </a:cubicBezTo>
                <a:cubicBezTo>
                  <a:pt x="15015" y="9195"/>
                  <a:pt x="15024" y="9186"/>
                  <a:pt x="15032" y="9178"/>
                </a:cubicBezTo>
                <a:cubicBezTo>
                  <a:pt x="14978" y="9157"/>
                  <a:pt x="14917" y="9184"/>
                  <a:pt x="14883" y="9252"/>
                </a:cubicBezTo>
                <a:cubicBezTo>
                  <a:pt x="14883" y="9260"/>
                  <a:pt x="14883" y="9269"/>
                  <a:pt x="14883" y="9277"/>
                </a:cubicBezTo>
              </a:path>
              <a:path w="3126" h="2333">
                <a:moveTo>
                  <a:pt x="13444" y="9575"/>
                </a:moveTo>
                <a:cubicBezTo>
                  <a:pt x="13552" y="9596"/>
                  <a:pt x="13554" y="9626"/>
                  <a:pt x="13543" y="9748"/>
                </a:cubicBezTo>
                <a:cubicBezTo>
                  <a:pt x="13534" y="9843"/>
                  <a:pt x="13432" y="10104"/>
                  <a:pt x="13345" y="9897"/>
                </a:cubicBezTo>
                <a:cubicBezTo>
                  <a:pt x="13345" y="9880"/>
                  <a:pt x="13345" y="9864"/>
                  <a:pt x="13345" y="9847"/>
                </a:cubicBezTo>
                <a:cubicBezTo>
                  <a:pt x="13456" y="9855"/>
                  <a:pt x="13528" y="9886"/>
                  <a:pt x="13618" y="9922"/>
                </a:cubicBezTo>
              </a:path>
              <a:path w="3126" h="2333">
                <a:moveTo>
                  <a:pt x="13767" y="9674"/>
                </a:moveTo>
                <a:cubicBezTo>
                  <a:pt x="13675" y="9773"/>
                  <a:pt x="13672" y="9783"/>
                  <a:pt x="13692" y="9922"/>
                </a:cubicBezTo>
                <a:cubicBezTo>
                  <a:pt x="13840" y="9933"/>
                  <a:pt x="13963" y="9869"/>
                  <a:pt x="13841" y="9699"/>
                </a:cubicBezTo>
                <a:cubicBezTo>
                  <a:pt x="13801" y="9679"/>
                  <a:pt x="13794" y="9670"/>
                  <a:pt x="13767" y="9674"/>
                </a:cubicBezTo>
              </a:path>
              <a:path w="3126" h="2333">
                <a:moveTo>
                  <a:pt x="14039" y="9723"/>
                </a:moveTo>
                <a:cubicBezTo>
                  <a:pt x="14122" y="9723"/>
                  <a:pt x="14205" y="9723"/>
                  <a:pt x="14288" y="9723"/>
                </a:cubicBezTo>
              </a:path>
              <a:path w="3126" h="2333">
                <a:moveTo>
                  <a:pt x="14511" y="9575"/>
                </a:moveTo>
                <a:cubicBezTo>
                  <a:pt x="14511" y="9525"/>
                  <a:pt x="14460" y="9794"/>
                  <a:pt x="14461" y="9823"/>
                </a:cubicBezTo>
                <a:cubicBezTo>
                  <a:pt x="14469" y="9839"/>
                  <a:pt x="14478" y="9856"/>
                  <a:pt x="14486" y="9872"/>
                </a:cubicBezTo>
                <a:cubicBezTo>
                  <a:pt x="14577" y="9902"/>
                  <a:pt x="14703" y="9913"/>
                  <a:pt x="14709" y="9773"/>
                </a:cubicBezTo>
                <a:cubicBezTo>
                  <a:pt x="14701" y="9756"/>
                  <a:pt x="14692" y="9740"/>
                  <a:pt x="14684" y="9723"/>
                </a:cubicBezTo>
                <a:cubicBezTo>
                  <a:pt x="14661" y="9732"/>
                  <a:pt x="14514" y="9894"/>
                  <a:pt x="14560" y="9897"/>
                </a:cubicBezTo>
                <a:cubicBezTo>
                  <a:pt x="14585" y="9889"/>
                  <a:pt x="14610" y="9880"/>
                  <a:pt x="14635" y="9872"/>
                </a:cubicBezTo>
              </a:path>
              <a:path w="3126" h="2333">
                <a:moveTo>
                  <a:pt x="15205" y="9376"/>
                </a:moveTo>
                <a:cubicBezTo>
                  <a:pt x="15205" y="9533"/>
                  <a:pt x="15205" y="9690"/>
                  <a:pt x="15205" y="9847"/>
                </a:cubicBezTo>
              </a:path>
              <a:path w="3126" h="2333">
                <a:moveTo>
                  <a:pt x="15429" y="9401"/>
                </a:moveTo>
                <a:cubicBezTo>
                  <a:pt x="15450" y="9444"/>
                  <a:pt x="15453" y="9472"/>
                  <a:pt x="15453" y="9525"/>
                </a:cubicBezTo>
                <a:cubicBezTo>
                  <a:pt x="15578" y="9579"/>
                  <a:pt x="15632" y="9550"/>
                  <a:pt x="15701" y="9451"/>
                </a:cubicBezTo>
              </a:path>
              <a:path w="3126" h="2333">
                <a:moveTo>
                  <a:pt x="15602" y="9203"/>
                </a:moveTo>
                <a:cubicBezTo>
                  <a:pt x="15595" y="9372"/>
                  <a:pt x="15635" y="9642"/>
                  <a:pt x="15577" y="9798"/>
                </a:cubicBezTo>
                <a:cubicBezTo>
                  <a:pt x="15569" y="9798"/>
                  <a:pt x="15561" y="9798"/>
                  <a:pt x="15553" y="9798"/>
                </a:cubicBezTo>
              </a:path>
              <a:path w="3126" h="2333">
                <a:moveTo>
                  <a:pt x="15230" y="9947"/>
                </a:moveTo>
                <a:cubicBezTo>
                  <a:pt x="15467" y="10064"/>
                  <a:pt x="15652" y="9994"/>
                  <a:pt x="15875" y="9847"/>
                </a:cubicBezTo>
                <a:cubicBezTo>
                  <a:pt x="16093" y="9703"/>
                  <a:pt x="16191" y="9429"/>
                  <a:pt x="15999" y="9203"/>
                </a:cubicBezTo>
                <a:cubicBezTo>
                  <a:pt x="15854" y="9033"/>
                  <a:pt x="15560" y="8976"/>
                  <a:pt x="15354" y="9029"/>
                </a:cubicBezTo>
                <a:cubicBezTo>
                  <a:pt x="15203" y="9068"/>
                  <a:pt x="15013" y="9255"/>
                  <a:pt x="14957" y="9401"/>
                </a:cubicBezTo>
                <a:cubicBezTo>
                  <a:pt x="14864" y="9644"/>
                  <a:pt x="14989" y="9861"/>
                  <a:pt x="15230" y="9922"/>
                </a:cubicBezTo>
                <a:cubicBezTo>
                  <a:pt x="15271" y="9922"/>
                  <a:pt x="15313" y="9922"/>
                  <a:pt x="15354" y="9922"/>
                </a:cubicBezTo>
              </a:path>
              <a:path w="3126" h="2333">
                <a:moveTo>
                  <a:pt x="14908" y="9599"/>
                </a:moveTo>
                <a:cubicBezTo>
                  <a:pt x="14952" y="9610"/>
                  <a:pt x="14941" y="9632"/>
                  <a:pt x="14957" y="9599"/>
                </a:cubicBezTo>
              </a:path>
              <a:path w="3126" h="2333">
                <a:moveTo>
                  <a:pt x="13072" y="10344"/>
                </a:moveTo>
                <a:cubicBezTo>
                  <a:pt x="13106" y="10351"/>
                  <a:pt x="13137" y="10361"/>
                  <a:pt x="13171" y="10368"/>
                </a:cubicBezTo>
                <a:cubicBezTo>
                  <a:pt x="13144" y="10507"/>
                  <a:pt x="13076" y="10548"/>
                  <a:pt x="12973" y="10641"/>
                </a:cubicBezTo>
                <a:cubicBezTo>
                  <a:pt x="13072" y="10641"/>
                  <a:pt x="13172" y="10641"/>
                  <a:pt x="13271" y="10641"/>
                </a:cubicBezTo>
              </a:path>
              <a:path w="3126" h="2333">
                <a:moveTo>
                  <a:pt x="13395" y="10269"/>
                </a:moveTo>
                <a:cubicBezTo>
                  <a:pt x="13368" y="10344"/>
                  <a:pt x="13243" y="10558"/>
                  <a:pt x="13320" y="10616"/>
                </a:cubicBezTo>
                <a:cubicBezTo>
                  <a:pt x="13414" y="10647"/>
                  <a:pt x="13454" y="10641"/>
                  <a:pt x="13494" y="10542"/>
                </a:cubicBezTo>
              </a:path>
              <a:path w="3126" h="2333">
                <a:moveTo>
                  <a:pt x="13519" y="10344"/>
                </a:moveTo>
                <a:cubicBezTo>
                  <a:pt x="13543" y="10344"/>
                  <a:pt x="13552" y="10344"/>
                  <a:pt x="13568" y="10344"/>
                </a:cubicBezTo>
                <a:cubicBezTo>
                  <a:pt x="13556" y="10391"/>
                  <a:pt x="13516" y="10464"/>
                  <a:pt x="13469" y="10492"/>
                </a:cubicBezTo>
                <a:cubicBezTo>
                  <a:pt x="13412" y="10525"/>
                  <a:pt x="13649" y="10481"/>
                  <a:pt x="13692" y="10468"/>
                </a:cubicBezTo>
              </a:path>
              <a:path w="3126" h="2333">
                <a:moveTo>
                  <a:pt x="13841" y="10344"/>
                </a:moveTo>
                <a:cubicBezTo>
                  <a:pt x="13785" y="10391"/>
                  <a:pt x="13774" y="10420"/>
                  <a:pt x="13742" y="10492"/>
                </a:cubicBezTo>
                <a:cubicBezTo>
                  <a:pt x="13854" y="10549"/>
                  <a:pt x="13977" y="10538"/>
                  <a:pt x="13965" y="10368"/>
                </a:cubicBezTo>
                <a:cubicBezTo>
                  <a:pt x="13940" y="10295"/>
                  <a:pt x="13933" y="10271"/>
                  <a:pt x="13866" y="10294"/>
                </a:cubicBezTo>
              </a:path>
              <a:path w="3126" h="2333">
                <a:moveTo>
                  <a:pt x="14213" y="10368"/>
                </a:moveTo>
                <a:cubicBezTo>
                  <a:pt x="14304" y="10338"/>
                  <a:pt x="14357" y="10319"/>
                  <a:pt x="14461" y="10319"/>
                </a:cubicBezTo>
              </a:path>
              <a:path w="3126" h="2333">
                <a:moveTo>
                  <a:pt x="14536" y="10269"/>
                </a:moveTo>
                <a:cubicBezTo>
                  <a:pt x="14536" y="10355"/>
                  <a:pt x="14519" y="10415"/>
                  <a:pt x="14536" y="10492"/>
                </a:cubicBezTo>
                <a:cubicBezTo>
                  <a:pt x="14607" y="10492"/>
                  <a:pt x="14668" y="10453"/>
                  <a:pt x="14709" y="10393"/>
                </a:cubicBezTo>
                <a:cubicBezTo>
                  <a:pt x="14709" y="10368"/>
                  <a:pt x="14709" y="10360"/>
                  <a:pt x="14709" y="10344"/>
                </a:cubicBezTo>
                <a:cubicBezTo>
                  <a:pt x="14643" y="10370"/>
                  <a:pt x="14503" y="10388"/>
                  <a:pt x="14511" y="10492"/>
                </a:cubicBezTo>
                <a:cubicBezTo>
                  <a:pt x="14519" y="10500"/>
                  <a:pt x="14528" y="10509"/>
                  <a:pt x="14536" y="10517"/>
                </a:cubicBezTo>
              </a:path>
              <a:path w="3126" h="2333">
                <a:moveTo>
                  <a:pt x="13295" y="10988"/>
                </a:moveTo>
                <a:cubicBezTo>
                  <a:pt x="13285" y="11031"/>
                  <a:pt x="13256" y="11065"/>
                  <a:pt x="13246" y="11112"/>
                </a:cubicBezTo>
                <a:cubicBezTo>
                  <a:pt x="13384" y="11122"/>
                  <a:pt x="13407" y="11101"/>
                  <a:pt x="13519" y="11013"/>
                </a:cubicBezTo>
              </a:path>
              <a:path w="3126" h="2333">
                <a:moveTo>
                  <a:pt x="13494" y="10864"/>
                </a:moveTo>
                <a:cubicBezTo>
                  <a:pt x="13462" y="10960"/>
                  <a:pt x="13380" y="11152"/>
                  <a:pt x="13419" y="11212"/>
                </a:cubicBezTo>
              </a:path>
              <a:path w="3126" h="2333">
                <a:moveTo>
                  <a:pt x="13717" y="10864"/>
                </a:moveTo>
                <a:cubicBezTo>
                  <a:pt x="13591" y="10991"/>
                  <a:pt x="13568" y="11013"/>
                  <a:pt x="13568" y="11187"/>
                </a:cubicBezTo>
                <a:cubicBezTo>
                  <a:pt x="13687" y="11169"/>
                  <a:pt x="13861" y="11126"/>
                  <a:pt x="13791" y="10964"/>
                </a:cubicBezTo>
                <a:cubicBezTo>
                  <a:pt x="13768" y="10910"/>
                  <a:pt x="13695" y="10914"/>
                  <a:pt x="13742" y="10914"/>
                </a:cubicBezTo>
              </a:path>
              <a:path w="3126" h="2333">
                <a:moveTo>
                  <a:pt x="14015" y="10964"/>
                </a:moveTo>
                <a:cubicBezTo>
                  <a:pt x="14097" y="10964"/>
                  <a:pt x="14159" y="10959"/>
                  <a:pt x="14238" y="10939"/>
                </a:cubicBezTo>
              </a:path>
              <a:path w="3126" h="2333">
                <a:moveTo>
                  <a:pt x="14436" y="10765"/>
                </a:moveTo>
                <a:cubicBezTo>
                  <a:pt x="14411" y="10870"/>
                  <a:pt x="14353" y="10968"/>
                  <a:pt x="14337" y="11088"/>
                </a:cubicBezTo>
                <a:cubicBezTo>
                  <a:pt x="14337" y="11113"/>
                  <a:pt x="14337" y="11137"/>
                  <a:pt x="14337" y="11162"/>
                </a:cubicBezTo>
                <a:cubicBezTo>
                  <a:pt x="14486" y="11237"/>
                  <a:pt x="14512" y="11171"/>
                  <a:pt x="14536" y="11013"/>
                </a:cubicBezTo>
                <a:cubicBezTo>
                  <a:pt x="14491" y="11013"/>
                  <a:pt x="14338" y="11086"/>
                  <a:pt x="14412" y="11137"/>
                </a:cubicBezTo>
                <a:cubicBezTo>
                  <a:pt x="14437" y="11137"/>
                  <a:pt x="14461" y="11137"/>
                  <a:pt x="14486" y="11137"/>
                </a:cubicBezTo>
              </a:path>
              <a:path w="3126" h="2333">
                <a:moveTo>
                  <a:pt x="15180" y="10716"/>
                </a:moveTo>
                <a:cubicBezTo>
                  <a:pt x="15240" y="10716"/>
                  <a:pt x="15295" y="10699"/>
                  <a:pt x="15354" y="10691"/>
                </a:cubicBezTo>
                <a:cubicBezTo>
                  <a:pt x="15297" y="10775"/>
                  <a:pt x="15204" y="10914"/>
                  <a:pt x="15131" y="10889"/>
                </a:cubicBezTo>
                <a:cubicBezTo>
                  <a:pt x="15235" y="10889"/>
                  <a:pt x="15346" y="10886"/>
                  <a:pt x="15304" y="11038"/>
                </a:cubicBezTo>
                <a:cubicBezTo>
                  <a:pt x="15247" y="11247"/>
                  <a:pt x="15099" y="11135"/>
                  <a:pt x="15032" y="11038"/>
                </a:cubicBezTo>
              </a:path>
              <a:path w="3126" h="2333">
                <a:moveTo>
                  <a:pt x="15478" y="10641"/>
                </a:moveTo>
                <a:cubicBezTo>
                  <a:pt x="15471" y="10708"/>
                  <a:pt x="15460" y="10773"/>
                  <a:pt x="15453" y="10840"/>
                </a:cubicBezTo>
                <a:cubicBezTo>
                  <a:pt x="15548" y="10840"/>
                  <a:pt x="15591" y="10833"/>
                  <a:pt x="15652" y="10790"/>
                </a:cubicBezTo>
              </a:path>
              <a:path w="3126" h="2333">
                <a:moveTo>
                  <a:pt x="15652" y="10517"/>
                </a:moveTo>
                <a:cubicBezTo>
                  <a:pt x="15622" y="10665"/>
                  <a:pt x="15585" y="10815"/>
                  <a:pt x="15553" y="10964"/>
                </a:cubicBezTo>
              </a:path>
              <a:path w="3126" h="2333">
                <a:moveTo>
                  <a:pt x="14957" y="11187"/>
                </a:moveTo>
                <a:cubicBezTo>
                  <a:pt x="15136" y="11335"/>
                  <a:pt x="15375" y="11313"/>
                  <a:pt x="15602" y="11212"/>
                </a:cubicBezTo>
                <a:cubicBezTo>
                  <a:pt x="15841" y="11106"/>
                  <a:pt x="16208" y="10892"/>
                  <a:pt x="15999" y="10592"/>
                </a:cubicBezTo>
                <a:cubicBezTo>
                  <a:pt x="15737" y="10218"/>
                  <a:pt x="15294" y="10305"/>
                  <a:pt x="15007" y="10592"/>
                </a:cubicBezTo>
                <a:cubicBezTo>
                  <a:pt x="14628" y="10970"/>
                  <a:pt x="14811" y="11201"/>
                  <a:pt x="15205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05840" y="3821040"/>
            <a:ext cx="295200" cy="679680"/>
          </a:xfrm>
          <a:custGeom>
            <a:avLst/>
            <a:gdLst/>
            <a:ahLst/>
            <a:rect l="l" t="t" r="r" b="b"/>
            <a:pathLst>
              <a:path w="819" h="1887">
                <a:moveTo>
                  <a:pt x="23614" y="10616"/>
                </a:moveTo>
                <a:cubicBezTo>
                  <a:pt x="23587" y="10763"/>
                  <a:pt x="23550" y="10915"/>
                  <a:pt x="23515" y="11063"/>
                </a:cubicBezTo>
              </a:path>
              <a:path w="819" h="1887">
                <a:moveTo>
                  <a:pt x="22796" y="12502"/>
                </a:moveTo>
                <a:cubicBezTo>
                  <a:pt x="22950" y="12488"/>
                  <a:pt x="22977" y="12458"/>
                  <a:pt x="23118" y="12378"/>
                </a:cubicBezTo>
              </a:path>
              <a:path w="819" h="1887">
                <a:moveTo>
                  <a:pt x="23515" y="12030"/>
                </a:moveTo>
                <a:cubicBezTo>
                  <a:pt x="23460" y="12170"/>
                  <a:pt x="23429" y="12301"/>
                  <a:pt x="23416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18240" y="3768840"/>
            <a:ext cx="81000" cy="115920"/>
          </a:xfrm>
          <a:custGeom>
            <a:avLst/>
            <a:gdLst/>
            <a:ahLst/>
            <a:rect l="l" t="t" r="r" b="b"/>
            <a:pathLst>
              <a:path w="224" h="323">
                <a:moveTo>
                  <a:pt x="21010" y="10468"/>
                </a:moveTo>
                <a:cubicBezTo>
                  <a:pt x="20943" y="10490"/>
                  <a:pt x="20925" y="10494"/>
                  <a:pt x="20886" y="10517"/>
                </a:cubicBezTo>
                <a:cubicBezTo>
                  <a:pt x="20899" y="10557"/>
                  <a:pt x="21059" y="10612"/>
                  <a:pt x="21059" y="10641"/>
                </a:cubicBezTo>
                <a:cubicBezTo>
                  <a:pt x="21059" y="10729"/>
                  <a:pt x="20987" y="10749"/>
                  <a:pt x="20935" y="10790"/>
                </a:cubicBezTo>
                <a:cubicBezTo>
                  <a:pt x="20949" y="10661"/>
                  <a:pt x="21016" y="10633"/>
                  <a:pt x="21084" y="10542"/>
                </a:cubicBezTo>
                <a:cubicBezTo>
                  <a:pt x="21113" y="10504"/>
                  <a:pt x="21054" y="10510"/>
                  <a:pt x="21109" y="10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53240" y="3759120"/>
            <a:ext cx="7920" cy="98640"/>
          </a:xfrm>
          <a:custGeom>
            <a:avLst/>
            <a:gdLst/>
            <a:ahLst/>
            <a:rect l="l" t="t" r="r" b="b"/>
            <a:pathLst>
              <a:path w="25" h="274">
                <a:moveTo>
                  <a:pt x="21258" y="10443"/>
                </a:moveTo>
                <a:cubicBezTo>
                  <a:pt x="21258" y="10541"/>
                  <a:pt x="21269" y="10622"/>
                  <a:pt x="21282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7080" y="3741840"/>
            <a:ext cx="19080" cy="98280"/>
          </a:xfrm>
          <a:custGeom>
            <a:avLst/>
            <a:gdLst/>
            <a:ahLst/>
            <a:rect l="l" t="t" r="r" b="b"/>
            <a:pathLst>
              <a:path w="50" h="274">
                <a:moveTo>
                  <a:pt x="21605" y="10393"/>
                </a:moveTo>
                <a:cubicBezTo>
                  <a:pt x="21610" y="10476"/>
                  <a:pt x="21599" y="10628"/>
                  <a:pt x="21654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831080" y="3751200"/>
            <a:ext cx="63720" cy="98640"/>
          </a:xfrm>
          <a:custGeom>
            <a:avLst/>
            <a:gdLst/>
            <a:ahLst/>
            <a:rect l="l" t="t" r="r" b="b"/>
            <a:pathLst>
              <a:path w="174" h="274">
                <a:moveTo>
                  <a:pt x="21853" y="10418"/>
                </a:moveTo>
                <a:cubicBezTo>
                  <a:pt x="21790" y="10520"/>
                  <a:pt x="21766" y="10549"/>
                  <a:pt x="21754" y="10666"/>
                </a:cubicBezTo>
                <a:cubicBezTo>
                  <a:pt x="21867" y="10675"/>
                  <a:pt x="21987" y="10666"/>
                  <a:pt x="21903" y="10517"/>
                </a:cubicBezTo>
                <a:cubicBezTo>
                  <a:pt x="21875" y="10489"/>
                  <a:pt x="21866" y="10476"/>
                  <a:pt x="21878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66080" y="3795840"/>
            <a:ext cx="79200" cy="1440"/>
          </a:xfrm>
          <a:custGeom>
            <a:avLst/>
            <a:gdLst/>
            <a:ahLst/>
            <a:rect l="l" t="t" r="r" b="b"/>
            <a:pathLst>
              <a:path w="224" h="1">
                <a:moveTo>
                  <a:pt x="22126" y="10542"/>
                </a:moveTo>
                <a:cubicBezTo>
                  <a:pt x="22200" y="10542"/>
                  <a:pt x="22275" y="10542"/>
                  <a:pt x="22349" y="10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89920" y="3751200"/>
            <a:ext cx="81000" cy="54000"/>
          </a:xfrm>
          <a:custGeom>
            <a:avLst/>
            <a:gdLst/>
            <a:ahLst/>
            <a:rect l="l" t="t" r="r" b="b"/>
            <a:pathLst>
              <a:path w="224" h="150">
                <a:moveTo>
                  <a:pt x="22473" y="10418"/>
                </a:moveTo>
                <a:cubicBezTo>
                  <a:pt x="22473" y="10468"/>
                  <a:pt x="22473" y="10517"/>
                  <a:pt x="22473" y="10567"/>
                </a:cubicBezTo>
                <a:cubicBezTo>
                  <a:pt x="22600" y="10567"/>
                  <a:pt x="22594" y="10563"/>
                  <a:pt x="22696" y="10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42160" y="3946680"/>
            <a:ext cx="71640" cy="107640"/>
          </a:xfrm>
          <a:custGeom>
            <a:avLst/>
            <a:gdLst/>
            <a:ahLst/>
            <a:rect l="l" t="t" r="r" b="b"/>
            <a:pathLst>
              <a:path w="199" h="298">
                <a:moveTo>
                  <a:pt x="21530" y="10988"/>
                </a:moveTo>
                <a:cubicBezTo>
                  <a:pt x="21469" y="11030"/>
                  <a:pt x="21522" y="11099"/>
                  <a:pt x="21555" y="11162"/>
                </a:cubicBezTo>
                <a:cubicBezTo>
                  <a:pt x="21580" y="11212"/>
                  <a:pt x="21588" y="11228"/>
                  <a:pt x="21555" y="11261"/>
                </a:cubicBezTo>
                <a:cubicBezTo>
                  <a:pt x="21524" y="11240"/>
                  <a:pt x="21491" y="11164"/>
                  <a:pt x="21530" y="11112"/>
                </a:cubicBezTo>
                <a:cubicBezTo>
                  <a:pt x="21576" y="11049"/>
                  <a:pt x="21645" y="11012"/>
                  <a:pt x="21704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67800" y="3983040"/>
            <a:ext cx="61920" cy="1440"/>
          </a:xfrm>
          <a:custGeom>
            <a:avLst/>
            <a:gdLst/>
            <a:ahLst/>
            <a:rect l="l" t="t" r="r" b="b"/>
            <a:pathLst>
              <a:path w="175" h="1">
                <a:moveTo>
                  <a:pt x="21853" y="11063"/>
                </a:moveTo>
                <a:cubicBezTo>
                  <a:pt x="21911" y="11063"/>
                  <a:pt x="21969" y="11063"/>
                  <a:pt x="22027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01000" y="3938760"/>
            <a:ext cx="71280" cy="53640"/>
          </a:xfrm>
          <a:custGeom>
            <a:avLst/>
            <a:gdLst/>
            <a:ahLst/>
            <a:rect l="l" t="t" r="r" b="b"/>
            <a:pathLst>
              <a:path w="199" h="150">
                <a:moveTo>
                  <a:pt x="22275" y="10939"/>
                </a:moveTo>
                <a:cubicBezTo>
                  <a:pt x="22258" y="10991"/>
                  <a:pt x="22237" y="11033"/>
                  <a:pt x="22225" y="11088"/>
                </a:cubicBezTo>
                <a:cubicBezTo>
                  <a:pt x="22302" y="11088"/>
                  <a:pt x="22350" y="11080"/>
                  <a:pt x="22423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062920" y="3919680"/>
            <a:ext cx="27000" cy="107640"/>
          </a:xfrm>
          <a:custGeom>
            <a:avLst/>
            <a:gdLst/>
            <a:ahLst/>
            <a:rect l="l" t="t" r="r" b="b"/>
            <a:pathLst>
              <a:path w="75" h="299">
                <a:moveTo>
                  <a:pt x="22473" y="10889"/>
                </a:moveTo>
                <a:cubicBezTo>
                  <a:pt x="22455" y="10960"/>
                  <a:pt x="22354" y="11186"/>
                  <a:pt x="22423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13840" y="3884760"/>
            <a:ext cx="9360" cy="125280"/>
          </a:xfrm>
          <a:custGeom>
            <a:avLst/>
            <a:gdLst/>
            <a:ahLst/>
            <a:rect l="l" t="t" r="r" b="b"/>
            <a:pathLst>
              <a:path w="26" h="348">
                <a:moveTo>
                  <a:pt x="23118" y="10790"/>
                </a:moveTo>
                <a:cubicBezTo>
                  <a:pt x="23117" y="10826"/>
                  <a:pt x="23093" y="11224"/>
                  <a:pt x="23093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402760" y="3857760"/>
            <a:ext cx="98280" cy="71280"/>
          </a:xfrm>
          <a:custGeom>
            <a:avLst/>
            <a:gdLst/>
            <a:ahLst/>
            <a:rect l="l" t="t" r="r" b="b"/>
            <a:pathLst>
              <a:path w="274" h="199">
                <a:moveTo>
                  <a:pt x="23391" y="10716"/>
                </a:moveTo>
                <a:cubicBezTo>
                  <a:pt x="23378" y="10773"/>
                  <a:pt x="23357" y="10867"/>
                  <a:pt x="23341" y="10889"/>
                </a:cubicBezTo>
                <a:cubicBezTo>
                  <a:pt x="23483" y="10928"/>
                  <a:pt x="23487" y="10907"/>
                  <a:pt x="23614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51920" y="3714840"/>
            <a:ext cx="392040" cy="366480"/>
          </a:xfrm>
          <a:custGeom>
            <a:avLst/>
            <a:gdLst/>
            <a:ahLst/>
            <a:rect l="l" t="t" r="r" b="b"/>
            <a:pathLst>
              <a:path w="1092" h="1018">
                <a:moveTo>
                  <a:pt x="22920" y="11237"/>
                </a:moveTo>
                <a:cubicBezTo>
                  <a:pt x="23170" y="11361"/>
                  <a:pt x="23373" y="11345"/>
                  <a:pt x="23639" y="11237"/>
                </a:cubicBezTo>
                <a:cubicBezTo>
                  <a:pt x="23880" y="11139"/>
                  <a:pt x="24042" y="10906"/>
                  <a:pt x="24011" y="10641"/>
                </a:cubicBezTo>
                <a:cubicBezTo>
                  <a:pt x="23977" y="10350"/>
                  <a:pt x="23693" y="10275"/>
                  <a:pt x="23440" y="10344"/>
                </a:cubicBezTo>
                <a:cubicBezTo>
                  <a:pt x="22990" y="10467"/>
                  <a:pt x="22878" y="10918"/>
                  <a:pt x="23192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72240" y="4214880"/>
            <a:ext cx="71640" cy="152280"/>
          </a:xfrm>
          <a:custGeom>
            <a:avLst/>
            <a:gdLst/>
            <a:ahLst/>
            <a:rect l="l" t="t" r="r" b="b"/>
            <a:pathLst>
              <a:path w="200" h="422">
                <a:moveTo>
                  <a:pt x="21134" y="11807"/>
                </a:moveTo>
                <a:cubicBezTo>
                  <a:pt x="21156" y="11784"/>
                  <a:pt x="21164" y="11779"/>
                  <a:pt x="21158" y="11757"/>
                </a:cubicBezTo>
                <a:cubicBezTo>
                  <a:pt x="21097" y="11769"/>
                  <a:pt x="21048" y="11787"/>
                  <a:pt x="21059" y="11807"/>
                </a:cubicBezTo>
                <a:cubicBezTo>
                  <a:pt x="21118" y="11919"/>
                  <a:pt x="21201" y="11978"/>
                  <a:pt x="21109" y="12080"/>
                </a:cubicBezTo>
                <a:cubicBezTo>
                  <a:pt x="21067" y="12121"/>
                  <a:pt x="21059" y="12145"/>
                  <a:pt x="21034" y="12105"/>
                </a:cubicBezTo>
                <a:cubicBezTo>
                  <a:pt x="21060" y="11939"/>
                  <a:pt x="21136" y="11903"/>
                  <a:pt x="21233" y="11782"/>
                </a:cubicBezTo>
                <a:cubicBezTo>
                  <a:pt x="21250" y="11760"/>
                  <a:pt x="21180" y="11622"/>
                  <a:pt x="21208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48720" y="4205160"/>
            <a:ext cx="81000" cy="125640"/>
          </a:xfrm>
          <a:custGeom>
            <a:avLst/>
            <a:gdLst/>
            <a:ahLst/>
            <a:rect l="l" t="t" r="r" b="b"/>
            <a:pathLst>
              <a:path w="225" h="348">
                <a:moveTo>
                  <a:pt x="22027" y="11708"/>
                </a:moveTo>
                <a:cubicBezTo>
                  <a:pt x="21935" y="11694"/>
                  <a:pt x="21913" y="11684"/>
                  <a:pt x="21828" y="11733"/>
                </a:cubicBezTo>
                <a:cubicBezTo>
                  <a:pt x="21842" y="11776"/>
                  <a:pt x="21964" y="11969"/>
                  <a:pt x="21903" y="12005"/>
                </a:cubicBezTo>
                <a:cubicBezTo>
                  <a:pt x="21870" y="12013"/>
                  <a:pt x="21836" y="12022"/>
                  <a:pt x="21803" y="12030"/>
                </a:cubicBezTo>
                <a:cubicBezTo>
                  <a:pt x="21822" y="11936"/>
                  <a:pt x="21857" y="11834"/>
                  <a:pt x="21952" y="11782"/>
                </a:cubicBezTo>
                <a:cubicBezTo>
                  <a:pt x="21960" y="11782"/>
                  <a:pt x="21969" y="11782"/>
                  <a:pt x="21977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66080" y="4268880"/>
            <a:ext cx="79200" cy="1440"/>
          </a:xfrm>
          <a:custGeom>
            <a:avLst/>
            <a:gdLst/>
            <a:ahLst/>
            <a:rect l="l" t="t" r="r" b="b"/>
            <a:pathLst>
              <a:path w="224" h="1">
                <a:moveTo>
                  <a:pt x="22126" y="11857"/>
                </a:moveTo>
                <a:cubicBezTo>
                  <a:pt x="22200" y="11857"/>
                  <a:pt x="22275" y="11857"/>
                  <a:pt x="22349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58080" y="4187880"/>
            <a:ext cx="12528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21927" y="11807"/>
                </a:moveTo>
                <a:cubicBezTo>
                  <a:pt x="21870" y="11719"/>
                  <a:pt x="21878" y="11857"/>
                  <a:pt x="21878" y="11931"/>
                </a:cubicBezTo>
                <a:cubicBezTo>
                  <a:pt x="21952" y="11956"/>
                  <a:pt x="21993" y="12002"/>
                  <a:pt x="22076" y="11956"/>
                </a:cubicBezTo>
                <a:cubicBezTo>
                  <a:pt x="22127" y="11928"/>
                  <a:pt x="22148" y="11832"/>
                  <a:pt x="22151" y="11782"/>
                </a:cubicBezTo>
                <a:cubicBezTo>
                  <a:pt x="22157" y="11694"/>
                  <a:pt x="22141" y="11707"/>
                  <a:pt x="22076" y="11658"/>
                </a:cubicBezTo>
                <a:cubicBezTo>
                  <a:pt x="22004" y="11604"/>
                  <a:pt x="21933" y="11640"/>
                  <a:pt x="21878" y="11708"/>
                </a:cubicBezTo>
                <a:cubicBezTo>
                  <a:pt x="21809" y="11793"/>
                  <a:pt x="21812" y="11891"/>
                  <a:pt x="21878" y="11981"/>
                </a:cubicBezTo>
                <a:cubicBezTo>
                  <a:pt x="21966" y="12100"/>
                  <a:pt x="22074" y="12053"/>
                  <a:pt x="22151" y="11956"/>
                </a:cubicBezTo>
                <a:cubicBezTo>
                  <a:pt x="22196" y="11899"/>
                  <a:pt x="22162" y="11866"/>
                  <a:pt x="22151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43920" y="4224240"/>
            <a:ext cx="98280" cy="54000"/>
          </a:xfrm>
          <a:custGeom>
            <a:avLst/>
            <a:gdLst/>
            <a:ahLst/>
            <a:rect l="l" t="t" r="r" b="b"/>
            <a:pathLst>
              <a:path w="274" h="149">
                <a:moveTo>
                  <a:pt x="22671" y="11733"/>
                </a:moveTo>
                <a:cubicBezTo>
                  <a:pt x="22662" y="11778"/>
                  <a:pt x="22643" y="11814"/>
                  <a:pt x="22622" y="11857"/>
                </a:cubicBezTo>
                <a:cubicBezTo>
                  <a:pt x="22743" y="11886"/>
                  <a:pt x="22777" y="11841"/>
                  <a:pt x="22895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61200" y="4170240"/>
            <a:ext cx="54000" cy="169920"/>
          </a:xfrm>
          <a:custGeom>
            <a:avLst/>
            <a:gdLst/>
            <a:ahLst/>
            <a:rect l="l" t="t" r="r" b="b"/>
            <a:pathLst>
              <a:path w="150" h="472">
                <a:moveTo>
                  <a:pt x="22820" y="11584"/>
                </a:moveTo>
                <a:cubicBezTo>
                  <a:pt x="22764" y="11740"/>
                  <a:pt x="22727" y="11902"/>
                  <a:pt x="22671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88160" y="4348080"/>
            <a:ext cx="206640" cy="73080"/>
          </a:xfrm>
          <a:custGeom>
            <a:avLst/>
            <a:gdLst/>
            <a:ahLst/>
            <a:rect l="l" t="t" r="r" b="b"/>
            <a:pathLst>
              <a:path w="571" h="199">
                <a:moveTo>
                  <a:pt x="21357" y="12179"/>
                </a:moveTo>
                <a:cubicBezTo>
                  <a:pt x="21357" y="12229"/>
                  <a:pt x="21357" y="12245"/>
                  <a:pt x="21357" y="12278"/>
                </a:cubicBezTo>
                <a:cubicBezTo>
                  <a:pt x="21523" y="12260"/>
                  <a:pt x="21685" y="12235"/>
                  <a:pt x="21853" y="12229"/>
                </a:cubicBezTo>
                <a:cubicBezTo>
                  <a:pt x="21926" y="12226"/>
                  <a:pt x="21907" y="12290"/>
                  <a:pt x="21927" y="12129"/>
                </a:cubicBezTo>
                <a:cubicBezTo>
                  <a:pt x="21927" y="12113"/>
                  <a:pt x="21927" y="12096"/>
                  <a:pt x="21927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796160" y="4473720"/>
            <a:ext cx="81000" cy="117360"/>
          </a:xfrm>
          <a:custGeom>
            <a:avLst/>
            <a:gdLst/>
            <a:ahLst/>
            <a:rect l="l" t="t" r="r" b="b"/>
            <a:pathLst>
              <a:path w="225" h="324">
                <a:moveTo>
                  <a:pt x="21878" y="12477"/>
                </a:moveTo>
                <a:cubicBezTo>
                  <a:pt x="21781" y="12435"/>
                  <a:pt x="21772" y="12459"/>
                  <a:pt x="21679" y="12502"/>
                </a:cubicBezTo>
                <a:cubicBezTo>
                  <a:pt x="21770" y="12592"/>
                  <a:pt x="21831" y="12626"/>
                  <a:pt x="21803" y="12750"/>
                </a:cubicBezTo>
                <a:cubicBezTo>
                  <a:pt x="21656" y="12725"/>
                  <a:pt x="21594" y="12676"/>
                  <a:pt x="21729" y="12551"/>
                </a:cubicBezTo>
                <a:cubicBezTo>
                  <a:pt x="21779" y="12505"/>
                  <a:pt x="21831" y="12474"/>
                  <a:pt x="21878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56720" y="4483080"/>
            <a:ext cx="80640" cy="97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22101" y="12477"/>
                </a:moveTo>
                <a:cubicBezTo>
                  <a:pt x="22182" y="12477"/>
                  <a:pt x="22248" y="12475"/>
                  <a:pt x="22324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45280" y="4446720"/>
            <a:ext cx="71640" cy="7128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22399" y="12353"/>
                </a:moveTo>
                <a:cubicBezTo>
                  <a:pt x="22389" y="12413"/>
                  <a:pt x="22361" y="12468"/>
                  <a:pt x="22349" y="12526"/>
                </a:cubicBezTo>
                <a:cubicBezTo>
                  <a:pt x="22440" y="12557"/>
                  <a:pt x="22482" y="12558"/>
                  <a:pt x="22547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109000" y="4419720"/>
            <a:ext cx="34920" cy="134640"/>
          </a:xfrm>
          <a:custGeom>
            <a:avLst/>
            <a:gdLst/>
            <a:ahLst/>
            <a:rect l="l" t="t" r="r" b="b"/>
            <a:pathLst>
              <a:path w="100" h="373">
                <a:moveTo>
                  <a:pt x="22622" y="12278"/>
                </a:moveTo>
                <a:cubicBezTo>
                  <a:pt x="22595" y="12398"/>
                  <a:pt x="22556" y="12533"/>
                  <a:pt x="22523" y="12650"/>
                </a:cubicBezTo>
                <a:cubicBezTo>
                  <a:pt x="22523" y="12642"/>
                  <a:pt x="22523" y="12634"/>
                  <a:pt x="22523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05840" y="4456080"/>
            <a:ext cx="36360" cy="9720"/>
          </a:xfrm>
          <a:custGeom>
            <a:avLst/>
            <a:gdLst/>
            <a:ahLst/>
            <a:rect l="l" t="t" r="r" b="b"/>
            <a:pathLst>
              <a:path w="100" h="25">
                <a:moveTo>
                  <a:pt x="22796" y="12378"/>
                </a:moveTo>
                <a:cubicBezTo>
                  <a:pt x="22854" y="12378"/>
                  <a:pt x="22853" y="12371"/>
                  <a:pt x="22895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85120" y="4375080"/>
            <a:ext cx="98640" cy="54000"/>
          </a:xfrm>
          <a:custGeom>
            <a:avLst/>
            <a:gdLst/>
            <a:ahLst/>
            <a:rect l="l" t="t" r="r" b="b"/>
            <a:pathLst>
              <a:path w="273" h="150">
                <a:moveTo>
                  <a:pt x="23341" y="12154"/>
                </a:moveTo>
                <a:cubicBezTo>
                  <a:pt x="23331" y="12206"/>
                  <a:pt x="23302" y="12251"/>
                  <a:pt x="23292" y="12303"/>
                </a:cubicBezTo>
                <a:cubicBezTo>
                  <a:pt x="23422" y="12303"/>
                  <a:pt x="23448" y="12294"/>
                  <a:pt x="23564" y="12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23200" y="4214880"/>
            <a:ext cx="330120" cy="339480"/>
          </a:xfrm>
          <a:custGeom>
            <a:avLst/>
            <a:gdLst/>
            <a:ahLst/>
            <a:rect l="l" t="t" r="r" b="b"/>
            <a:pathLst>
              <a:path w="919" h="943">
                <a:moveTo>
                  <a:pt x="23143" y="12526"/>
                </a:moveTo>
                <a:cubicBezTo>
                  <a:pt x="23321" y="12682"/>
                  <a:pt x="23528" y="12703"/>
                  <a:pt x="23763" y="12576"/>
                </a:cubicBezTo>
                <a:cubicBezTo>
                  <a:pt x="23996" y="12450"/>
                  <a:pt x="24161" y="12148"/>
                  <a:pt x="23961" y="11906"/>
                </a:cubicBezTo>
                <a:cubicBezTo>
                  <a:pt x="23742" y="11642"/>
                  <a:pt x="23423" y="11668"/>
                  <a:pt x="23242" y="11956"/>
                </a:cubicBezTo>
                <a:cubicBezTo>
                  <a:pt x="23070" y="12230"/>
                  <a:pt x="23116" y="12376"/>
                  <a:pt x="23242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understand and write a rule for a function table.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Application: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eecd"/>
                </a:solidFill>
                <a:latin typeface="Arial"/>
              </a:rPr>
              <a:t>Look at the function tabl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A: What error was made?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B: Use what you know about function tables to explain why your answer to Part A is correct.  You may use words and/or numbers in your expla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400800" y="838080"/>
          <a:ext cx="2133360" cy="2787840"/>
        </p:xfrm>
        <a:graphic>
          <a:graphicData uri="http://schemas.openxmlformats.org/drawingml/2006/table">
            <a:tbl>
              <a:tblPr/>
              <a:tblGrid>
                <a:gridCol w="961920"/>
                <a:gridCol w="117144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le: 7x +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mcgrath</cp:lastModifiedBy>
  <dcterms:modified xsi:type="dcterms:W3CDTF">2011-09-14T16:41:37Z</dcterms:modified>
  <cp:revision>52</cp:revision>
  <dc:subject/>
  <dc:title>Unit 1 – Variables and Equations </dc:title>
</cp:coreProperties>
</file>